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3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912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056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5200" y="509760"/>
            <a:ext cx="33987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299120" cy="3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00C5A1-FAD3-4FCF-90A8-EFC60CE3363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3263760" y="511200"/>
            <a:ext cx="3399120" cy="25480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egnaposto numero diapositiva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3E83E4-8978-4652-8C00-1D0285C46FD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6B84E56-7BAB-429C-97C7-9D5D53BE639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1FE7216-B49A-46C9-919A-2FE2FAC700C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8273CDE-9504-48DE-90A9-CD66C00380A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5341961-3E8E-457B-AE62-BBD2481A2633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B5B4DF0-EB35-4242-B47A-F58EEE631F4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885DC7B-42AC-4CFD-B9F4-CCBC226A438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7C98BE-F362-4894-B8D1-19F3546AD30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08192FF-D36B-4C9E-902A-FDEF01B9C3B3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3264E1A-81AB-44D2-AEA8-DDA9D14629F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A9B438F-D17C-42DA-AB27-234E5F7AA81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63CAC17-0100-4A53-AB55-6B3B1800753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2318F95-5884-4E53-8021-A80C8883271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9B50E6D-7B1A-4467-A625-E89FDA770D5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C81766E-A7DC-4ACB-B7AE-72DEB5CE33A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0BD0E26-4924-4FD1-9B70-903D3EA28EB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52C395D-E1FA-437E-9C5C-C1FC71DC1CF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C52967D-EC32-4998-8590-42827572577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16D4037-A8F8-467D-9E0C-4CBC6090F5B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AD1222B-D851-44F4-A7DF-47C9F408FE4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92A278F-00E5-49DD-ACA3-0221A6C33F0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C3D9DC5-30C8-460D-A071-7D1908AE3AD3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egnaposto numero diapositiva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42CB1B5-4CB5-4B11-B91F-90B351E28E1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AA07-744A-418F-9965-3E05F56E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54F-D881-4657-832A-A949E9CE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316-9B8A-482C-819B-AFCC9C3B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282-C165-4913-B029-0346931A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E9B-8BE6-4664-87EB-74656CDE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302-C7F2-4B6D-B66B-1F14EAB9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32C-FA11-4D3E-9A8E-4BF966A5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C27-036D-4776-9E73-B29B13E2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ED3-601F-444C-A915-2F60DE5B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D9E-4839-4215-9E40-4903239F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9AF-20B7-481F-AD7C-5DDFA9D5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745-98B9-415F-8451-1FFEEAE1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92C9-E825-49C7-9EA3-B87D088F505B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CasellaDiTesto 4"/>
          <p:cNvSpPr/>
          <p:nvPr/>
        </p:nvSpPr>
        <p:spPr>
          <a:xfrm>
            <a:off x="6572160" y="1143000"/>
            <a:ext cx="18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baseline="30000">
                <a:solidFill>
                  <a:srgbClr val="002060"/>
                </a:solidFill>
                <a:latin typeface="Arial"/>
                <a:ea typeface="Arial"/>
              </a:rPr>
              <a:t>Ordine dei Farmaci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baseline="30000">
                <a:solidFill>
                  <a:srgbClr val="002060"/>
                </a:solidFill>
                <a:latin typeface="Arial"/>
                <a:ea typeface="Arial"/>
              </a:rPr>
              <a:t>della Provincia di Tor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sellaDiTesto 8"/>
          <p:cNvSpPr/>
          <p:nvPr/>
        </p:nvSpPr>
        <p:spPr>
          <a:xfrm>
            <a:off x="1187280" y="1214280"/>
            <a:ext cx="274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Arial"/>
              </a:rPr>
              <a:t>Università degli Studi di To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D:\SGI\master\ordine_farm.tif"/>
          <p:cNvPicPr/>
          <p:nvPr/>
        </p:nvPicPr>
        <p:blipFill>
          <a:blip r:embed="rId2"/>
          <a:stretch/>
        </p:blipFill>
        <p:spPr>
          <a:xfrm>
            <a:off x="7207200" y="285840"/>
            <a:ext cx="7495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3071880" y="1447920"/>
            <a:ext cx="3500280" cy="3409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"/>
          <p:cNvPicPr/>
          <p:nvPr/>
        </p:nvPicPr>
        <p:blipFill>
          <a:blip r:embed="rId4"/>
          <a:stretch/>
        </p:blipFill>
        <p:spPr>
          <a:xfrm>
            <a:off x="1619280" y="5013360"/>
            <a:ext cx="406440" cy="39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"/>
          <p:cNvPicPr/>
          <p:nvPr/>
        </p:nvPicPr>
        <p:blipFill>
          <a:blip r:embed="rId5"/>
          <a:stretch/>
        </p:blipFill>
        <p:spPr>
          <a:xfrm>
            <a:off x="1908000" y="260280"/>
            <a:ext cx="892440" cy="95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8"/>
          <p:cNvSpPr/>
          <p:nvPr/>
        </p:nvSpPr>
        <p:spPr>
          <a:xfrm>
            <a:off x="1547640" y="4797360"/>
            <a:ext cx="16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Con il patrocinio d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2"/>
          <p:cNvSpPr/>
          <p:nvPr/>
        </p:nvSpPr>
        <p:spPr>
          <a:xfrm>
            <a:off x="1979640" y="515952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lbertus"/>
                <a:ea typeface="Arial"/>
              </a:rPr>
              <a:t>FO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4"/>
          <p:cNvSpPr/>
          <p:nvPr/>
        </p:nvSpPr>
        <p:spPr>
          <a:xfrm>
            <a:off x="2741760" y="5157720"/>
            <a:ext cx="8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Arial"/>
                <a:ea typeface="Arial"/>
              </a:rPr>
              <a:t>FEDERFAR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6"/>
          <a:stretch/>
        </p:blipFill>
        <p:spPr>
          <a:xfrm>
            <a:off x="4356000" y="5921280"/>
            <a:ext cx="1032120" cy="41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assogenerici-scritta-sotto-logo"/>
          <p:cNvPicPr/>
          <p:nvPr/>
        </p:nvPicPr>
        <p:blipFill>
          <a:blip r:embed="rId7"/>
          <a:stretch/>
        </p:blipFill>
        <p:spPr>
          <a:xfrm>
            <a:off x="3059280" y="5932440"/>
            <a:ext cx="960120" cy="417600"/>
          </a:xfrm>
          <a:prstGeom prst="rect">
            <a:avLst/>
          </a:prstGeom>
          <a:ln w="0">
            <a:noFill/>
          </a:ln>
        </p:spPr>
      </p:pic>
      <p:pic>
        <p:nvPicPr>
          <p:cNvPr id="63" name="Immagine 1" descr=""/>
          <p:cNvPicPr/>
          <p:nvPr/>
        </p:nvPicPr>
        <p:blipFill>
          <a:blip r:embed="rId8"/>
          <a:stretch/>
        </p:blipFill>
        <p:spPr>
          <a:xfrm>
            <a:off x="5651640" y="5921280"/>
            <a:ext cx="931680" cy="409680"/>
          </a:xfrm>
          <a:prstGeom prst="rect">
            <a:avLst/>
          </a:prstGeom>
          <a:ln w="0">
            <a:noFill/>
          </a:ln>
        </p:spPr>
      </p:pic>
      <p:pic>
        <p:nvPicPr>
          <p:cNvPr id="64" name="Immagine 2" descr=""/>
          <p:cNvPicPr/>
          <p:nvPr/>
        </p:nvPicPr>
        <p:blipFill>
          <a:blip r:embed="rId9"/>
          <a:stretch/>
        </p:blipFill>
        <p:spPr>
          <a:xfrm>
            <a:off x="1908000" y="5942160"/>
            <a:ext cx="831960" cy="414360"/>
          </a:xfrm>
          <a:prstGeom prst="rect">
            <a:avLst/>
          </a:prstGeom>
          <a:ln w="0">
            <a:noFill/>
          </a:ln>
        </p:spPr>
      </p:pic>
      <p:pic>
        <p:nvPicPr>
          <p:cNvPr id="65" name="Immagine 3" descr=""/>
          <p:cNvPicPr/>
          <p:nvPr/>
        </p:nvPicPr>
        <p:blipFill>
          <a:blip r:embed="rId10"/>
          <a:stretch/>
        </p:blipFill>
        <p:spPr>
          <a:xfrm>
            <a:off x="6804000" y="5921280"/>
            <a:ext cx="1141560" cy="438120"/>
          </a:xfrm>
          <a:prstGeom prst="rect">
            <a:avLst/>
          </a:prstGeom>
          <a:ln w="0">
            <a:noFill/>
          </a:ln>
        </p:spPr>
      </p:pic>
      <p:pic>
        <p:nvPicPr>
          <p:cNvPr id="66" name="Immagine 1" descr="Federfarma2016"/>
          <p:cNvPicPr/>
          <p:nvPr/>
        </p:nvPicPr>
        <p:blipFill>
          <a:blip r:embed="rId11"/>
          <a:stretch/>
        </p:blipFill>
        <p:spPr>
          <a:xfrm>
            <a:off x="8185320" y="5662440"/>
            <a:ext cx="488880" cy="66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"/>
          <p:cNvPicPr/>
          <p:nvPr/>
        </p:nvPicPr>
        <p:blipFill>
          <a:blip r:embed="rId12"/>
          <a:stretch/>
        </p:blipFill>
        <p:spPr>
          <a:xfrm>
            <a:off x="2500200" y="5087880"/>
            <a:ext cx="2955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30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A194-F27C-4996-A07F-15A85A5A843F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guida-alle-tasse-aliquote-iva-in-italia-e-negli-altri-paesi[1]"/>
          <p:cNvPicPr/>
          <p:nvPr/>
        </p:nvPicPr>
        <p:blipFill>
          <a:blip r:embed="rId3"/>
          <a:stretch/>
        </p:blipFill>
        <p:spPr>
          <a:xfrm>
            <a:off x="6804000" y="1916280"/>
            <a:ext cx="1905120" cy="1971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468360" y="333360"/>
            <a:ext cx="6335640" cy="54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L’affidamento della contabilità a terzi per l’IV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empi e modalità di trasmissione dei dati e dei documenti – la prassi per le Farma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conservazione dei docume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Le dichiarazioni ai fini IV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dichiarazione annuale iva e dal 2017 le nuove comunicazioni periodiche (4) e la trasmissione di tutti i dati delle fatture emesse e ricev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fatturazione elettro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35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5C08-C9E9-43E8-8F32-FCD6B4109C93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LE TASSE – 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11280" y="1052640"/>
            <a:ext cx="511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determinazione della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mponibile = il reddito di eserc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cont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à Luca Pacioli  (Sansepolcro 1445-15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 concetti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NER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OMPETENZ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tempor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2627280" y="3645000"/>
            <a:ext cx="649440" cy="215640"/>
          </a:xfrm>
          <a:prstGeom prst="rightArrow">
            <a:avLst>
              <a:gd name="adj1" fmla="val 50000"/>
              <a:gd name="adj2" fmla="val 7529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2627280" y="3284640"/>
            <a:ext cx="649440" cy="215640"/>
          </a:xfrm>
          <a:prstGeom prst="rightArrow">
            <a:avLst>
              <a:gd name="adj1" fmla="val 50000"/>
              <a:gd name="adj2" fmla="val 7529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imagesOMYSWHAG"/>
          <p:cNvPicPr/>
          <p:nvPr/>
        </p:nvPicPr>
        <p:blipFill>
          <a:blip r:embed="rId3"/>
          <a:stretch/>
        </p:blipFill>
        <p:spPr>
          <a:xfrm>
            <a:off x="5940360" y="2133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images96B6599B"/>
          <p:cNvPicPr/>
          <p:nvPr/>
        </p:nvPicPr>
        <p:blipFill>
          <a:blip r:embed="rId4"/>
          <a:stretch/>
        </p:blipFill>
        <p:spPr>
          <a:xfrm>
            <a:off x="1619280" y="4724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CasellaDiTesto 16"/>
          <p:cNvSpPr/>
          <p:nvPr/>
        </p:nvSpPr>
        <p:spPr>
          <a:xfrm>
            <a:off x="2581920" y="300024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Master in Farmacia Territo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4" descr=""/>
          <p:cNvPicPr/>
          <p:nvPr/>
        </p:nvPicPr>
        <p:blipFill>
          <a:blip r:embed="rId2"/>
          <a:stretch/>
        </p:blipFill>
        <p:spPr>
          <a:xfrm>
            <a:off x="7715160" y="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45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ED10-1B96-41F2-9DF9-06F48D842C83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042920" y="189000"/>
            <a:ext cx="810108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La procedura amministrativa che porta al bilancio d’eserciz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42920" y="1844640"/>
            <a:ext cx="21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per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311640" y="3749760"/>
            <a:ext cx="45576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Fatture di vend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Fatture di acqui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icevute fisc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contrini fisc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sseg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ltri docu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116000" y="4581360"/>
            <a:ext cx="215568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ocu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ta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289320" y="1141560"/>
            <a:ext cx="56386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Ven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cqi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ca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aga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ltre operazioni che originano movimenti di cassa, di credito o di deb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835280" y="2133720"/>
            <a:ext cx="0" cy="25192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 flipV="1">
            <a:off x="2411280" y="1267920"/>
            <a:ext cx="1008360" cy="79236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 flipV="1">
            <a:off x="2484360" y="1699920"/>
            <a:ext cx="935280" cy="36036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2411280" y="2060640"/>
            <a:ext cx="93672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2411280" y="2060640"/>
            <a:ext cx="936720" cy="36036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2411280" y="2060640"/>
            <a:ext cx="1008360" cy="936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 flipV="1">
            <a:off x="2484360" y="3860640"/>
            <a:ext cx="935280" cy="1152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 flipV="1">
            <a:off x="2484360" y="4292640"/>
            <a:ext cx="935280" cy="720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 flipV="1">
            <a:off x="2556000" y="4723920"/>
            <a:ext cx="863640" cy="2890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2556000" y="5013360"/>
            <a:ext cx="863640" cy="712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1"/>
          <p:cNvSpPr/>
          <p:nvPr/>
        </p:nvSpPr>
        <p:spPr>
          <a:xfrm>
            <a:off x="2556000" y="5013360"/>
            <a:ext cx="863640" cy="43164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2556000" y="5013360"/>
            <a:ext cx="863640" cy="86364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65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77AF-901D-4B73-A1D9-B4D3CAC90B03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84360" y="1052640"/>
            <a:ext cx="57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e formalità dettate dal codice civile per la tenuta di una corretta contabilità (art. 2214 e seg. C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403280" y="2421000"/>
            <a:ext cx="660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Le scritture contabili obbligatorie per il Codice Civ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e per la legislazione fiscale DPR 600/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684360" y="3645000"/>
            <a:ext cx="424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libro giornale e le schede cont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libro degli invent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libro dei cespiti ammortizz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StudioAttuale"/>
          <p:cNvPicPr/>
          <p:nvPr/>
        </p:nvPicPr>
        <p:blipFill>
          <a:blip r:embed="rId3"/>
          <a:stretch/>
        </p:blipFill>
        <p:spPr>
          <a:xfrm>
            <a:off x="5435640" y="3789360"/>
            <a:ext cx="33336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73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7F60-A7DD-4B6B-9830-1F3B374E79FD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68360" y="333360"/>
            <a:ext cx="648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Contabilità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11280" y="1989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sfera privata e la sfera aziend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netta separazione delle disponibilità finanziarie (vds Codice Civile per inventario) e l’inerenza dei costi per il conto econo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1258920" y="422100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utto il patrimonio personale del farmacista (compreso cassa e banca) deve essere tenuto nettamente separato dal patrimonio aziend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prelievi del titolare per acconto utili – limiti e modalit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7D54-F022-4E9D-8C3A-073691697A92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farmacia1878cc9"/>
          <p:cNvPicPr/>
          <p:nvPr/>
        </p:nvPicPr>
        <p:blipFill>
          <a:blip r:embed="rId3"/>
          <a:stretch/>
        </p:blipFill>
        <p:spPr>
          <a:xfrm>
            <a:off x="6300720" y="1125360"/>
            <a:ext cx="2335320" cy="1752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tasse1"/>
          <p:cNvPicPr/>
          <p:nvPr/>
        </p:nvPicPr>
        <p:blipFill>
          <a:blip r:embed="rId4"/>
          <a:stretch/>
        </p:blipFill>
        <p:spPr>
          <a:xfrm>
            <a:off x="6372360" y="3860640"/>
            <a:ext cx="2592360" cy="1984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"/>
          <p:cNvSpPr/>
          <p:nvPr/>
        </p:nvSpPr>
        <p:spPr>
          <a:xfrm>
            <a:off x="826920" y="981000"/>
            <a:ext cx="51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CONTABILITA’ ORDINARIA INATTENDIBIL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.P.R. n. 570/96  - 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ravi irregolarità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e disponibilità liquide (cassa e banc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crediti ed i debit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versamenti ed i prelevamenti effettu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criteri per la valutazione delle rimanenze finali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ravi contraddizio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costamenti di valori di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erci di magazz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eni strument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mpensi relativi a lavoratori dipenden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1403280" y="4437000"/>
            <a:ext cx="46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Il controllo dei movimenti di cassa e la giacenza di contanti in Farmacia. Riflessi contabili e fisc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CasellaDiTesto 16"/>
          <p:cNvSpPr/>
          <p:nvPr/>
        </p:nvSpPr>
        <p:spPr>
          <a:xfrm>
            <a:off x="2581920" y="300024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Master in Farmacia Territo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88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0AFA-0205-4D60-A47C-DEF304754EF6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ONTO ECONO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539640" y="1052640"/>
            <a:ext cx="7777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OCUMENTO CHE FORMA IL BILANCIO D’ESERCIZ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SSO RAPPRESENTA IL “FILMATO” DELL’ATTIVITA’ DELLA FARMACIA CHE VALUTA LA SFERA ECONOMICA DELLA STES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L CONTO ECONOMICO E’ RIFERITO AD UN INTERVALLO DI TEMPO (es. 1/1-31/1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icavi d’eserc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- Costi d’eserciz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=  Utile d’esercizio</a:t>
            </a:r>
            <a:r>
              <a:rPr b="0" lang="it-IT" sz="29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9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9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859280" y="2781360"/>
            <a:ext cx="367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Utile d’eserci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Perdita d’eserci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3348000" y="2997360"/>
            <a:ext cx="1295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3419640" y="3429000"/>
            <a:ext cx="1296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1547640" y="4292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 chi serve l’informazione del bilancio di esercizio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5148360" y="44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mprenditore e s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anche – fornit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is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1692360" y="5445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i può adattare agli scopi nel rispetto delle reg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 flipV="1">
            <a:off x="4500720" y="4653000"/>
            <a:ext cx="576000" cy="28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 flipV="1">
            <a:off x="4500720" y="4869000"/>
            <a:ext cx="647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4427640" y="4941720"/>
            <a:ext cx="72072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202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F8DB-E54F-4DE5-B08E-DEE92BE92DC0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611280" y="1052640"/>
            <a:ext cx="806436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contabilità presso terzi – un ausilio non un la “sostituzione” ..  il passaggio delle informazion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prima nota contabile (allega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ltri documenti contabili (gli estratti conto banca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e altre informazioni (rid – riba – cedolini paga .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3780000" y="3213000"/>
            <a:ext cx="4897440" cy="2654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necessario coordinamento e i controlli periodici – gli indici di pericolosità fisca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magazzino e la sua ro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’incidenza del costo del personale add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mar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2700360" y="573408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4" descr="fighissimi"/>
          <p:cNvPicPr/>
          <p:nvPr/>
        </p:nvPicPr>
        <p:blipFill>
          <a:blip r:embed="rId3"/>
          <a:stretch/>
        </p:blipFill>
        <p:spPr>
          <a:xfrm>
            <a:off x="611280" y="3213000"/>
            <a:ext cx="3047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CasellaDiTesto 16"/>
          <p:cNvSpPr/>
          <p:nvPr/>
        </p:nvSpPr>
        <p:spPr>
          <a:xfrm>
            <a:off x="1905840" y="3716280"/>
            <a:ext cx="56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La determinazione del reddito fisc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211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2F4C-FCA0-44BC-9D0A-C2EFF903F936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684360" y="1052640"/>
            <a:ext cx="74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e valutazioni di fine ann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(ripresa di concetti contabili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azione del reddito di esercizio e successive principali rettifiche fisc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er inerenza ogget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er presunzione di leg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er sc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826920" y="3573360"/>
            <a:ext cx="590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reddito complessiv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RP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R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3" descr="cover-come-pagare-meno-tasse"/>
          <p:cNvPicPr/>
          <p:nvPr/>
        </p:nvPicPr>
        <p:blipFill>
          <a:blip r:embed="rId3"/>
          <a:stretch/>
        </p:blipFill>
        <p:spPr>
          <a:xfrm>
            <a:off x="6227640" y="1989000"/>
            <a:ext cx="26258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218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012C-4F95-4F92-BB8F-B0621B5ACB2B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3213000"/>
            <a:ext cx="59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suddivisione del reddito per mitigare la progressività delle aliquote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’impresa familiare – art. 230 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e società tra Farmac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’associazione in parteci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1042920" y="1197000"/>
            <a:ext cx="4681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varie tipologie di contribuenti e im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divisione del reddito tra aventi diritto:  titolare / soci / collaborat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70" name="CasellaDiTesto 20"/>
          <p:cNvSpPr/>
          <p:nvPr/>
        </p:nvSpPr>
        <p:spPr>
          <a:xfrm>
            <a:off x="18792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AD7C-EF75-4F56-96D7-AE3C0C7A3F60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332000" y="1916280"/>
            <a:ext cx="691344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ndrea Apostolo – dottore commercialis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consulente di Farma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REA MANAGERIALE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IL FISCO E LA FARMA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224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4E8A-D916-4F58-8B7D-2F966D59A1C2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042920" y="1916280"/>
            <a:ext cx="76327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aratteristica essenziale: è un'imposta proporzionale e separata del reddito d’impresa, applicabile alle imprese individuali e società di persone in contabilità ordinaria per opzione (5 an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liquota fissa del 24% sul reddito di impresa al netto delle somme prelevate dal titolare o dai soci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assazione ad aliquota progressiva del delle somme prelevate dall’imprenditore e dai soci di società di pers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sempio:  utile della aziend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€. 20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- prelievi del titola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€. 1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= tassazione ad aliquota proporziona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€. 80.000 al 24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= tassazione ad aliquota progressiv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€.120.000 al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468360" y="981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novità per il 2017 : la nuov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 I.R.I.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= imposta sul reddito di i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230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A602-4912-41E5-B3FF-7EE24B182A10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684360" y="836640"/>
            <a:ext cx="47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dichiarazione dei redditi  - il modello UNICO (fino al 2016) poi il modello REDDI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= riepilogo di tutto quanto riguarda la posizione fiscale del contrib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5508720" y="3357720"/>
            <a:ext cx="316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ate e scad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 calendario di tappe “forzate”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ebbra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ar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pr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agg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iugno / lu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ttembre / nov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826920" y="2637000"/>
            <a:ext cx="381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mposizione della dichiarazione … perdita della sua “unicità”  .. Redd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VA – da quest’anno auton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rap – insieme a Redd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ostituti di imposta - autono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tudi di settore – in esau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" descr="tasse-calcolare"/>
          <p:cNvPicPr/>
          <p:nvPr/>
        </p:nvPicPr>
        <p:blipFill>
          <a:blip r:embed="rId3"/>
          <a:stretch/>
        </p:blipFill>
        <p:spPr>
          <a:xfrm>
            <a:off x="1042920" y="4724280"/>
            <a:ext cx="3888000" cy="1944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unico 2015 untitled"/>
          <p:cNvPicPr/>
          <p:nvPr/>
        </p:nvPicPr>
        <p:blipFill>
          <a:blip r:embed="rId4"/>
          <a:stretch/>
        </p:blipFill>
        <p:spPr>
          <a:xfrm>
            <a:off x="5796000" y="765000"/>
            <a:ext cx="2238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"/>
          <p:cNvPicPr/>
          <p:nvPr/>
        </p:nvPicPr>
        <p:blipFill>
          <a:blip r:embed="rId2"/>
          <a:stretch/>
        </p:blipFill>
        <p:spPr>
          <a:xfrm>
            <a:off x="7715160" y="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239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A97E-D93B-412D-A423-8E57B6307BDA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Di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684360" y="1052640"/>
            <a:ext cx="8135640" cy="45972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dichiarazione dei redditi  - il pag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24000" y="1700280"/>
            <a:ext cx="338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li acconti e i sal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il metodo storico e il previs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saldo e il primo acconto del 40% a giugno o luglio o rateizz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secondo acconto 60% non rateizzab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1" descr="f24_2007esempio1"/>
          <p:cNvPicPr/>
          <p:nvPr/>
        </p:nvPicPr>
        <p:blipFill>
          <a:blip r:embed="rId3"/>
          <a:stretch/>
        </p:blipFill>
        <p:spPr>
          <a:xfrm>
            <a:off x="3780000" y="1989000"/>
            <a:ext cx="5041800" cy="42944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2"/>
          <p:cNvSpPr/>
          <p:nvPr/>
        </p:nvSpPr>
        <p:spPr>
          <a:xfrm>
            <a:off x="611280" y="328464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755640" y="4437000"/>
            <a:ext cx="3095640" cy="17398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primo eserciz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 caso di reddito crescente  il metodo storico e in caso di reddito decrescente il metodo previs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"/>
          <p:cNvPicPr/>
          <p:nvPr/>
        </p:nvPicPr>
        <p:blipFill>
          <a:blip r:embed="rId2"/>
          <a:stretch/>
        </p:blipFill>
        <p:spPr>
          <a:xfrm>
            <a:off x="7715160" y="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248" name="CasellaDiTesto 20"/>
          <p:cNvSpPr/>
          <p:nvPr/>
        </p:nvSpPr>
        <p:spPr>
          <a:xfrm>
            <a:off x="25128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E2EE-A78B-4B33-989E-7278A4757CE2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mposte in gen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684360" y="1052640"/>
            <a:ext cx="5256000" cy="1922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controllo delle dichiarazioni fiscali e il potere di accertamento del fis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 controlli form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 controlli sostanz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5724360" y="3645000"/>
            <a:ext cx="2808360" cy="17398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li studi di settore saranno a breve sostituiti da un indicatore del “grado di affidabilità” che terrà conto di vari ind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1187280" y="3213000"/>
            <a:ext cx="381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1 contribuente su 2 è “congruo” ma ha forzato gli indicator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3" descr="la stampa004"/>
          <p:cNvPicPr/>
          <p:nvPr/>
        </p:nvPicPr>
        <p:blipFill>
          <a:blip r:embed="rId3"/>
          <a:stretch/>
        </p:blipFill>
        <p:spPr>
          <a:xfrm>
            <a:off x="1258920" y="3933720"/>
            <a:ext cx="3311640" cy="2679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74" name="CasellaDiTesto 20"/>
          <p:cNvSpPr/>
          <p:nvPr/>
        </p:nvSpPr>
        <p:spPr>
          <a:xfrm>
            <a:off x="18792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620C-B3DB-4982-9530-B2850D289D8D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403280" y="1413000"/>
            <a:ext cx="4248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ntrodu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1 - l’obbligo contributivo, artt. 2 – 3 – 23 e 53 della Costituzione Ital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2 – imposte e t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3 – imposte dirette e imposte indiret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4 – il “Fisco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2"/>
          <a:stretch/>
        </p:blipFill>
        <p:spPr>
          <a:xfrm>
            <a:off x="7715160" y="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78" name="CasellaDiTesto 20"/>
          <p:cNvSpPr/>
          <p:nvPr/>
        </p:nvSpPr>
        <p:spPr>
          <a:xfrm>
            <a:off x="18792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5FC4-99E2-4954-94C2-C298CB1BC8CB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836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LE TAS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539640" y="1125360"/>
            <a:ext cx="396108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  <a:ea typeface="Arial"/>
              </a:rPr>
              <a:t>IVA - Irpef  - Ires e Irap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 costi esagerati per le azi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essione fiscale, è record assoluto – dopo il massimo del 44,3% nel 2013 - ne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2015 si è ridotta al 43,4%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In pratica l'Italia è tra i sette paesi, nell'Unione europea a 28, con una pressione fiscale sopra la media. Ci precedono la Francia, con una pressione al 47,9%, la Danimarca (47,6%), il Belgio (47,5%), l'Austria (44,4%), la Svezia (44,2%) e la Finlandia (44,1%). Tra i paesi europei dove il fisco è più leggero, spiccano Irlanda (24,4%), Romania (28%), Bulgaria (29%), Lituania (29,4%) e Lettonia (29,5%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7" descr="12095448-knJ-U10201492749691BbE-426x240@LaStampa"/>
          <p:cNvPicPr/>
          <p:nvPr/>
        </p:nvPicPr>
        <p:blipFill>
          <a:blip r:embed="rId3"/>
          <a:stretch/>
        </p:blipFill>
        <p:spPr>
          <a:xfrm>
            <a:off x="4788000" y="1773360"/>
            <a:ext cx="4057560" cy="2286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9"/>
          <p:cNvSpPr/>
          <p:nvPr/>
        </p:nvSpPr>
        <p:spPr>
          <a:xfrm>
            <a:off x="4788000" y="4221000"/>
            <a:ext cx="40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Inoltre se si considerano anche i contributi previdenziali l’onere complessivo arriva oltre al 65 % ..   !!  senza contare i costi amministrativi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e troppe regole creano confusione e disapplic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e regole semplici sono applica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7715160" y="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85" name="CasellaDiTesto 20"/>
          <p:cNvSpPr/>
          <p:nvPr/>
        </p:nvSpPr>
        <p:spPr>
          <a:xfrm>
            <a:off x="18792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AB7C-B143-49AE-BF25-026CAD30CDC9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333360"/>
            <a:ext cx="432108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Da Il sole 24 ore del 26 novembre 201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a ricerca più recente indica in 35,6 giorni (di 8 ore lavorative)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 quindi quasi due mesi di lavoro di una 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spetto al 2009 si è riscontrato un incremento dal 6,9% al 7,4% rispetto al fattur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Dal rapporto Paying Taxes 2014 Banca Mondiale, IFC e Pw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er gli adempimenti fiscali in Italia le società impiegano 269 ore all’anno contro le 179 ore impiegate in media da un’impresa europe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condo i dati del Centro Studi ImpresaLavoro, un azienda media spende 7.600 euro per preparare, compilare e pagare le imposte e i contribu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nostro sistema fiscale è troppo complicato e quindi costo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costo"/>
          <p:cNvPicPr/>
          <p:nvPr/>
        </p:nvPicPr>
        <p:blipFill>
          <a:blip r:embed="rId3"/>
          <a:stretch/>
        </p:blipFill>
        <p:spPr>
          <a:xfrm>
            <a:off x="5364000" y="836640"/>
            <a:ext cx="33404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20"/>
          <p:cNvSpPr/>
          <p:nvPr/>
        </p:nvSpPr>
        <p:spPr>
          <a:xfrm>
            <a:off x="18792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D076-75F5-48AF-9AEF-A823CB68CA0B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042920" y="333360"/>
            <a:ext cx="60501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ozione di valore aggiunto  (all. IVA 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guida-alle-tasse-aliquote-iva-in-italia-e-negli-altri-paesi[1]"/>
          <p:cNvPicPr/>
          <p:nvPr/>
        </p:nvPicPr>
        <p:blipFill>
          <a:blip r:embed="rId3"/>
          <a:stretch/>
        </p:blipFill>
        <p:spPr>
          <a:xfrm>
            <a:off x="6804000" y="333360"/>
            <a:ext cx="1905120" cy="1971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6"/>
          <p:cNvSpPr/>
          <p:nvPr/>
        </p:nvSpPr>
        <p:spPr>
          <a:xfrm>
            <a:off x="2268360" y="2852640"/>
            <a:ext cx="59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3"/>
          <p:cNvSpPr/>
          <p:nvPr/>
        </p:nvSpPr>
        <p:spPr>
          <a:xfrm>
            <a:off x="1116000" y="278136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55"/>
          <p:cNvSpPr/>
          <p:nvPr/>
        </p:nvSpPr>
        <p:spPr>
          <a:xfrm>
            <a:off x="2124000" y="1700280"/>
            <a:ext cx="43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l meccanismo dell’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56"/>
          <p:cNvSpPr/>
          <p:nvPr/>
        </p:nvSpPr>
        <p:spPr>
          <a:xfrm>
            <a:off x="900000" y="2349360"/>
            <a:ext cx="7993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consumatore finale paga, inglobata nel prezzo l’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s. prezzo del prodot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€ 1.1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va inclusa e incassata dal dettaglia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  € 100,00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perazioni attive del dettaglia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+ € 1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att.di acquisto del dettagli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 di vendita del grossis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€ 8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va esposta in fattura (800 al 10%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- €  8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05"/>
          <p:cNvSpPr/>
          <p:nvPr/>
        </p:nvSpPr>
        <p:spPr>
          <a:xfrm>
            <a:off x="971640" y="4292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N.B Valore aggiunto del dettagliant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prezzo di vendita al netto dell'iva ( 1100 - 100) 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 € 1.0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prezzo di acquisto 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    € 8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Margine lordo del dettagliante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   € 200,00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0"/>
          <p:cNvSpPr/>
          <p:nvPr/>
        </p:nvSpPr>
        <p:spPr>
          <a:xfrm>
            <a:off x="1763640" y="5516640"/>
            <a:ext cx="63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31"/>
          <p:cNvSpPr/>
          <p:nvPr/>
        </p:nvSpPr>
        <p:spPr>
          <a:xfrm>
            <a:off x="1547640" y="5445000"/>
            <a:ext cx="67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Liquidazione iva : IVA  su cessione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+ € 1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IVA  su acquisto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 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  - € 8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differenza da versare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= € 20,00</a:t>
            </a:r>
            <a:r>
              <a:rPr b="0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02" name="CasellaDiTesto 20"/>
          <p:cNvSpPr/>
          <p:nvPr/>
        </p:nvSpPr>
        <p:spPr>
          <a:xfrm>
            <a:off x="18792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F66C-BEF0-485D-8885-26B4A9A15A16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042920" y="333360"/>
            <a:ext cx="60501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ozione di valore aggiunto  (all. IVA 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guida-alle-tasse-aliquote-iva-in-italia-e-negli-altri-paesi[1]"/>
          <p:cNvPicPr/>
          <p:nvPr/>
        </p:nvPicPr>
        <p:blipFill>
          <a:blip r:embed="rId3"/>
          <a:stretch/>
        </p:blipFill>
        <p:spPr>
          <a:xfrm>
            <a:off x="6804000" y="333360"/>
            <a:ext cx="1905120" cy="1971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2268360" y="2852640"/>
            <a:ext cx="59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116000" y="278136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124000" y="1700280"/>
            <a:ext cx="43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l meccanismo dell’IVA - se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826920" y="2349360"/>
            <a:ext cx="80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grossista ha venduto al dettagliant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€ 8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ha incassato IV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€ 8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 sua volta aveva pagato alla fabbric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€ 70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 iva per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€    70,0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n.b. con un suo margine lordo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Arial"/>
              </a:rPr>
              <a:t>€ 100,0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763640" y="5516640"/>
            <a:ext cx="63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826920" y="393372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Liquidazione IVA del grossista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iva su cessione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+ € 8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iva su acquisto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                - € 7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c0504d"/>
                </a:solidFill>
                <a:latin typeface="Arial"/>
                <a:ea typeface="Arial"/>
              </a:rPr>
              <a:t>diff. da versare   = € 1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7"/>
          <p:cNvSpPr/>
          <p:nvPr/>
        </p:nvSpPr>
        <p:spPr>
          <a:xfrm>
            <a:off x="1332000" y="50846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liquidazione iva del produttore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 iva su cessione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 € 7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iva su acquisto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 €    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differenza da versare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800080"/>
                </a:solidFill>
                <a:latin typeface="Arial"/>
                <a:ea typeface="Arial"/>
              </a:rPr>
              <a:t> € 70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14" name="CasellaDiTesto 20"/>
          <p:cNvSpPr/>
          <p:nvPr/>
        </p:nvSpPr>
        <p:spPr>
          <a:xfrm>
            <a:off x="18792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9351-F582-402D-9F88-690A3106671E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95280" y="333360"/>
            <a:ext cx="5832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IVA –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PR 633/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e aliquote IVA (all. IVA 2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ordinaria = 22% per tutti i beni e i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otte per taluni beni e serviz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ab. A  ridotte al 4% e al 1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carrello"/>
          <p:cNvPicPr/>
          <p:nvPr/>
        </p:nvPicPr>
        <p:blipFill>
          <a:blip r:embed="rId3"/>
          <a:stretch/>
        </p:blipFill>
        <p:spPr>
          <a:xfrm>
            <a:off x="6372360" y="333360"/>
            <a:ext cx="2476440" cy="23144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4140360" y="3429000"/>
            <a:ext cx="4681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concetto di inerenza - anche per l’IVA - e la detrazione parziale dell’iva su alcune tipologie di  acquisti e spese (all. IVA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5" descr="untitled"/>
          <p:cNvPicPr/>
          <p:nvPr/>
        </p:nvPicPr>
        <p:blipFill>
          <a:blip r:embed="rId4"/>
          <a:stretch/>
        </p:blipFill>
        <p:spPr>
          <a:xfrm>
            <a:off x="684360" y="278136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4" descr="C:\Users\Antonino\Desktop\presentazione 2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2"/>
          <a:stretch/>
        </p:blipFill>
        <p:spPr>
          <a:xfrm>
            <a:off x="7715160" y="100080"/>
            <a:ext cx="1428840" cy="311472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20"/>
          <p:cNvSpPr/>
          <p:nvPr/>
        </p:nvSpPr>
        <p:spPr>
          <a:xfrm>
            <a:off x="187920" y="64292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9C81-A616-4338-A3E9-632219B4E370}" type="slidenum"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724360" y="1052640"/>
            <a:ext cx="295308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liquidazione iva periodica infra ann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determinazione dell’iva di perio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versamento o riporto del credito 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versamento 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68360" y="189000"/>
            <a:ext cx="81360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I libri contabili per gli obblighi IV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all. IVA 4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755640" y="1052640"/>
            <a:ext cx="4681440" cy="2113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 REGISTRI CONTABILI 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registro delle fatture em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registro dei corrisp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registro degli acqu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50920" y="3429000"/>
            <a:ext cx="5329080" cy="1557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ventilazione:  il metodo per la suddivisione proporzionale delle vendite in base alla proporzione degli acqu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195640" y="5229360"/>
            <a:ext cx="6410160" cy="11912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’iva ad esigibilità differita – split payment – e fatturazione elettronica per le vendite effettuate allo Stato e agli Enti Pubbl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2:10:11Z</dcterms:created>
  <dc:creator>Andrea</dc:creator>
  <dc:description/>
  <dc:language>en-US</dc:language>
  <cp:lastModifiedBy>Master</cp:lastModifiedBy>
  <cp:lastPrinted>2017-03-01T09:46:25Z</cp:lastPrinted>
  <dcterms:modified xsi:type="dcterms:W3CDTF">2017-03-01T10:56:45Z</dcterms:modified>
  <cp:revision>136</cp:revision>
  <dc:subject/>
  <dc:title>Diapositiva 1</dc:title>
</cp:coreProperties>
</file>