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10.png" ContentType="image/png"/>
  <Override PartName="/ppt/media/image23.jpeg" ContentType="image/jpeg"/>
  <Override PartName="/ppt/media/image2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99120" cy="34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0560" cy="34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5200" y="509760"/>
            <a:ext cx="33987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299120" cy="3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1C508A-D441-42D9-A264-2F9731F9290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3263760" y="511200"/>
            <a:ext cx="3399120" cy="25480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egnaposto numero diapositiva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64B691-8705-49F5-9E00-3A9555641519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640A0A8-7816-4F91-9027-5243FA133869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2E9378A-0FA8-4DC2-9E69-6F05F3BACE68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EBAFEFA-8ACF-46F1-9A72-A7FE6FB47082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5AECFBF-C966-4F51-B82B-BDC6735E095D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434CF54-43E7-41C1-9670-1F40524AB9E9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6E1CDDE-71D8-4CED-A896-3C3B1877A918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6C388D8-0DA0-4A18-A3B4-B638D76C5168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5CFCCE2-A1A1-4593-9C8A-04B7DA1C0D8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6304DE9-2721-4616-B7F5-E0B51C883D61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4A9FA96-0925-4A82-9310-77278BAB2F02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95C8A4C-A407-488F-B0BA-8C9B14A41108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431A095-DECC-4754-895A-194AF70D2648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2976B5D-1952-48FD-94B1-8727313C52D3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60912C0-A1A9-4CAA-A1F1-045B82C27C33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C679758-B2BA-4182-9C0C-F92A4E80A28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3D9F444-23BB-4085-BB51-F5461B1ACCA6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6834381-E407-4E6A-813A-A1C71AFEF6E5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D4B6B45-99A7-4EE0-A465-CE1F4E8555A8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CD20F1B-FB34-40EE-ADD1-5CAE31779BDB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498714C-372A-4A30-8824-0609F0DA9DDC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AA7D10C-9120-4353-9702-D020A7D8226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8B656F3-6C78-4FBB-889B-70480C7C9229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F349-8CAC-47C4-A867-5D5A891C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2F18-849E-4128-812C-0BD965BB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5FB4-6C8D-4575-81A8-993A60CD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1954-AB89-44D6-902F-52EADC13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36B8-6E88-439A-ADF0-2562BBDD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60A4-31C9-4826-945B-9863347D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B67A-B481-4C86-B7A1-E04CA0BF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C6AD-6851-4306-8CCB-932A2B60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F14E-58CD-4DB1-8D74-1FD2C825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0289-16B4-4186-9919-BD4F9C6B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EE57-668C-4235-BD1D-5A88005D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EDC7-32E6-4274-9CEA-71AC9127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F104-BA51-4369-B392-798C8BA25BAB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CasellaDiTesto 4"/>
          <p:cNvSpPr/>
          <p:nvPr/>
        </p:nvSpPr>
        <p:spPr>
          <a:xfrm>
            <a:off x="6572160" y="1143000"/>
            <a:ext cx="18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baseline="30000">
                <a:solidFill>
                  <a:srgbClr val="002060"/>
                </a:solidFill>
                <a:latin typeface="Arial"/>
                <a:ea typeface="Arial"/>
              </a:rPr>
              <a:t>Ordine dei Farmacis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baseline="30000">
                <a:solidFill>
                  <a:srgbClr val="002060"/>
                </a:solidFill>
                <a:latin typeface="Arial"/>
                <a:ea typeface="Arial"/>
              </a:rPr>
              <a:t>della Provincia di Tor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asellaDiTesto 8"/>
          <p:cNvSpPr/>
          <p:nvPr/>
        </p:nvSpPr>
        <p:spPr>
          <a:xfrm>
            <a:off x="1187280" y="1214280"/>
            <a:ext cx="274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  <a:ea typeface="Arial"/>
              </a:rPr>
              <a:t>Università degli Studi di To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D:\SGI\master\ordine_farm.tif"/>
          <p:cNvPicPr/>
          <p:nvPr/>
        </p:nvPicPr>
        <p:blipFill>
          <a:blip r:embed="rId2"/>
          <a:stretch/>
        </p:blipFill>
        <p:spPr>
          <a:xfrm>
            <a:off x="7207200" y="285840"/>
            <a:ext cx="749520" cy="771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3"/>
          <a:stretch/>
        </p:blipFill>
        <p:spPr>
          <a:xfrm>
            <a:off x="3071880" y="1447920"/>
            <a:ext cx="3500280" cy="340992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0" descr=""/>
          <p:cNvPicPr/>
          <p:nvPr/>
        </p:nvPicPr>
        <p:blipFill>
          <a:blip r:embed="rId4"/>
          <a:stretch/>
        </p:blipFill>
        <p:spPr>
          <a:xfrm>
            <a:off x="1619280" y="5013360"/>
            <a:ext cx="406440" cy="396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4" descr=""/>
          <p:cNvPicPr/>
          <p:nvPr/>
        </p:nvPicPr>
        <p:blipFill>
          <a:blip r:embed="rId5"/>
          <a:stretch/>
        </p:blipFill>
        <p:spPr>
          <a:xfrm>
            <a:off x="1908000" y="260280"/>
            <a:ext cx="892440" cy="954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8"/>
          <p:cNvSpPr/>
          <p:nvPr/>
        </p:nvSpPr>
        <p:spPr>
          <a:xfrm>
            <a:off x="1547640" y="4797360"/>
            <a:ext cx="16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Con il patrocinio d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2"/>
          <p:cNvSpPr/>
          <p:nvPr/>
        </p:nvSpPr>
        <p:spPr>
          <a:xfrm>
            <a:off x="1979640" y="515952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Albertus"/>
                <a:ea typeface="Arial"/>
              </a:rPr>
              <a:t>FO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4"/>
          <p:cNvSpPr/>
          <p:nvPr/>
        </p:nvSpPr>
        <p:spPr>
          <a:xfrm>
            <a:off x="2741760" y="5157720"/>
            <a:ext cx="89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Arial"/>
                <a:ea typeface="Arial"/>
              </a:rPr>
              <a:t>FEDERFAR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"/>
          <p:cNvPicPr/>
          <p:nvPr/>
        </p:nvPicPr>
        <p:blipFill>
          <a:blip r:embed="rId6"/>
          <a:stretch/>
        </p:blipFill>
        <p:spPr>
          <a:xfrm>
            <a:off x="4356000" y="5921280"/>
            <a:ext cx="1032120" cy="41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assogenerici-scritta-sotto-logo"/>
          <p:cNvPicPr/>
          <p:nvPr/>
        </p:nvPicPr>
        <p:blipFill>
          <a:blip r:embed="rId7"/>
          <a:stretch/>
        </p:blipFill>
        <p:spPr>
          <a:xfrm>
            <a:off x="3059280" y="5932440"/>
            <a:ext cx="960120" cy="417600"/>
          </a:xfrm>
          <a:prstGeom prst="rect">
            <a:avLst/>
          </a:prstGeom>
          <a:ln w="0">
            <a:noFill/>
          </a:ln>
        </p:spPr>
      </p:pic>
      <p:pic>
        <p:nvPicPr>
          <p:cNvPr id="63" name="Immagine 1" descr=""/>
          <p:cNvPicPr/>
          <p:nvPr/>
        </p:nvPicPr>
        <p:blipFill>
          <a:blip r:embed="rId8"/>
          <a:stretch/>
        </p:blipFill>
        <p:spPr>
          <a:xfrm>
            <a:off x="5651640" y="5921280"/>
            <a:ext cx="931680" cy="409680"/>
          </a:xfrm>
          <a:prstGeom prst="rect">
            <a:avLst/>
          </a:prstGeom>
          <a:ln w="0">
            <a:noFill/>
          </a:ln>
        </p:spPr>
      </p:pic>
      <p:pic>
        <p:nvPicPr>
          <p:cNvPr id="64" name="Immagine 2" descr=""/>
          <p:cNvPicPr/>
          <p:nvPr/>
        </p:nvPicPr>
        <p:blipFill>
          <a:blip r:embed="rId9"/>
          <a:stretch/>
        </p:blipFill>
        <p:spPr>
          <a:xfrm>
            <a:off x="1908000" y="5942160"/>
            <a:ext cx="831960" cy="414360"/>
          </a:xfrm>
          <a:prstGeom prst="rect">
            <a:avLst/>
          </a:prstGeom>
          <a:ln w="0">
            <a:noFill/>
          </a:ln>
        </p:spPr>
      </p:pic>
      <p:pic>
        <p:nvPicPr>
          <p:cNvPr id="65" name="Immagine 3" descr=""/>
          <p:cNvPicPr/>
          <p:nvPr/>
        </p:nvPicPr>
        <p:blipFill>
          <a:blip r:embed="rId10"/>
          <a:stretch/>
        </p:blipFill>
        <p:spPr>
          <a:xfrm>
            <a:off x="6804000" y="5921280"/>
            <a:ext cx="1141560" cy="438120"/>
          </a:xfrm>
          <a:prstGeom prst="rect">
            <a:avLst/>
          </a:prstGeom>
          <a:ln w="0">
            <a:noFill/>
          </a:ln>
        </p:spPr>
      </p:pic>
      <p:pic>
        <p:nvPicPr>
          <p:cNvPr id="66" name="Immagine 1" descr="Federfarma2016"/>
          <p:cNvPicPr/>
          <p:nvPr/>
        </p:nvPicPr>
        <p:blipFill>
          <a:blip r:embed="rId11"/>
          <a:stretch/>
        </p:blipFill>
        <p:spPr>
          <a:xfrm>
            <a:off x="8185320" y="5662440"/>
            <a:ext cx="488880" cy="668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"/>
          <p:cNvPicPr/>
          <p:nvPr/>
        </p:nvPicPr>
        <p:blipFill>
          <a:blip r:embed="rId12"/>
          <a:stretch/>
        </p:blipFill>
        <p:spPr>
          <a:xfrm>
            <a:off x="2500200" y="5087880"/>
            <a:ext cx="29556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130" name="CasellaDiTesto 20"/>
          <p:cNvSpPr/>
          <p:nvPr/>
        </p:nvSpPr>
        <p:spPr>
          <a:xfrm>
            <a:off x="25128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9528-81D4-4418-9637-56602300B974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guida-alle-tasse-aliquote-iva-in-italia-e-negli-altri-paesi[1]"/>
          <p:cNvPicPr/>
          <p:nvPr/>
        </p:nvPicPr>
        <p:blipFill>
          <a:blip r:embed="rId3"/>
          <a:stretch/>
        </p:blipFill>
        <p:spPr>
          <a:xfrm>
            <a:off x="6804000" y="1916280"/>
            <a:ext cx="1905120" cy="1971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8"/>
          <p:cNvSpPr/>
          <p:nvPr/>
        </p:nvSpPr>
        <p:spPr>
          <a:xfrm>
            <a:off x="468360" y="333360"/>
            <a:ext cx="6335640" cy="54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L’affidamento della contabilità a terzi per l’IV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tempi e modalità di trasmissione dei dati e dei documenti – la prassi per le Farma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conservazione dei docume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Le dichiarazioni ai fini IVA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dichiarazione annuale iva e dal 2017 le nuove comunicazioni periodiche (4) e la trasmissione di tutti i dati delle fatture emesse e ricev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fatturazione elettron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135" name="CasellaDiTesto 20"/>
          <p:cNvSpPr/>
          <p:nvPr/>
        </p:nvSpPr>
        <p:spPr>
          <a:xfrm>
            <a:off x="25128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55AD-37BB-4AD9-B613-348CC933DB06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68360" y="3333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LE TASSE – Imposte Dir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611280" y="1052640"/>
            <a:ext cx="5111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determinazione della 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mponibile = il reddito di eserciz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conta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rà Luca Pacioli  (Sansepolcro 1445-15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 concetti d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NERE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COMPETENZ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tempor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2627280" y="3645000"/>
            <a:ext cx="649440" cy="215640"/>
          </a:xfrm>
          <a:prstGeom prst="rightArrow">
            <a:avLst>
              <a:gd name="adj1" fmla="val 50000"/>
              <a:gd name="adj2" fmla="val 7529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2627280" y="3284640"/>
            <a:ext cx="649440" cy="215640"/>
          </a:xfrm>
          <a:prstGeom prst="rightArrow">
            <a:avLst>
              <a:gd name="adj1" fmla="val 50000"/>
              <a:gd name="adj2" fmla="val 7529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2" descr="imagesOMYSWHAG"/>
          <p:cNvPicPr/>
          <p:nvPr/>
        </p:nvPicPr>
        <p:blipFill>
          <a:blip r:embed="rId3"/>
          <a:stretch/>
        </p:blipFill>
        <p:spPr>
          <a:xfrm>
            <a:off x="5940360" y="21337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images96B6599B"/>
          <p:cNvPicPr/>
          <p:nvPr/>
        </p:nvPicPr>
        <p:blipFill>
          <a:blip r:embed="rId4"/>
          <a:stretch/>
        </p:blipFill>
        <p:spPr>
          <a:xfrm>
            <a:off x="1619280" y="47242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CasellaDiTesto 16"/>
          <p:cNvSpPr/>
          <p:nvPr/>
        </p:nvSpPr>
        <p:spPr>
          <a:xfrm>
            <a:off x="2581920" y="3000240"/>
            <a:ext cx="46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Master in Farmacia Territor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4" descr=""/>
          <p:cNvPicPr/>
          <p:nvPr/>
        </p:nvPicPr>
        <p:blipFill>
          <a:blip r:embed="rId2"/>
          <a:stretch/>
        </p:blipFill>
        <p:spPr>
          <a:xfrm>
            <a:off x="7715160" y="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145" name="CasellaDiTesto 20"/>
          <p:cNvSpPr/>
          <p:nvPr/>
        </p:nvSpPr>
        <p:spPr>
          <a:xfrm>
            <a:off x="25128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9BD0-550E-4787-97B1-A80F00AA245D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1042920" y="189000"/>
            <a:ext cx="810108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La procedura amministrativa che porta al bilancio d’eserciz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042920" y="1844640"/>
            <a:ext cx="21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Oper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311640" y="3749760"/>
            <a:ext cx="45576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Fatture di vend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Fatture di acqui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Ricevute fisc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contrini fisc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sseg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ltri docum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116000" y="4581360"/>
            <a:ext cx="215568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ocum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tab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3289320" y="1141560"/>
            <a:ext cx="56386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Ven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cqi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ca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Pagam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ltre operazioni che originano movimenti di cassa, di credito o di deb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1835280" y="2133720"/>
            <a:ext cx="0" cy="25192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 flipV="1">
            <a:off x="2411280" y="1267920"/>
            <a:ext cx="1008360" cy="79236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 flipV="1">
            <a:off x="2484360" y="1699920"/>
            <a:ext cx="935280" cy="36036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2411280" y="2060640"/>
            <a:ext cx="936720" cy="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>
            <a:off x="2411280" y="2060640"/>
            <a:ext cx="936720" cy="36036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6"/>
          <p:cNvSpPr/>
          <p:nvPr/>
        </p:nvSpPr>
        <p:spPr>
          <a:xfrm>
            <a:off x="2411280" y="2060640"/>
            <a:ext cx="1008360" cy="9367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7"/>
          <p:cNvSpPr/>
          <p:nvPr/>
        </p:nvSpPr>
        <p:spPr>
          <a:xfrm flipV="1">
            <a:off x="2484360" y="3860640"/>
            <a:ext cx="935280" cy="11527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8"/>
          <p:cNvSpPr/>
          <p:nvPr/>
        </p:nvSpPr>
        <p:spPr>
          <a:xfrm flipV="1">
            <a:off x="2484360" y="4292640"/>
            <a:ext cx="935280" cy="7207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9"/>
          <p:cNvSpPr/>
          <p:nvPr/>
        </p:nvSpPr>
        <p:spPr>
          <a:xfrm flipV="1">
            <a:off x="2556000" y="4723920"/>
            <a:ext cx="863640" cy="28908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"/>
          <p:cNvSpPr/>
          <p:nvPr/>
        </p:nvSpPr>
        <p:spPr>
          <a:xfrm>
            <a:off x="2556000" y="5013360"/>
            <a:ext cx="863640" cy="7128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1"/>
          <p:cNvSpPr/>
          <p:nvPr/>
        </p:nvSpPr>
        <p:spPr>
          <a:xfrm>
            <a:off x="2556000" y="5013360"/>
            <a:ext cx="863640" cy="43164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2"/>
          <p:cNvSpPr/>
          <p:nvPr/>
        </p:nvSpPr>
        <p:spPr>
          <a:xfrm>
            <a:off x="2556000" y="5013360"/>
            <a:ext cx="863640" cy="86364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165" name="CasellaDiTesto 20"/>
          <p:cNvSpPr/>
          <p:nvPr/>
        </p:nvSpPr>
        <p:spPr>
          <a:xfrm>
            <a:off x="25128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AF6E-5F1E-4DFB-9428-FD0388377117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68360" y="3333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Imposte Dir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684360" y="1052640"/>
            <a:ext cx="57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e formalità dettate dal codice civile per la tenuta di una corretta contabilità (art. 2214 e seg. C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1403280" y="2421000"/>
            <a:ext cx="660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Le scritture contabili obbligatorie per il Codice Civ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e per la legislazione fiscale DPR 600/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684360" y="3645000"/>
            <a:ext cx="4248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libro giornale e le schede contab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libro degli invent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libro dei cespiti ammortizzab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1" descr="StudioAttuale"/>
          <p:cNvPicPr/>
          <p:nvPr/>
        </p:nvPicPr>
        <p:blipFill>
          <a:blip r:embed="rId3"/>
          <a:stretch/>
        </p:blipFill>
        <p:spPr>
          <a:xfrm>
            <a:off x="5435640" y="3789360"/>
            <a:ext cx="33336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173" name="CasellaDiTesto 20"/>
          <p:cNvSpPr/>
          <p:nvPr/>
        </p:nvSpPr>
        <p:spPr>
          <a:xfrm>
            <a:off x="25128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F779-B4E5-47A3-88A3-1152B179ED14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468360" y="333360"/>
            <a:ext cx="648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Contabilità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Imposte Dir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611280" y="198900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sfera privata e la sfera aziend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netta separazione delle disponibilità finanziarie (vds Codice Civile per inventario) e l’inerenza dei costi per il conto econom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1258920" y="422100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utto il patrimonio personale del farmacista (compreso cassa e banca) deve essere tenuto nettamente separato dal patrimonio aziend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 prelievi del titolare per acconto utili – limiti e modalit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179" name="CasellaDiTesto 20"/>
          <p:cNvSpPr/>
          <p:nvPr/>
        </p:nvSpPr>
        <p:spPr>
          <a:xfrm>
            <a:off x="25128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2ACE-B298-432B-BC53-15AD10585CAB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468360" y="3333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Imposte Dir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farmacia1878cc9"/>
          <p:cNvPicPr/>
          <p:nvPr/>
        </p:nvPicPr>
        <p:blipFill>
          <a:blip r:embed="rId3"/>
          <a:stretch/>
        </p:blipFill>
        <p:spPr>
          <a:xfrm>
            <a:off x="6300720" y="1125360"/>
            <a:ext cx="2335320" cy="17528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tasse1"/>
          <p:cNvPicPr/>
          <p:nvPr/>
        </p:nvPicPr>
        <p:blipFill>
          <a:blip r:embed="rId4"/>
          <a:stretch/>
        </p:blipFill>
        <p:spPr>
          <a:xfrm>
            <a:off x="6372360" y="3860640"/>
            <a:ext cx="2592360" cy="1984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"/>
          <p:cNvSpPr/>
          <p:nvPr/>
        </p:nvSpPr>
        <p:spPr>
          <a:xfrm>
            <a:off x="826920" y="981000"/>
            <a:ext cx="511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A CONTABILITA’ ORDINARIA INATTENDIBILE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.P.R. n. 570/96  - 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ravi irregolarità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e disponibilità liquide (cassa e banc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 crediti ed i debiti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 versamenti ed i prelevamenti effettua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 criteri per la valutazione delle rimanenze finali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ravi contraddizio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costamenti di valori di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erci di magazzin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beni strument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mpensi relativi a lavoratori dipendent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1403280" y="4437000"/>
            <a:ext cx="46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Il controllo dei movimenti di cassa e la giacenza di contanti in Farmacia. Riflessi contabili e fisca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CasellaDiTesto 16"/>
          <p:cNvSpPr/>
          <p:nvPr/>
        </p:nvSpPr>
        <p:spPr>
          <a:xfrm>
            <a:off x="2581920" y="3000240"/>
            <a:ext cx="46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Master in Farmacia Territor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188" name="CasellaDiTesto 20"/>
          <p:cNvSpPr/>
          <p:nvPr/>
        </p:nvSpPr>
        <p:spPr>
          <a:xfrm>
            <a:off x="25128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6E67-FA43-45C4-9B06-6D47CFC2FF15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CONTO ECONO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539640" y="1052640"/>
            <a:ext cx="777744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DOCUMENTO CHE FORMA IL BILANCIO D’ESERCIZ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ESSO RAPPRESENTA IL “FILMATO” DELL’ATTIVITA’ DELLA FARMACIA CHE VALUTA LA SFERA ECONOMICA DELLA STES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L CONTO ECONOMICO E’ RIFERITO AD UN INTERVALLO DI TEMPO (es. 1/1-31/1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icavi d’eserciz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- Costi d’eserciz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=  Utile d’esercizio</a:t>
            </a:r>
            <a:r>
              <a:rPr b="0" lang="it-IT" sz="29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9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9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4859280" y="2781360"/>
            <a:ext cx="3673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Utile d’eserciz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Perdita d’eserciz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3348000" y="2997360"/>
            <a:ext cx="1295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3419640" y="3429000"/>
            <a:ext cx="1296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1547640" y="4292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 chi serve l’informazione del bilancio di esercizio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5148360" y="443700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mprenditore e so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banche – fornito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is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1692360" y="5445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i può adattare agli scopi nel rispetto delle reg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9"/>
          <p:cNvSpPr/>
          <p:nvPr/>
        </p:nvSpPr>
        <p:spPr>
          <a:xfrm flipV="1">
            <a:off x="4500720" y="4653000"/>
            <a:ext cx="576000" cy="288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 flipV="1">
            <a:off x="4500720" y="4869000"/>
            <a:ext cx="64764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4427640" y="4941720"/>
            <a:ext cx="72072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202" name="CasellaDiTesto 20"/>
          <p:cNvSpPr/>
          <p:nvPr/>
        </p:nvSpPr>
        <p:spPr>
          <a:xfrm>
            <a:off x="25128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C47F-9D28-4275-BB9D-D64A74DBDFBF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468360" y="3333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Imposte Dir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611280" y="1052640"/>
            <a:ext cx="8064360" cy="19227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contabilità presso terzi – un ausilio non un la “sostituzione” ..  il passaggio delle informazion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prima nota contabile (allega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ltri documenti contabili (gli estratti conto banca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e altre informazioni (rid – riba – cedolini paga .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3780000" y="3213000"/>
            <a:ext cx="4897440" cy="26542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necessario coordinamento e i controlli periodici – gli indici di pericolosità fisca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magazzino e la sua ro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’incidenza del costo del personale add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mar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2700360" y="573408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4" descr="fighissimi"/>
          <p:cNvPicPr/>
          <p:nvPr/>
        </p:nvPicPr>
        <p:blipFill>
          <a:blip r:embed="rId3"/>
          <a:stretch/>
        </p:blipFill>
        <p:spPr>
          <a:xfrm>
            <a:off x="611280" y="3213000"/>
            <a:ext cx="30477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CasellaDiTesto 16"/>
          <p:cNvSpPr/>
          <p:nvPr/>
        </p:nvSpPr>
        <p:spPr>
          <a:xfrm>
            <a:off x="1905840" y="3716280"/>
            <a:ext cx="56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La determinazione del reddito fisc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211" name="CasellaDiTesto 20"/>
          <p:cNvSpPr/>
          <p:nvPr/>
        </p:nvSpPr>
        <p:spPr>
          <a:xfrm>
            <a:off x="25128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EE4E-33F3-4D5E-AFBB-BB1EADD88350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468360" y="3333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Imposte Dir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684360" y="1052640"/>
            <a:ext cx="748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e valutazioni di fine ann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(ripresa di concetti contabili)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azione del reddito di esercizio e successive principali rettifiche fisca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per inerenza ogget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per presunzione di leg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per sce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826920" y="3573360"/>
            <a:ext cx="590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reddito complessiv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RPE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R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3" descr="cover-come-pagare-meno-tasse"/>
          <p:cNvPicPr/>
          <p:nvPr/>
        </p:nvPicPr>
        <p:blipFill>
          <a:blip r:embed="rId3"/>
          <a:stretch/>
        </p:blipFill>
        <p:spPr>
          <a:xfrm>
            <a:off x="6227640" y="1989000"/>
            <a:ext cx="26258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218" name="CasellaDiTesto 20"/>
          <p:cNvSpPr/>
          <p:nvPr/>
        </p:nvSpPr>
        <p:spPr>
          <a:xfrm>
            <a:off x="25128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AEE7-4C60-454C-A156-52016956047C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468360" y="3333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Imposte Dir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3213000"/>
            <a:ext cx="590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suddivisione del reddito per mitigare la progressività delle aliquote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’impresa familiare – art. 230 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e società tra Farmaci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’associazione in partecip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1042920" y="1197000"/>
            <a:ext cx="46814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varie tipologie di contribuenti e im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divisione del reddito tra aventi diritto:  titolare / soci / collaborato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70" name="CasellaDiTesto 20"/>
          <p:cNvSpPr/>
          <p:nvPr/>
        </p:nvSpPr>
        <p:spPr>
          <a:xfrm>
            <a:off x="18792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A959-F0D0-419D-8993-A1B6A0F5AA31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332000" y="1916280"/>
            <a:ext cx="6913440" cy="33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ndrea Apostolo – dottore commercialis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consulente di Farma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REA MANAGERIALE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IL FISCO E LA FARMA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224" name="CasellaDiTesto 20"/>
          <p:cNvSpPr/>
          <p:nvPr/>
        </p:nvSpPr>
        <p:spPr>
          <a:xfrm>
            <a:off x="25128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EB19-722B-45B5-B35E-EABA641EB108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468360" y="3333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Imposte Dir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1042920" y="1916280"/>
            <a:ext cx="763272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aratteristica essenziale: è un'imposta proporzionale e separata del reddito d’impresa, applicabile alle imprese individuali e società di persone in contabilità ordinaria per opzione (5 an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liquota fissa del 24% sul reddito di impresa al netto delle somme prelevate dal titolare o dai soci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assazione ad aliquota progressiva del delle somme prelevate dall’imprenditore e dai soci di società di pers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sempio:  utile della aziend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€. 200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- prelievi del titolar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€. 1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= tassazione ad aliquota proporziona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€. 80.000 al 24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= tassazione ad aliquota progressiv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€.120.000 al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468360" y="981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novità per il 2017 : la nuov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 I.R.I.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= imposta sul reddito di i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230" name="CasellaDiTesto 20"/>
          <p:cNvSpPr/>
          <p:nvPr/>
        </p:nvSpPr>
        <p:spPr>
          <a:xfrm>
            <a:off x="25128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3C1D-C52E-48C0-9A45-E1C1B943D7B1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68360" y="3333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Imposte Dir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684360" y="836640"/>
            <a:ext cx="475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dichiarazione dei redditi  - il modello UNICO (fino al 2016) poi il modello REDDI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= riepilogo di tutto quanto riguarda la posizione fiscale del contrib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5508720" y="3357720"/>
            <a:ext cx="316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ate e scad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un calendario di tappe “forzate”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ebbra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arz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pr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agg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iugno / lu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ettembre / nove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826920" y="2637000"/>
            <a:ext cx="381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mposizione della dichiarazione … perdita della sua “unicità”  .. Redd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VA – da quest’anno auton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rap – insieme a Redd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ostituti di imposta - autono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tudi di settore – in esau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4" descr="tasse-calcolare"/>
          <p:cNvPicPr/>
          <p:nvPr/>
        </p:nvPicPr>
        <p:blipFill>
          <a:blip r:embed="rId3"/>
          <a:stretch/>
        </p:blipFill>
        <p:spPr>
          <a:xfrm>
            <a:off x="1042920" y="4724280"/>
            <a:ext cx="3888000" cy="1944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5" descr="unico 2015 untitled"/>
          <p:cNvPicPr/>
          <p:nvPr/>
        </p:nvPicPr>
        <p:blipFill>
          <a:blip r:embed="rId4"/>
          <a:stretch/>
        </p:blipFill>
        <p:spPr>
          <a:xfrm>
            <a:off x="5796000" y="765000"/>
            <a:ext cx="22384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" descr=""/>
          <p:cNvPicPr/>
          <p:nvPr/>
        </p:nvPicPr>
        <p:blipFill>
          <a:blip r:embed="rId2"/>
          <a:stretch/>
        </p:blipFill>
        <p:spPr>
          <a:xfrm>
            <a:off x="7715160" y="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239" name="CasellaDiTesto 20"/>
          <p:cNvSpPr/>
          <p:nvPr/>
        </p:nvSpPr>
        <p:spPr>
          <a:xfrm>
            <a:off x="25128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96B7-540B-4AE9-8B9F-BACAE3601C1B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468360" y="3333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Imposte Dir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684360" y="1052640"/>
            <a:ext cx="8135640" cy="45972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dichiarazione dei redditi  - il pag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324000" y="1700280"/>
            <a:ext cx="3384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li acconti e i sal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il metodo storico e il prevision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saldo e il primo acconto del 40% a giugno o luglio o rateizz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secondo acconto 60% non rateizzab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1" descr="f24_2007esempio1"/>
          <p:cNvPicPr/>
          <p:nvPr/>
        </p:nvPicPr>
        <p:blipFill>
          <a:blip r:embed="rId3"/>
          <a:stretch/>
        </p:blipFill>
        <p:spPr>
          <a:xfrm>
            <a:off x="3780000" y="1989000"/>
            <a:ext cx="5041800" cy="42944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2"/>
          <p:cNvSpPr/>
          <p:nvPr/>
        </p:nvSpPr>
        <p:spPr>
          <a:xfrm>
            <a:off x="611280" y="3284640"/>
            <a:ext cx="30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755640" y="4437000"/>
            <a:ext cx="3095640" cy="173988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primo eserciz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n caso di reddito crescente  il metodo storico e in caso di reddito decrescente il metodo previs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4" descr=""/>
          <p:cNvPicPr/>
          <p:nvPr/>
        </p:nvPicPr>
        <p:blipFill>
          <a:blip r:embed="rId2"/>
          <a:stretch/>
        </p:blipFill>
        <p:spPr>
          <a:xfrm>
            <a:off x="7715160" y="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248" name="CasellaDiTesto 20"/>
          <p:cNvSpPr/>
          <p:nvPr/>
        </p:nvSpPr>
        <p:spPr>
          <a:xfrm>
            <a:off x="25128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9FDE-E57D-4B44-A912-539C8417FA2C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68360" y="3333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Imposte in gen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684360" y="1052640"/>
            <a:ext cx="5256000" cy="1922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controllo delle dichiarazioni fiscali e il potere di accertamento del fis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 controlli form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 controlli sostanz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5724360" y="3645000"/>
            <a:ext cx="2808360" cy="17398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li studi di settore saranno a breve sostituiti da un indicatore del “grado di affidabilità” che terrà conto di vari ind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1187280" y="3213000"/>
            <a:ext cx="3816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1 contribuente su 2 è “congruo” ma ha forzato gli indicator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3" descr="la stampa004"/>
          <p:cNvPicPr/>
          <p:nvPr/>
        </p:nvPicPr>
        <p:blipFill>
          <a:blip r:embed="rId3"/>
          <a:stretch/>
        </p:blipFill>
        <p:spPr>
          <a:xfrm>
            <a:off x="1258920" y="3933720"/>
            <a:ext cx="3311640" cy="26798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74" name="CasellaDiTesto 20"/>
          <p:cNvSpPr/>
          <p:nvPr/>
        </p:nvSpPr>
        <p:spPr>
          <a:xfrm>
            <a:off x="18792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95EE-F687-4F85-A474-DFFA1D225ED8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403280" y="1413000"/>
            <a:ext cx="4248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Introdu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1 - l’obbligo contributivo, artt. 2 – 3 – 23 e 53 della Costituzione Ital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2 – imposte e t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3 – imposte dirette e imposte indiret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4 – il “Fisco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"/>
          <p:cNvPicPr/>
          <p:nvPr/>
        </p:nvPicPr>
        <p:blipFill>
          <a:blip r:embed="rId2"/>
          <a:stretch/>
        </p:blipFill>
        <p:spPr>
          <a:xfrm>
            <a:off x="7715160" y="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78" name="CasellaDiTesto 20"/>
          <p:cNvSpPr/>
          <p:nvPr/>
        </p:nvSpPr>
        <p:spPr>
          <a:xfrm>
            <a:off x="18792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8083-05DB-4493-92A4-FB80378F129E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68360" y="3333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LE TAS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539640" y="1125360"/>
            <a:ext cx="396108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  <a:ea typeface="Arial"/>
              </a:rPr>
              <a:t>IVA - Irpef  - Ires e Irap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 costi esagerati per le azie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ressione fiscale, è record assoluto – dopo il massimo del 44,3% nel 2013 - ne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2015 si è ridotta al 43,4%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In pratica l'Italia è tra i sette paesi, nell'Unione europea a 28, con una pressione fiscale sopra la media. Ci precedono la Francia, con una pressione al 47,9%, la Danimarca (47,6%), il Belgio (47,5%), l'Austria (44,4%), la Svezia (44,2%) e la Finlandia (44,1%). Tra i paesi europei dove il fisco è più leggero, spiccano Irlanda (24,4%), Romania (28%), Bulgaria (29%), Lituania (29,4%) e Lettonia (29,5%)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7" descr="12095448-knJ-U10201492749691BbE-426x240@LaStampa"/>
          <p:cNvPicPr/>
          <p:nvPr/>
        </p:nvPicPr>
        <p:blipFill>
          <a:blip r:embed="rId3"/>
          <a:stretch/>
        </p:blipFill>
        <p:spPr>
          <a:xfrm>
            <a:off x="4788000" y="1773360"/>
            <a:ext cx="4057560" cy="2286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9"/>
          <p:cNvSpPr/>
          <p:nvPr/>
        </p:nvSpPr>
        <p:spPr>
          <a:xfrm>
            <a:off x="4788000" y="4221000"/>
            <a:ext cx="40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Inoltre se si considerano anche i contributi previdenziali l’onere complessivo arriva oltre al 65 % ..   !!  senza contare i costi amministrativi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e troppe regole creano confusione e disapplic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e regole semplici sono applicab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7715160" y="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85" name="CasellaDiTesto 20"/>
          <p:cNvSpPr/>
          <p:nvPr/>
        </p:nvSpPr>
        <p:spPr>
          <a:xfrm>
            <a:off x="18792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8473-8323-406D-8B3D-0319FAC0D3C7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11280" y="333360"/>
            <a:ext cx="432108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Da Il sole 24 ore del 26 novembre 201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Una ricerca più recente indica in 35,6 giorni (di 8 ore lavorative)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 quindi quasi due mesi di lavoro di una 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spetto al 2009 si è riscontrato un incremento dal 6,9% al 7,4% rispetto al fattura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Dal rapporto Paying Taxes 2014 Banca Mondiale, IFC e Pw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er gli adempimenti fiscali in Italia le società impiegano 269 ore all’anno contro le 179 ore impiegate in media da un’impresa europe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econdo i dati del Centro Studi ImpresaLavoro, un azienda media spende 7.600 euro per preparare, compilare e pagare le imposte e i contribu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nostro sistema fiscale è troppo complicato e quindi costo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costo"/>
          <p:cNvPicPr/>
          <p:nvPr/>
        </p:nvPicPr>
        <p:blipFill>
          <a:blip r:embed="rId3"/>
          <a:stretch/>
        </p:blipFill>
        <p:spPr>
          <a:xfrm>
            <a:off x="5364000" y="836640"/>
            <a:ext cx="33404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90" name="CasellaDiTesto 20"/>
          <p:cNvSpPr/>
          <p:nvPr/>
        </p:nvSpPr>
        <p:spPr>
          <a:xfrm>
            <a:off x="18792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BC55-FEB4-4FD8-BBC7-675A483C46FC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042920" y="333360"/>
            <a:ext cx="605016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nozione di valore aggiunto  (all. IVA 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guida-alle-tasse-aliquote-iva-in-italia-e-negli-altri-paesi[1]"/>
          <p:cNvPicPr/>
          <p:nvPr/>
        </p:nvPicPr>
        <p:blipFill>
          <a:blip r:embed="rId3"/>
          <a:stretch/>
        </p:blipFill>
        <p:spPr>
          <a:xfrm>
            <a:off x="6804000" y="333360"/>
            <a:ext cx="1905120" cy="1971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6"/>
          <p:cNvSpPr/>
          <p:nvPr/>
        </p:nvSpPr>
        <p:spPr>
          <a:xfrm>
            <a:off x="2268360" y="2852640"/>
            <a:ext cx="59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93"/>
          <p:cNvSpPr/>
          <p:nvPr/>
        </p:nvSpPr>
        <p:spPr>
          <a:xfrm>
            <a:off x="1116000" y="2781360"/>
            <a:ext cx="74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55"/>
          <p:cNvSpPr/>
          <p:nvPr/>
        </p:nvSpPr>
        <p:spPr>
          <a:xfrm>
            <a:off x="2124000" y="1700280"/>
            <a:ext cx="43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Il meccanismo dell’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56"/>
          <p:cNvSpPr/>
          <p:nvPr/>
        </p:nvSpPr>
        <p:spPr>
          <a:xfrm>
            <a:off x="900000" y="2349360"/>
            <a:ext cx="7993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consumatore finale paga, inglobata nel prezzo l’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s. prezzo del prodott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€ 1.10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va inclusa e incassata dal dettaglian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  € 100,00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Operazioni attive del dettaglian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+ € 10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att.di acquisto del dettagli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 di vendita del grossis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€ 80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va esposta in fattura (800 al 10%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- €  8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05"/>
          <p:cNvSpPr/>
          <p:nvPr/>
        </p:nvSpPr>
        <p:spPr>
          <a:xfrm>
            <a:off x="971640" y="4292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N.B Valore aggiunto del dettagliant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prezzo di vendita al netto dell'iva ( 1100 - 100) </a:t>
            </a: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 € 1.00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prezzo di acquisto </a:t>
            </a: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    € 80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Margine lordo del dettagliante</a:t>
            </a: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   € 200,00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30"/>
          <p:cNvSpPr/>
          <p:nvPr/>
        </p:nvSpPr>
        <p:spPr>
          <a:xfrm>
            <a:off x="1763640" y="5516640"/>
            <a:ext cx="63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31"/>
          <p:cNvSpPr/>
          <p:nvPr/>
        </p:nvSpPr>
        <p:spPr>
          <a:xfrm>
            <a:off x="1547640" y="5445000"/>
            <a:ext cx="67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Liquidazione iva : IVA  su cessione 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+ € 10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IVA  su acquisto 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   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   - € 8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differenza da versare 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= € 20,00</a:t>
            </a:r>
            <a:r>
              <a:rPr b="0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102" name="CasellaDiTesto 20"/>
          <p:cNvSpPr/>
          <p:nvPr/>
        </p:nvSpPr>
        <p:spPr>
          <a:xfrm>
            <a:off x="18792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A28B-63D6-434B-932B-3A79ABCE614E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042920" y="333360"/>
            <a:ext cx="605016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nozione di valore aggiunto  (all. IVA 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guida-alle-tasse-aliquote-iva-in-italia-e-negli-altri-paesi[1]"/>
          <p:cNvPicPr/>
          <p:nvPr/>
        </p:nvPicPr>
        <p:blipFill>
          <a:blip r:embed="rId3"/>
          <a:stretch/>
        </p:blipFill>
        <p:spPr>
          <a:xfrm>
            <a:off x="6804000" y="333360"/>
            <a:ext cx="1905120" cy="1971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2268360" y="2852640"/>
            <a:ext cx="59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116000" y="2781360"/>
            <a:ext cx="74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124000" y="1700280"/>
            <a:ext cx="43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Il meccanismo dell’IVA - se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826920" y="2349360"/>
            <a:ext cx="806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grossista ha venduto al dettagliant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€ 80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ha incassato IV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€ 8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 sua volta aveva pagato alla fabbrica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€ 70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 iva per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€    70,0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n.b. con un suo margine lordo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€ 100,0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1763640" y="5516640"/>
            <a:ext cx="63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826920" y="3933720"/>
            <a:ext cx="77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Liquidazione IVA del grossista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iva su cessione 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+ € 8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iva su acquisto 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                 - € 7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diff. da versare   = € 1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7"/>
          <p:cNvSpPr/>
          <p:nvPr/>
        </p:nvSpPr>
        <p:spPr>
          <a:xfrm>
            <a:off x="1332000" y="508464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liquidazione iva del produttore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 iva su cessione 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 € 7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iva su acquisto 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 €     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differenza da versare 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 € 7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114" name="CasellaDiTesto 20"/>
          <p:cNvSpPr/>
          <p:nvPr/>
        </p:nvSpPr>
        <p:spPr>
          <a:xfrm>
            <a:off x="18792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4873-B74D-465E-94E1-01D8B7ADB31A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95280" y="333360"/>
            <a:ext cx="5832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IVA –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PR 633/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e aliquote IVA (all. IVA 2)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ordinaria = 22% per tutti i beni e i servi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ridotte per taluni beni e serviz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tab. A  ridotte al 4% e al 1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carrello"/>
          <p:cNvPicPr/>
          <p:nvPr/>
        </p:nvPicPr>
        <p:blipFill>
          <a:blip r:embed="rId3"/>
          <a:stretch/>
        </p:blipFill>
        <p:spPr>
          <a:xfrm>
            <a:off x="6372360" y="333360"/>
            <a:ext cx="2476440" cy="23144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1"/>
          <p:cNvSpPr/>
          <p:nvPr/>
        </p:nvSpPr>
        <p:spPr>
          <a:xfrm>
            <a:off x="4140360" y="3429000"/>
            <a:ext cx="4681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concetto di inerenza - anche per l’IVA - e la detrazione parziale dell’iva su alcune tipologie di  acquisti e spese (all. IVA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5" descr="untitled"/>
          <p:cNvPicPr/>
          <p:nvPr/>
        </p:nvPicPr>
        <p:blipFill>
          <a:blip r:embed="rId4"/>
          <a:stretch/>
        </p:blipFill>
        <p:spPr>
          <a:xfrm>
            <a:off x="684360" y="278136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122" name="CasellaDiTesto 20"/>
          <p:cNvSpPr/>
          <p:nvPr/>
        </p:nvSpPr>
        <p:spPr>
          <a:xfrm>
            <a:off x="18792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87CD-5082-447A-ADC9-A46CA5780412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724360" y="1052640"/>
            <a:ext cx="2953080" cy="33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liquidazione iva periodica infra ann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determinazione dell’iva di perio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versamento o riporto del credito 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versamento 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68360" y="189000"/>
            <a:ext cx="813600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I libri contabili per gli obblighi IV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(all. IVA 4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755640" y="1052640"/>
            <a:ext cx="4681440" cy="2113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 REGISTRI CONTABILI 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registro delle fatture em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registro dei corrisp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registro degli acqui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250920" y="3429000"/>
            <a:ext cx="5329080" cy="15570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ventilazione:  il metodo per la suddivisione proporzionale delle vendite in base alla proporzione degli acqui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195640" y="5229360"/>
            <a:ext cx="6410160" cy="11912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’iva ad esigibilità differita – split payment – e fatturazione elettronica per le vendite effettuate allo Stato e agli Enti Pubbl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10:11Z</dcterms:created>
  <dc:creator>Andrea</dc:creator>
  <dc:description/>
  <dc:language>en-US</dc:language>
  <cp:lastModifiedBy>Master</cp:lastModifiedBy>
  <cp:lastPrinted>2017-03-01T09:46:25Z</cp:lastPrinted>
  <dcterms:modified xsi:type="dcterms:W3CDTF">2017-03-01T10:56:45Z</dcterms:modified>
  <cp:revision>136</cp:revision>
  <dc:subject/>
  <dc:title>Diapositiva 1</dc:title>
</cp:coreProperties>
</file>