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538B-8CBB-4945-8E48-6053C0E61A9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5997-6C5B-4973-AEA8-0018715AC54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930-1EE7-4B21-8AC1-BB2A19FA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234-4E9A-424A-B02A-16274B62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0D6-6690-4600-9C2F-E32C48F4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F75F-7A46-4D07-8ED6-A64201D0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F30-A4CE-4FBD-A38A-63618579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9D6-C0BA-48AA-8F3C-4FABAB2E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F7A-112C-40E7-A9FC-FA4802B0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FB0-485E-430F-95CB-3B2C2AC7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59C-E159-422F-9E30-95D945FC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E17-762A-4D34-8317-266277E3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E07-19DD-4C8B-977E-34148499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156-5FF9-4A9A-A8E7-9E4308A5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161F-7821-4C15-A94A-CC7520E2E9F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VERAGE CERTIFIC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no livello di rischio più elevato e permettono di partecipare in modo amplificato all’andamento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minore: 1-2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cadenza si comportano come normali opzioni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a cessano di esistere e vengono liquidati anticipatamente se il sottostante tocca la barriera o lo stop loss in qualunque momento durante la vita del 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empio di leverage certificate “bull”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trike 16.500; barriera 16.890; multiplo 0,0001; Prezzo di mercato 0,352€; prezzo sottostante (valore Indice) 19.705; scadenza 2 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1. L’indice tocca la barriera prima de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certificato cessa di esistere e viene liquidato al prezzo di stop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750 liquidato 0,025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350 liquida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2. L’indice sottostante non tocca il livello barr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21.350 punti: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21.350 – 16.500) x 0,0001 = 0,48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indice 8,3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certificato 37,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18.525 pu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8.525 – 16.500) x 0,0001 = 0,202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indice del 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certificato del 42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4284720" y="3933720"/>
            <a:ext cx="4535280" cy="863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284720" y="2852640"/>
            <a:ext cx="3311640" cy="5050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284720" y="1844640"/>
            <a:ext cx="3743280" cy="432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0099"/>
                </a:solidFill>
                <a:latin typeface="Comic Sans MS"/>
              </a:rPr>
              <a:t>I CERTIF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trumenti derivati cartolarizz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non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INVESTMENT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CERTIFICATES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condiziona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LE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CERTIF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V="1">
            <a:off x="3419640" y="2205000"/>
            <a:ext cx="720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3419640" y="30686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3419640" y="3429000"/>
            <a:ext cx="64764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99"/>
                </a:solidFill>
                <a:latin typeface="Comic Sans MS"/>
              </a:rPr>
              <a:t>MOLTEPLICI SOTTOSTA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INVESTMENT CERTIFICATES tipo BENCH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compresa tra 2 e 5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 opzione call con strike uguale a zero (sempre deep-in-the-mo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sibilità nulla o comunque molto ridotta rispetto al tempo mancante alla scadenza e alla volatilità del sottostante; minori difficoltà a “prezzare” 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Comic Sans MS"/>
              </a:rPr>
              <a:t>Profilo rischio/rendimento del Certificate Bench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stment Certificate su FTSE/MIB: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ultiplo 0,0001; prezzo di mercato 2,405€; Valore indice 27.333; vita residua 3 a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 VALUTARE L’OPPORTUNITA’ DI INVESTIMEN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olare lo sconto del certifi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frontare entità sconto con tasso annuale divide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,4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% = 1 -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x 100 = 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7.333 x 0,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annualizzato (1 + 0,12)</a:t>
            </a:r>
            <a:r>
              <a:rPr b="1" lang="it-IT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⅓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1 = 3,8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a scadenza l’indice FTSE/MIB vale 29.5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’importo liquidato: 29520 x 0,0001 = 2,952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ndimento di periodo: 22,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3276720" y="227664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99"/>
                </a:solidFill>
                <a:latin typeface="Comic Sans MS"/>
              </a:rPr>
              <a:t>A CAPITALE PROT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eguono l’andamento di un sottotante ma viene fissato un livello minimo di riborso fin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Struttu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: acquisto di call con strike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cquisto di put con strike = liv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i prote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5:19:37Z</dcterms:created>
  <dc:creator>Patrizia Pia</dc:creator>
  <dc:description/>
  <dc:language>en-US</dc:language>
  <cp:lastModifiedBy>Damilano</cp:lastModifiedBy>
  <cp:lastPrinted>2012-05-03T09:16:04Z</cp:lastPrinted>
  <dcterms:modified xsi:type="dcterms:W3CDTF">2012-05-03T12:02:52Z</dcterms:modified>
  <cp:revision>5</cp:revision>
  <dc:subject/>
  <dc:title>Diapositiva 1</dc:title>
</cp:coreProperties>
</file>