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A0C-DE04-435D-A5A5-8C5A286FF7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07F-04A5-45FD-9783-CEB2EFC3C9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1B7-272C-421E-96ED-ED4624F8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F91-ABE0-431D-8C19-4CB5C047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E20-09B6-4946-8F51-748B71D7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204-6A33-4C77-BA55-8D0326AB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42D-7C52-42E1-B60A-78BAA01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C46-98AB-447C-8298-E72AFFD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8EE-4203-4AC5-A237-B9B852B9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A64-C929-453E-8C0D-22D7AD47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533-B1CA-4C3C-BF71-099021D6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D96-263F-41C7-BDC5-5609C162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AB0-1CAE-4DE5-877F-CB50E6A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C76-1D88-4908-865A-D9B62481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628C-ED6E-410B-8B36-152935A36AC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LE OBBLIGAZIONI STRUTT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FLOATER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dicizzazione inversa (con eventuale “amplificazion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 PIU’ INTEREST RATE SWAP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stitore paga variabile e riceve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 evitare cedol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eriore elemento di struttur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. OPZIONE CAP SUL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IXED REVERSE FLOATER: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dem ma vendita IRS con partenza diffe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5400000">
            <a:off x="1625040" y="199368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XCHANGEABLE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“trasformabi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SWAPTION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e conferisce all’emittente la facoltà di entrare in un contratto interest rate swap a condizioni prede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DERIVATI AZIO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TRAIGHT BOND / ZERO COUPO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OPZIONI CALL / PUT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singo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indici di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panieri di f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BLIGAZ. CON VALORE DI RIMB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TY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X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BBLIGAZIONI REVERSE CONVERTIBLE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076720" y="2131920"/>
            <a:ext cx="216000" cy="115272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QUITY/INDEX/FUND LIN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ore di rimborso indicizz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minimo garantito + premio di rimborso indicizz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QUITY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CALL O PUT SU UN’AZIONE DI RIFERIMENTO CON SCADENZA PARI A QUELLA DELL’EMIS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l’investitore può approfittare di un rialzo; s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unta su un ribasso dell’azione di rifer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28720" y="342900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vente uso di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ZIONI ASIATICH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l cui payoff dipende da un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valori registrati nel corso di un certo period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tempo (MINORE VOLATILITA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 rot="5400000">
            <a:off x="2057040" y="1839960"/>
            <a:ext cx="493560" cy="360360"/>
          </a:xfrm>
          <a:custGeom>
            <a:avLst/>
            <a:gdLst>
              <a:gd name="textAreaLeft" fmla="*/ 0 w 493560"/>
              <a:gd name="textAreaRight" fmla="*/ 423000 w 49356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CONVER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imborso può avvenire, anziché in forma monetaria, attraverso la consegna di un numero prestabilito d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NO VERE OBBLI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DI 1 O PIU’ OPZIONI PUT ALL’E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uadagno limitato a fronte di perdita potenzialmente illimi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076640"/>
            <a:ext cx="287640" cy="504720"/>
          </a:xfrm>
          <a:custGeom>
            <a:avLst/>
            <a:gdLst>
              <a:gd name="textAreaLeft" fmla="*/ 38520 w 287640"/>
              <a:gd name="textAreaRight" fmla="*/ 249120 w 2876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R MITIGARE IL RISCH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PZIONI PUT DI TIPO “KNOCK-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 attivan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o al raggiungimento di determin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arri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KNOCK-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tto di vendere solo nel caso in cui la quotazione &lt; soglia prestabilita (&lt; strik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1983600" y="257004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CREDIT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46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TITOLO DI DEB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REDIT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(CREDIT DEFAULT S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DIT LINKED NOTES (CL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in giù 1"/>
          <p:cNvSpPr/>
          <p:nvPr/>
        </p:nvSpPr>
        <p:spPr>
          <a:xfrm>
            <a:off x="4500720" y="3716280"/>
            <a:ext cx="14256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REDIT DEFAULT SWAP</a:t>
            </a: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- DEFINIZION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o mediante il quale una 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BUY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paga una commissione periodica, generalmente espressa in punti base fissi sull’ammontare nozionale, contro un pagamento da effettuarsi dalla contro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in caso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EDIT EVEN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a terza parte (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O DI RIFE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OBBLIGAZIONI STRUTTURATE</a:t>
            </a:r>
            <a:br>
              <a:rPr sz="3600"/>
            </a:b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toli che nascono come risultato dell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fusion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fra un’obbligazione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plain vanilla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oppure un titolo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zero-coupon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e uno o più strumenti derivati, frequentemente appartenenti alla famiglia delle op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CREDIT LINKED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il cui acquisto comporta, per l’investitore, l’assunzione del ruolo di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esse direttamente da una società (finanzi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ynthetic securi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ute direttamente agli investitori (istitu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pio rischio di controparte per l’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a destra rientrata 2"/>
          <p:cNvSpPr/>
          <p:nvPr/>
        </p:nvSpPr>
        <p:spPr>
          <a:xfrm>
            <a:off x="971640" y="378936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 destra rientrata 6"/>
          <p:cNvSpPr/>
          <p:nvPr/>
        </p:nvSpPr>
        <p:spPr>
          <a:xfrm>
            <a:off x="971640" y="551664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PRINCIPALI TIP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SUI TASSI DI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ped, floored e collar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floater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changea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DI NATURA AZIO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quity, index, fund link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converti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CREDI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dit linked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SPECIAL PURPOSE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con DERIVATI SUI TASSI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BBLIGAZIONE PLAIN VA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pped, floored e collared; exchang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verse floater e fixed reverse flo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47640" y="3357720"/>
            <a:ext cx="71640" cy="19429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APPED/FLOORED/COLLARED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mitazioni alla variabilità della ce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PP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5640" y="249228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UN TASSO CORRENTE DI MERCATO E LO STRIKE RATE PREDEFINI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NTRATTO,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ETTO MAX COSTO DI UN PRES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LOO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84360" y="105264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FLO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LO STRIKE RATE E UN TASSO CORRENTE DI MERC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AVIMENTO MIN . RENDIMENTO DI UN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OLLA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84360" y="76356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16:44Z</dcterms:created>
  <dc:creator>Marina Damilano</dc:creator>
  <dc:description/>
  <dc:language>en-US</dc:language>
  <cp:lastModifiedBy>docenti</cp:lastModifiedBy>
  <dcterms:modified xsi:type="dcterms:W3CDTF">2012-05-05T11:58:49Z</dcterms:modified>
  <cp:revision>24</cp:revision>
  <dc:subject/>
  <dc:title>Diapositiva 1</dc:title>
</cp:coreProperties>
</file>