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9CF-554D-452A-823D-7102DB42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AF8-DDAC-46BC-8C14-659487BC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8BA-CE46-4A1B-9F56-9707B826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881-4E9C-4752-BD3D-E9E578ED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209-209A-4F63-88F6-6FB0DD05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C99-616C-4CBB-9E3F-687F2085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D94-D276-45B7-912F-3F8A4BA5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C21-A645-4D9D-A4D6-C74FA6A9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FA8-AA4E-4888-BE13-26663DC2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C91-98D3-47A5-9986-88263B30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92E-3370-46AA-B7FA-0E15375C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4B3-D426-4D84-BE42-71E2EF30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EDB0-4A52-474C-8E2D-446849F2C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 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CHE COSA S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BASATI SU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SOTTOSTANTI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TTIVITA’ FINANZIARIE (o RE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TRE PRINCIPALI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 CATEGORIE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A CHE COSA SERV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PER LA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GESTIONE DEL RISCH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ULAZIONE (TR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iminazione totale o parziale del rischio di variazione dei prezzi sulle posizioni detenute nel mercato a p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ULAZIONE (TRAD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icerca del rischio nella speranza di massimizzare i 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fruttamento di temporanee inefficienze del mercato nel suo compl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NASCITA E SVILUPPO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Il mercato dei derivati, nato nei primi anni ’70, si è enormemente sviluppato nel corso degli ultimi dec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I REGOLA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O “OT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UTILITA’ DEI DERIVATI PER UN EFFICIENTE FUNZIONAMENTO DEI MERCATI FINANZ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35280" y="4149720"/>
            <a:ext cx="43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4365720"/>
            <a:ext cx="4330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Marina Damilano</cp:lastModifiedBy>
  <dcterms:modified xsi:type="dcterms:W3CDTF">2012-02-08T14:13:39Z</dcterms:modified>
  <cp:revision>3</cp:revision>
  <dc:subject/>
  <dc:title>Diapositiva 1</dc:title>
</cp:coreProperties>
</file>