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D04-7879-4400-90AA-91CFBDD9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57A-E08A-4FEA-A8FD-CC4D3E25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563-8B50-4E46-9373-65E15B53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479-45E8-4A28-98C4-04B3EDD2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417-42CF-493B-BE02-2132663C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0F9-661D-490D-BC9C-8E193D23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DAE-F318-4929-AB01-93EA48B5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785-5814-45F1-94B3-8187CCE8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A321-D152-4444-BF63-FDF57E58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3079-5796-4A9B-B89A-7E8E0A3A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6A5-16F4-4F46-A870-8ED26956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B3F-615E-4256-815D-11494CAB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E602-19C7-4B62-BA28-B5D0113FC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I 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CHE COSA S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BASATI SU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SOTTOSTANTI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TTIVITA’ FINANZIARIE (o RE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TRE PRINCIPALI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 CATEGORIE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A CHE COSA SERV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PER LA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GESTIONE DEL RISCH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ULAZIONE (TR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63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liminazione totale o parziale del rischio di variazione dei prezzi sulle posizioni detenute nel mercato a pro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ECULAZIONE (TRAD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icerca del rischio nella speranza di massimizzare i 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fruttamento di temporanee inefficienze del mercato nel suo compl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NASCITA E SVILUPPO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Il mercato dei derivati, nato nei primi anni ’70, si è enormemente sviluppato nel corso degli ultimi dece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I REGOLAMEN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O “OT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UTILITA’ DEI DERIVATI PER UN EFFICIENTE FUNZIONAMENTO DEI MERCATI FINANZIA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835280" y="4149720"/>
            <a:ext cx="4330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4365720"/>
            <a:ext cx="43308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Marina Damilano</cp:lastModifiedBy>
  <dcterms:modified xsi:type="dcterms:W3CDTF">2012-02-08T14:13:39Z</dcterms:modified>
  <cp:revision>3</cp:revision>
  <dc:subject/>
  <dc:title>Diapositiva 1</dc:title>
</cp:coreProperties>
</file>