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10015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DB53-B5D1-476C-AE5B-3EEF893C5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9D65-8CD8-4521-9753-4A22D978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835E-BE57-42AE-AE58-D95584719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27D2-022B-4DE6-A8CC-5B31E8233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4D7B-932A-451F-B357-7CEFF2B3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902D-EB0A-4708-A04B-3B1DD747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B7EE-54EC-4569-A1BF-7A0D99FF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A056-07BB-4A51-99BE-D0250373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45A5-41E2-44E3-8006-EAC37C45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75C9-59D9-4D29-BF7E-335493C6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80E2-3C91-4F15-BB92-72DF860E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E11C-F123-4271-8F88-9C164791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003C-6239-4724-B2DE-264A4F91AD8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66"/>
                </a:solidFill>
                <a:latin typeface="Comic Sans MS"/>
              </a:rPr>
              <a:t>LA VALUTAZIONE DEI TITO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TITOLO MIGLIO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08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ASSI INATT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REZZO è funzione di 2 fattori principa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VITA RESID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IVELLO E FREQUANZA CED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E NON E’ POSSIBI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TABILIRE DELLE PRIORITA’     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D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1763640" y="1773360"/>
            <a:ext cx="0" cy="43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>
            <a:off x="5508720" y="522936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"/>
          <p:cNvSpPr/>
          <p:nvPr/>
        </p:nvSpPr>
        <p:spPr>
          <a:xfrm>
            <a:off x="1476360" y="2924280"/>
            <a:ext cx="142920" cy="1224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omic Sans MS"/>
              </a:rPr>
              <a:t>DU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DEFINIZION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Media aritmetica delle scadenze dei flussi di un titolo, dove ogni scadenza viene ponderata in base al rapporto fra valore attuale del flusso in maturazione a quella scadenza e prezzo del tito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6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UTILIZZI PRATICI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GRADUATORIA DI RISC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ELEZIONE DEI TITOLI IN BASE AL RAPPORTO TRES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TIMA DEL GRADO DI SENSIBILITA’ DEL PREZZO DI UN TITOLO (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URATION MODIFICAT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Comic Sans MS"/>
              </a:rPr>
              <a:t>LA VALUTAZIONE DI UN INVESTIMENTO AZION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92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INCERTEZ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TIMA DEL RENDIMENTO DI UNA AZION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ividend Y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ice/Earn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ice/Cash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Book to Market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80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B)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RISCHIO DI UN INVESTIMENTO IN AZION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ISCHIO SPECIFICO o NON SISTEMATICO (non correlato fra imprese, diversificabi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ISCHIO SISTEMATICO O DI MERCATO (correlato fra imprese, non diversificabi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DERIV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6732720" y="486900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66"/>
                </a:solidFill>
                <a:latin typeface="Comic Sans MS"/>
              </a:rPr>
              <a:t>LA VALUTAZIONE DEI TITO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Quello che rende di più, a parità di risch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Quello meno rischioso, a parità di rend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Comic Sans MS"/>
              </a:rPr>
              <a:t>CHE COS’E’ IL RENDIMEN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Esprime il 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risultato economic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di un’operazione finanziaria (misura la redditività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Per convenzione viene espresso 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in termini percentuali su base ann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E’ funzione dell’intero 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“profilo finanziario”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dell’oper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Comic Sans MS"/>
              </a:rPr>
              <a:t>CHE COSA SI INTENDE PER RISCHI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01924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L’impossibilità di prevedere con esattezza il risultato economic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di una determinata operazi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RISCHI FINANZIA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RISCHI PU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Comic Sans MS"/>
              </a:rPr>
              <a:t>COME SI CALCOLA IL RENDIMENTO DI UN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01924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TITOLI CON PROFILO FINANZIARIO SEMPLICE (ZC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TITOLI CON PROFILO FINANZIARIO COMPLESSO (CON CEDO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Comic Sans MS"/>
              </a:rPr>
              <a:t>ZERO COUPON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it-IT" sz="32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[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(M/C) - 1)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] x 1/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da  M = C + I  con I = C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M = C(1+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i</a:t>
            </a:r>
            <a:r>
              <a:rPr b="1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c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= (M/C)</a:t>
            </a:r>
            <a:r>
              <a:rPr b="1" lang="it-IT" sz="32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1/t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– 1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da 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1ann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=C + I  con I = C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1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= C(1+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    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2ann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=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1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+I  con I =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= C(1+i)</a:t>
            </a:r>
            <a:r>
              <a:rPr b="0" lang="it-IT" sz="32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t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= 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t-1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+I  con I=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t-1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t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= C(1+i)</a:t>
            </a:r>
            <a:r>
              <a:rPr b="0" lang="it-IT" sz="32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Comic Sans MS"/>
              </a:rPr>
              <a:t>TITOLO CON CE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C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1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C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2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 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C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RES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PA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ctq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= ---------- + ---------- +……+ 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(1+tres)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t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1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(1+tres)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t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2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  (1+tres)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t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CORSO SEC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CORSO TEL QUEL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Comic Sans MS"/>
              </a:rPr>
              <a:t>DIVERSE TIPOLOGIE DI RISCHIO DI UN INVESTIMENTO OBBLIGAZION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01924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Rischio di credito o emitt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Rischio di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Rischio di liquidità (naturale e/o artificia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Rischio di infl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Rischio di tasso di intere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cc"/>
                </a:solidFill>
                <a:latin typeface="Comic Sans MS"/>
              </a:rPr>
              <a:t>RISCHIO DI INTERES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FATTORI DI RISCH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scostamento tra rendimento effettivo ex post e rendimento effettivo ex a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RISCHIO REINVEST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RISCHIO PREZ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ASSI INATT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4"/>
          <p:cNvSpPr/>
          <p:nvPr/>
        </p:nvSpPr>
        <p:spPr>
          <a:xfrm flipV="1">
            <a:off x="4067280" y="450828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4067280" y="4869000"/>
            <a:ext cx="43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0:44:31Z</dcterms:created>
  <dc:creator>Marina Damilano</dc:creator>
  <dc:description/>
  <dc:language>en-US</dc:language>
  <cp:lastModifiedBy>Ute Formazione Banco Di Napoli</cp:lastModifiedBy>
  <cp:lastPrinted>2012-11-21T08:40:27Z</cp:lastPrinted>
  <dcterms:modified xsi:type="dcterms:W3CDTF">2012-11-23T09:30:06Z</dcterms:modified>
  <cp:revision>11</cp:revision>
  <dc:subject/>
  <dc:title>LA VALUTAZIONE DEI TITOLI</dc:title>
</cp:coreProperties>
</file>