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57D1-7D96-44E5-A30D-E31E8867A66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98A6-D3DE-4EC7-AF4F-3B5EB998146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1F11-DC4C-45BB-A529-E994429A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4C3C-EFB2-455C-867D-007BC195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AFC1-EDC4-44B9-83F1-DAACCA35F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E566-7E27-46C1-9E85-DF6E6FA77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3073-0B06-4523-943C-9AFDB6BF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5ECA-F8BE-4EF4-BB37-7D2A89C4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B20C-7668-44FA-83F1-54C18F1C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B46D-862E-42A5-9AA4-3B56006F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3DCE-04AD-4864-A3CD-AA897B45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0C66-0566-4D93-BB7C-5A0BBABC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4397-956F-42B7-8070-7D50613D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2ED1-0D5D-486B-BD42-AC7496B6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3214-4FDB-442B-93F9-E4FEF0AE483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808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00ff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ff"/>
                </a:solidFill>
                <a:uFillTx/>
                <a:latin typeface="Arial"/>
              </a:rPr>
              <a:t>I CERTIF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VERAGE CERTIFIC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orporano livello di rischio più elevato e permettono di partecipare in modo amplificato all’andamento del sotto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urata minore: 1-2 a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scadenza si comportano come normali opzioni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l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a cessano di esistere e vengono liquidati anticipatamente se il sottostante tocca la barriera o lo stop loss in qualunque momento durante la vita del certif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empio di leverage certificate “bull”: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trike 16.500; barriera 16.890; multiplo 0,0001; Prezzo di mercato 0,352€; prezzo sottostante (valore Indice) 19.705; scadenza 2 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1. L’indice tocca la barriera prima della scad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certificato cessa di esistere e viene liquidato al prezzo di stop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zzo minimo toccato 16.750 liquidato 0,025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zzo minimo toccato 16.350 liquidato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362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2. L’indice sottostante non tocca il livello barri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l’indice vale 21.350 punti: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21.350 – 16.500) x 0,0001 = 0,485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remento indice 8,3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remento certificato 37,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l’indice vale 18.525 pun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18.525 – 16.500) x 0,0001 = 0,2025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iduzione indice del 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iduzione certificato del 42,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4284720" y="3933720"/>
            <a:ext cx="4535280" cy="863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4284720" y="2852640"/>
            <a:ext cx="3311640" cy="50508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4284720" y="1844640"/>
            <a:ext cx="3743280" cy="4320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0099"/>
                </a:solidFill>
                <a:latin typeface="Comic Sans MS"/>
              </a:rPr>
              <a:t>I CERTIF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trumenti derivati cartolarizz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 capitale non prot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INVESTMENT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 capitale prot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CERTIFICATES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 capitale condizionat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ot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99"/>
                </a:solidFill>
                <a:latin typeface="Comic Sans MS"/>
              </a:rPr>
              <a:t>LE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99"/>
                </a:solidFill>
                <a:latin typeface="Comic Sans MS"/>
              </a:rPr>
              <a:t>CERTIFIC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 flipV="1">
            <a:off x="3419640" y="2205000"/>
            <a:ext cx="72072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3419640" y="306864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>
            <a:off x="3419640" y="3429000"/>
            <a:ext cx="64764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0099"/>
                </a:solidFill>
                <a:latin typeface="Comic Sans MS"/>
              </a:rPr>
              <a:t>MOLTEPLICI SOTTOSTA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INVESTMENT CERTIFICATES tipo BENCH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urata compresa tra 2 e 5 a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orpora opzione call con strike uguale a zero (sempre deep-in-the-mon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nsibilità nulla o comunque molto ridotta rispetto al tempo mancante alla scadenza e alla volatilità del sottostante; minori difficoltà a “prezzare” i certif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Comic Sans MS"/>
              </a:rPr>
              <a:t>Profilo rischio/rendimento del Certificate Benchm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vestment Certificate su FTSE/MIB: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ultiplo 0,0001; prezzo di mercato 2,405€; Valore indice 27.333; vita residua 3 an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 VALUTARE L’OPPORTUNITA’ DI INVESTIMENT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colare lo sconto del certific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frontare entità sconto con tasso annuale dividen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,4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conto % = 1 -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x 100 = 1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7.333 x 0,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conto annualizzato (1 + 0,12)</a:t>
            </a:r>
            <a:r>
              <a:rPr b="1" lang="it-IT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⅓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- 1 = 3,8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a scadenza l’indice FTSE/MIB vale 29.5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’importo liquidato: 29520 x 0,0001 = 2,952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ndimento di periodo: 22,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>
            <a:off x="3276720" y="2276640"/>
            <a:ext cx="26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0099"/>
                </a:solidFill>
                <a:latin typeface="Comic Sans MS"/>
              </a:rPr>
              <a:t>A CAPITALE PROTE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eguono l’andamento di un sottotante ma viene fissato un livello minimo di riborso fin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Struttur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: acquisto di call con strike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acquisto di put con strike = live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di prote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5:19:37Z</dcterms:created>
  <dc:creator>Patrizia Pia</dc:creator>
  <dc:description/>
  <dc:language>en-US</dc:language>
  <cp:lastModifiedBy>Damilano</cp:lastModifiedBy>
  <cp:lastPrinted>2012-05-03T09:16:04Z</cp:lastPrinted>
  <dcterms:modified xsi:type="dcterms:W3CDTF">2012-05-03T12:02:52Z</dcterms:modified>
  <cp:revision>5</cp:revision>
  <dc:subject/>
  <dc:title>Diapositiva 1</dc:title>
</cp:coreProperties>
</file>