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B3C1-14F7-4D09-86FE-75FC4709044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E54C-9D3A-4A11-BF01-BCDFCB4FAB2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E7C0-1E94-4349-B4F3-C7DFD27D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4A56-90F2-48AB-83E0-023E4337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5C88-A252-41B4-8FED-77A52F91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7465-4453-4524-9D15-C16C671F0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6996-DB18-4E54-9C7A-B94B6A9E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D56E-0042-451B-B2F8-783E88BC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E86C-9296-432D-8FFC-D3237AFE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94A9-328B-46C8-8E81-D1DD7341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6F4D-1C4D-46B4-A91C-CEEB609F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E6CE-8AEF-47AF-9CF6-83424B2D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0AD8-FB45-45BD-A66A-49B88D8E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FADC-7BC9-45B2-8B72-C63A9329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C42E-CE51-452E-8D60-9D55EC0D0EA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664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3399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Arial"/>
              </a:rPr>
              <a:t>LE OBBLIGAZIONI STRUTT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Comic Sans MS"/>
              </a:rPr>
              <a:t>REVERSE FLOATER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ndicizzazione inversa (con eventuale “amplificazion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003399"/>
                </a:solidFill>
                <a:uFillTx/>
                <a:latin typeface="Comic Sans MS"/>
                <a:ea typeface="Times New Roman"/>
              </a:rPr>
              <a:t>Strutturazione</a:t>
            </a:r>
            <a:r>
              <a:rPr b="1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IONE PLAIN VANIL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tasso fis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ITA 1 O PIU’ INTEREST RATE SWAP  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investitore paga variabile e riceve fis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sempio 6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900000" y="2779560"/>
            <a:ext cx="287280" cy="50508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5080"/>
              <a:gd name="textAreaBottom" fmla="*/ 366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Per evitare cedole neg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lteriore elemento di strutturazi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. OPZIONE CAP SUL VARI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FIXED REVERSE FLOATER: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idem ma vendita IRS con partenza differ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 rot="5400000">
            <a:off x="1625040" y="1993680"/>
            <a:ext cx="493920" cy="360360"/>
          </a:xfrm>
          <a:custGeom>
            <a:avLst/>
            <a:gdLst>
              <a:gd name="textAreaLeft" fmla="*/ 0 w 493920"/>
              <a:gd name="textAreaRight" fmla="*/ 423360 w 493920"/>
              <a:gd name="textAreaTop" fmla="*/ 24048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Comic Sans MS"/>
              </a:rPr>
              <a:t>EXCHANGEABLE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itoli “trasformabil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003399"/>
                </a:solidFill>
                <a:uFillTx/>
                <a:latin typeface="Comic Sans MS"/>
                <a:ea typeface="Times New Roman"/>
              </a:rPr>
              <a:t>Strutturazione</a:t>
            </a:r>
            <a:r>
              <a:rPr b="1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IONE PLAIN VANIL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tasso fis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ITA 1 SWAPTION  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he conferisce all’emittente la facoltà di entrare in un contratto interest rate swap a condizioni predefin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900000" y="2779560"/>
            <a:ext cx="287280" cy="50508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5080"/>
              <a:gd name="textAreaBottom" fmla="*/ 366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…</a:t>
            </a: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con DERIVATI AZION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80360" cy="46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STRAIGHT BOND / ZERO COUPON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+ OPZIONI CALL / PUT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u singole 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u indici di bo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u panieri di fon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BBLIGAZ. CON VALORE DI RIMBO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QUITY LIN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DEX LIN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UND LIN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OBBLIGAZIONI REVERSE CONVERTIBLE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5076720" y="2131920"/>
            <a:ext cx="216000" cy="1152720"/>
          </a:xfrm>
          <a:custGeom>
            <a:avLst/>
            <a:gdLst>
              <a:gd name="textAreaLeft" fmla="*/ 63360 w 216000"/>
              <a:gd name="textAreaRight" fmla="*/ 216360 w 216000"/>
              <a:gd name="textAreaTop" fmla="*/ 47880 h 1152720"/>
              <a:gd name="textAreaBottom" fmla="*/ 1104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Comic Sans MS"/>
              </a:rPr>
              <a:t>EQUITY/INDEX/FUND LIN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alore di rimborso indicizz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(minimo garantito + premio di rimborso indicizza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QUITY LIN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003399"/>
                </a:solidFill>
                <a:uFillTx/>
                <a:latin typeface="Comic Sans MS"/>
                <a:ea typeface="Times New Roman"/>
              </a:rPr>
              <a:t>Strutturazione</a:t>
            </a:r>
            <a:r>
              <a:rPr b="1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. (STRAIGHT BOND O ZC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PZIONE CALL O PUT SU UN’AZIONE DI RIFERIMENTO CON SCADENZA PARI A QUELLA DELL’EMISS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all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l’investitore può approfittare di un rialzo; s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unta su un ribasso dell’azione di riferim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i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sempio 6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828720" y="3429000"/>
            <a:ext cx="287280" cy="50472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vente uso di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PZIONI ASIATICHE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zioni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OTICH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l cui payoff dipende da una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edi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ei valori registrati nel corso di un certo period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i tempo (MINORE VOLATILITA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 rot="5400000">
            <a:off x="2057040" y="1839960"/>
            <a:ext cx="493560" cy="360360"/>
          </a:xfrm>
          <a:custGeom>
            <a:avLst/>
            <a:gdLst>
              <a:gd name="textAreaLeft" fmla="*/ 0 w 493560"/>
              <a:gd name="textAreaRight" fmla="*/ 423000 w 493560"/>
              <a:gd name="textAreaTop" fmla="*/ 24048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Comic Sans MS"/>
              </a:rPr>
              <a:t>REVERSE CONVERT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rimborso può avvenire, anziché in forma monetaria, attraverso la consegna di un numero prestabilito di 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NO VERE OBBLIG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003399"/>
                </a:solidFill>
                <a:uFillTx/>
                <a:latin typeface="Comic Sans MS"/>
                <a:ea typeface="Times New Roman"/>
              </a:rPr>
              <a:t>Strutturazione</a:t>
            </a:r>
            <a:r>
              <a:rPr b="1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. (STRAIGHT BOND O ZC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ITA DI 1 O PIU’ OPZIONI PUT ALL’EMIT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guadagno limitato a fronte di perdita potenzialmente illimit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sempio 6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826920" y="4076640"/>
            <a:ext cx="287640" cy="504720"/>
          </a:xfrm>
          <a:custGeom>
            <a:avLst/>
            <a:gdLst>
              <a:gd name="textAreaLeft" fmla="*/ 38520 w 287640"/>
              <a:gd name="textAreaRight" fmla="*/ 249120 w 28764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ER MITIGARE IL RISCH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OPZIONI PUT DI TIPO “KNOCK-I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ZIONI ESOTICH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c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i attivan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olo al raggiungimento di determinat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barrier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i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T KNOCK-I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ritto di vendere solo nel caso in cui la quotazione &lt; soglia prestabilita (&lt; strike pr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"/>
          <p:cNvSpPr/>
          <p:nvPr/>
        </p:nvSpPr>
        <p:spPr>
          <a:xfrm rot="5400000">
            <a:off x="1983600" y="2570040"/>
            <a:ext cx="493920" cy="360360"/>
          </a:xfrm>
          <a:custGeom>
            <a:avLst/>
            <a:gdLst>
              <a:gd name="textAreaLeft" fmla="*/ 0 w 493920"/>
              <a:gd name="textAreaRight" fmla="*/ 423360 w 493920"/>
              <a:gd name="textAreaTop" fmla="*/ 24048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…</a:t>
            </a: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con CREDIT DERIV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46400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TITOLO DI DEB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+ 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CREDIT DERIV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     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(CREDIT DEFAULT SW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         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EDIT LINKED NOTES (CL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ccia in giù 1"/>
          <p:cNvSpPr/>
          <p:nvPr/>
        </p:nvSpPr>
        <p:spPr>
          <a:xfrm>
            <a:off x="4500720" y="3716280"/>
            <a:ext cx="142560" cy="792360"/>
          </a:xfrm>
          <a:prstGeom prst="downArrow">
            <a:avLst>
              <a:gd name="adj1" fmla="val 50000"/>
              <a:gd name="adj2" fmla="val 50126"/>
            </a:avLst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5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CREDIT DEFAULT SWAP</a:t>
            </a:r>
            <a:br>
              <a:rPr sz="2800"/>
            </a:b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- DEFINIZIONE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02544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tratto mediante il quale una parte (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OTECTION BUYER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 paga una commissione periodica, generalmente espressa in punti base fissi sull’ammontare nozionale, contro un pagamento da effettuarsi dalla controparte (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OTECTION SELLER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 in caso di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REDIT EVENT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di una terza parte (il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OGGETTO DI RIFERIMENT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OBBLIGAZIONI STRUTTURATE</a:t>
            </a:r>
            <a:br>
              <a:rPr sz="3600"/>
            </a:b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- DEFINIZIONE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31128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Titoli che nascono come risultato della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fusione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fra un’obbligazione </a:t>
            </a:r>
            <a:r>
              <a:rPr b="1" i="1" lang="it-IT" sz="3200" spc="-1" strike="noStrike">
                <a:solidFill>
                  <a:srgbClr val="003399"/>
                </a:solidFill>
                <a:latin typeface="Comic Sans MS"/>
              </a:rPr>
              <a:t>plain vanilla 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oppure un titolo </a:t>
            </a:r>
            <a:r>
              <a:rPr b="1" i="1" lang="it-IT" sz="3200" spc="-1" strike="noStrike">
                <a:solidFill>
                  <a:srgbClr val="003399"/>
                </a:solidFill>
                <a:latin typeface="Comic Sans MS"/>
              </a:rPr>
              <a:t>zero-coupon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e uno o più strumenti derivati, frequentemente appartenenti alla famiglia delle opzio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Comic Sans MS"/>
              </a:rPr>
              <a:t>CREDIT LINKED 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itoli il cui acquisto comporta, per l’investitore, l’assunzione del ruolo di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PROTECTION S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CARATTERISTICH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esse direttamente da una società (finanzia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synthetic securit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ute direttamente agli investitori (istituziona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ppio rischio di controparte per l’investi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SP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sempio 6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ccia a destra rientrata 2"/>
          <p:cNvSpPr/>
          <p:nvPr/>
        </p:nvSpPr>
        <p:spPr>
          <a:xfrm>
            <a:off x="971640" y="3789360"/>
            <a:ext cx="287280" cy="144360"/>
          </a:xfrm>
          <a:custGeom>
            <a:avLst/>
            <a:gdLst>
              <a:gd name="textAreaLeft" fmla="*/ 36000 w 287280"/>
              <a:gd name="textAreaRight" fmla="*/ 251280 w 2872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70" y="5400"/>
                </a:lnTo>
                <a:lnTo>
                  <a:pt x="16170" y="0"/>
                </a:lnTo>
                <a:lnTo>
                  <a:pt x="21600" y="10800"/>
                </a:lnTo>
                <a:lnTo>
                  <a:pt x="16170" y="21600"/>
                </a:lnTo>
                <a:lnTo>
                  <a:pt x="16170" y="16200"/>
                </a:lnTo>
                <a:lnTo>
                  <a:pt x="0" y="16200"/>
                </a:lnTo>
                <a:lnTo>
                  <a:pt x="271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ccia a destra rientrata 6"/>
          <p:cNvSpPr/>
          <p:nvPr/>
        </p:nvSpPr>
        <p:spPr>
          <a:xfrm>
            <a:off x="971640" y="5516640"/>
            <a:ext cx="287280" cy="144360"/>
          </a:xfrm>
          <a:custGeom>
            <a:avLst/>
            <a:gdLst>
              <a:gd name="textAreaLeft" fmla="*/ 36000 w 287280"/>
              <a:gd name="textAreaRight" fmla="*/ 251280 w 2872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70" y="5400"/>
                </a:lnTo>
                <a:lnTo>
                  <a:pt x="16170" y="0"/>
                </a:lnTo>
                <a:lnTo>
                  <a:pt x="21600" y="10800"/>
                </a:lnTo>
                <a:lnTo>
                  <a:pt x="16170" y="21600"/>
                </a:lnTo>
                <a:lnTo>
                  <a:pt x="16170" y="16200"/>
                </a:lnTo>
                <a:lnTo>
                  <a:pt x="0" y="16200"/>
                </a:lnTo>
                <a:lnTo>
                  <a:pt x="271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PRINCIPALI TIPOLO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3399"/>
                </a:solidFill>
                <a:uFillTx/>
                <a:latin typeface="Comic Sans MS"/>
              </a:rPr>
              <a:t>CON DERIVATI SUI TASSI DI INTERE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apped, floored e collared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everse floater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xchangeable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3399"/>
                </a:solidFill>
                <a:uFillTx/>
                <a:latin typeface="Comic Sans MS"/>
              </a:rPr>
              <a:t>CON DERIVATI DI NATURA AZION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quity, index, fund linked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everse convertible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3399"/>
                </a:solidFill>
                <a:uFillTx/>
                <a:latin typeface="Comic Sans MS"/>
              </a:rPr>
              <a:t>CON CREDIT DERIV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redit linked 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3399"/>
                </a:solidFill>
                <a:uFillTx/>
                <a:latin typeface="Comic Sans MS"/>
              </a:rPr>
              <a:t>CON SPECIAL PURPOSE VEH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a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e30a5"/>
                </a:solidFill>
                <a:latin typeface="Comic Sans MS"/>
              </a:rPr>
              <a:t>…</a:t>
            </a:r>
            <a:r>
              <a:rPr b="1" lang="it-IT" sz="3200" spc="-1" strike="noStrike">
                <a:solidFill>
                  <a:srgbClr val="ce30a5"/>
                </a:solidFill>
                <a:latin typeface="Comic Sans MS"/>
              </a:rPr>
              <a:t>con DERIVATI SUI TASSI DI INTERE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80360" cy="432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OBBLIGAZIONE PLAIN VAN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1)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IR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apped, floored e collared; exchange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2)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IRS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reverse floater e fixed reverse flo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1547640" y="3357720"/>
            <a:ext cx="71640" cy="1942920"/>
          </a:xfrm>
          <a:custGeom>
            <a:avLst/>
            <a:gdLst>
              <a:gd name="textAreaLeft" fmla="*/ 45720 w 71640"/>
              <a:gd name="textAreaRight" fmla="*/ 72000 w 71640"/>
              <a:gd name="textAreaTop" fmla="*/ 50400 h 1942920"/>
              <a:gd name="textAreaBottom" fmla="*/ 189252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CAPPED/FLOORED/COLLARED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imitazioni alla variabilità della ced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003399"/>
                </a:solidFill>
                <a:uFillTx/>
                <a:latin typeface="Comic Sans MS"/>
                <a:ea typeface="Times New Roman"/>
              </a:rPr>
              <a:t>Strutturazione</a:t>
            </a:r>
            <a:r>
              <a:rPr b="1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CAPPED BO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IONE A TASSO VARI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ITA 1 OPZIONE CAP 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 il tasso di riferimento &gt; strike rate, l’investitore paga all’emittente la differenza tra tasso corrente e strike r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755640" y="2492280"/>
            <a:ext cx="287280" cy="50508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5080"/>
              <a:gd name="textAreaBottom" fmla="*/ 366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OPZIONE C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744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COMPRATORE ACQUISISCE IL DIRITTO DI RICEVERE, ALLE VARIE SCADENZE PRESTABILITE,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EVENTUALE DIFFERENZA POSITIVA TRA UN TASSO CORRENTE DI MERCATO E LO STRIKE RATE PREDEFINIT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NEL CONTRATTO, SU UN CERTO CAPITALE DI RIFER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TETTO MAX COSTO DI UN PREST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1476360" y="4724280"/>
            <a:ext cx="431640" cy="289080"/>
          </a:xfrm>
          <a:custGeom>
            <a:avLst/>
            <a:gdLst>
              <a:gd name="textAreaLeft" fmla="*/ 67320 w 431640"/>
              <a:gd name="textAreaRight" fmla="*/ 378000 w 4316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FLOORED BO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IONE A TASSO VARI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PZIONE FLOOR  D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 il tasso di riferimento &lt; strike rate, l’investitore riceve dall’emittente la differenza tra strike rate e tasso corr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684360" y="1052640"/>
            <a:ext cx="287280" cy="50472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OPZIONE FLOO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744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COMPRATORE ACQUISISCE IL DIRITTO DI RICEVERE, ALLE VARIE SCADENZE PRESTABILITE,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EVENTUALE DIFFERENZA POSITIVA TRA LO STRIKE RATE E UN TASSO CORRENTE DI MERCAT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SU UN CERTO CAPITALE DI RIFER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PAVIMENTO MIN . RENDIMENTO DI UN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1476360" y="4724280"/>
            <a:ext cx="431640" cy="289080"/>
          </a:xfrm>
          <a:custGeom>
            <a:avLst/>
            <a:gdLst>
              <a:gd name="textAreaLeft" fmla="*/ 67320 w 431640"/>
              <a:gd name="textAreaRight" fmla="*/ 378000 w 4316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COLLARED BO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IONE A TASSO VARI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ITA 1 OPZIONE CAP 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 il tasso di riferimento &gt; strike rate, l’investitore paga all’emittente la differenza tra tasso corrente e strike r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PZIONE FLOOR  D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 il tasso di riferimento &lt; strike rate, l’investitore riceve dall’emittente la differenza tra strike rate e tasso corr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sempio 6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684360" y="763560"/>
            <a:ext cx="287280" cy="50472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4:16:44Z</dcterms:created>
  <dc:creator>Marina Damilano</dc:creator>
  <dc:description/>
  <dc:language>en-US</dc:language>
  <cp:lastModifiedBy>docenti</cp:lastModifiedBy>
  <dcterms:modified xsi:type="dcterms:W3CDTF">2012-05-05T11:58:49Z</dcterms:modified>
  <cp:revision>24</cp:revision>
  <dc:subject/>
  <dc:title>Diapositiva 1</dc:title>
</cp:coreProperties>
</file>