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83073-0A24-45BF-8BEF-4950CCBB27B5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99C28-7E90-4E2C-ACE2-01F50B35DF00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1219320" y="3259080"/>
            <a:ext cx="6705360" cy="30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A2FF-37C3-4643-AD44-B66D7DB6D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DD39-611D-441F-929C-3B8DECA2A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726E-168B-4853-94F4-272BFF3D3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1357-201C-4C6E-A32D-FF49B9CDD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D0C8-CC19-4EF8-83C9-0419DDC68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FD39-A6CA-40A4-8F9D-3074A94E6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C5D5-1C62-48C9-BB52-23545A6E8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5A37-30E8-43E1-B1EF-F06E5A679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2A35-8A76-4FAE-9266-D6291A5CF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E763-F539-481E-BF34-2869E4F1E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3BC1-613C-48DE-AB32-41606440D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49E5-66B0-49FA-851B-CFA796BE2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77EF8-6701-4D8B-BDC1-23190EB00E76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735120" y="4238280"/>
            <a:ext cx="7673760" cy="63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SAA_1a_LOGO_NUOVO_2008"/>
          <p:cNvPicPr/>
          <p:nvPr/>
        </p:nvPicPr>
        <p:blipFill>
          <a:blip r:embed="rId1"/>
          <a:stretch/>
        </p:blipFill>
        <p:spPr>
          <a:xfrm>
            <a:off x="436680" y="358920"/>
            <a:ext cx="1341360" cy="1015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" descr="Univerità"/>
          <p:cNvPicPr/>
          <p:nvPr/>
        </p:nvPicPr>
        <p:blipFill>
          <a:blip r:embed="rId2"/>
          <a:stretch/>
        </p:blipFill>
        <p:spPr>
          <a:xfrm>
            <a:off x="7615080" y="320760"/>
            <a:ext cx="1108080" cy="10602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2"/>
          <p:cNvSpPr/>
          <p:nvPr/>
        </p:nvSpPr>
        <p:spPr>
          <a:xfrm>
            <a:off x="115920" y="2141640"/>
            <a:ext cx="8889840" cy="21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it-IT" sz="3200" spc="-1" strike="noStrike">
                <a:solidFill>
                  <a:srgbClr val="0000ff"/>
                </a:solidFill>
                <a:latin typeface="Arial"/>
              </a:rPr>
              <a:t>I PRODOTTI E I SERVIZI DI INVESTIMENTO FINANZIA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0000ff"/>
                </a:solidFill>
                <a:uFillTx/>
                <a:latin typeface="Arial"/>
              </a:rPr>
              <a:t>LE OPZIO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ff"/>
                </a:solidFill>
                <a:latin typeface="Arial"/>
                <a:ea typeface="Arial"/>
              </a:rPr>
              <a:t>Prof.ssa Marina Damilano -  Prof.ssa Patrizia P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252000" y="189000"/>
            <a:ext cx="864252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ff"/>
                </a:solidFill>
                <a:latin typeface="Comic Sans MS"/>
              </a:rPr>
              <a:t>Esempio di acquisto di un’opzione p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Titolo Italcementi vale 5,34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OGGI 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strike 5€; scadenza 2 mesi;premio 0,15€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lotto 100 azioni; premio pagato 15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1) Italcementi quota 5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l’opzione è ATM e il suo valore è nu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SCADENZA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2) Italcementi quota 3,8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l’opzione è ITM, l’esercizio porta a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un guadagno di 105€ (1,2*100 – 1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3) Italcementi quota 7,2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l’opzione è OTM, perdita del prem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33cc"/>
                </a:solidFill>
                <a:latin typeface="Comic Sans MS"/>
              </a:rPr>
              <a:t>Effetto leva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: con 15€ si investe in un contratto che vale 500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33,33 volte di pi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3"/>
          <p:cNvSpPr/>
          <p:nvPr/>
        </p:nvSpPr>
        <p:spPr>
          <a:xfrm>
            <a:off x="252360" y="1125360"/>
            <a:ext cx="1366920" cy="790920"/>
          </a:xfrm>
          <a:custGeom>
            <a:avLst/>
            <a:gdLst>
              <a:gd name="textAreaLeft" fmla="*/ 0 w 1366920"/>
              <a:gd name="textAreaRight" fmla="*/ 1367280 w 1366920"/>
              <a:gd name="textAreaTop" fmla="*/ 0 h 790920"/>
              <a:gd name="textAreaBottom" fmla="*/ 791280 h 79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4"/>
          <p:cNvSpPr/>
          <p:nvPr/>
        </p:nvSpPr>
        <p:spPr>
          <a:xfrm>
            <a:off x="252360" y="3357720"/>
            <a:ext cx="2374920" cy="863280"/>
          </a:xfrm>
          <a:custGeom>
            <a:avLst/>
            <a:gdLst>
              <a:gd name="textAreaLeft" fmla="*/ 0 w 2374920"/>
              <a:gd name="textAreaRight" fmla="*/ 2374920 w 2374920"/>
              <a:gd name="textAreaTop" fmla="*/ 0 h 863280"/>
              <a:gd name="textAreaBottom" fmla="*/ 863640 h 86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4" y="0"/>
                </a:lnTo>
                <a:lnTo>
                  <a:pt x="21600" y="10800"/>
                </a:lnTo>
                <a:lnTo>
                  <a:pt x="16204" y="21600"/>
                </a:lnTo>
                <a:lnTo>
                  <a:pt x="0" y="21600"/>
                </a:lnTo>
                <a:close/>
              </a:path>
            </a:pathLst>
          </a:cu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252360" y="5805360"/>
            <a:ext cx="8352000" cy="719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33cc"/>
                </a:solidFill>
                <a:latin typeface="Comic Sans MS"/>
              </a:rPr>
              <a:t>SHORT PUT profilo rischio/rendimento per il vendito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Profit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                   quotazione 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Perd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3"/>
          <p:cNvSpPr/>
          <p:nvPr/>
        </p:nvSpPr>
        <p:spPr>
          <a:xfrm flipV="1">
            <a:off x="1547640" y="1052640"/>
            <a:ext cx="0" cy="446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4"/>
          <p:cNvSpPr/>
          <p:nvPr/>
        </p:nvSpPr>
        <p:spPr>
          <a:xfrm>
            <a:off x="900000" y="4724280"/>
            <a:ext cx="734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5"/>
          <p:cNvSpPr/>
          <p:nvPr/>
        </p:nvSpPr>
        <p:spPr>
          <a:xfrm>
            <a:off x="4427640" y="4221000"/>
            <a:ext cx="3529080" cy="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6"/>
          <p:cNvSpPr/>
          <p:nvPr/>
        </p:nvSpPr>
        <p:spPr>
          <a:xfrm flipH="1">
            <a:off x="2700360" y="4221000"/>
            <a:ext cx="1727280" cy="187200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ff"/>
                </a:solidFill>
                <a:latin typeface="Comic Sans MS"/>
              </a:rPr>
              <a:t>A cosa servono le opzio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52000" y="1052640"/>
            <a:ext cx="84344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ff"/>
                </a:solidFill>
                <a:latin typeface="Comic Sans MS"/>
              </a:rPr>
              <a:t>Trading direzionale «cauto»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: il pay-off asimmetrico consente di ridurre le perdite nel caso in cui il mercato «giochi» contr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ff"/>
                </a:solidFill>
                <a:latin typeface="Comic Sans MS"/>
              </a:rPr>
              <a:t>Effetto leva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: controllando un elevato controvalore di attività finanziarie con un investimento limitato, si possono ottenere risultati amplificati rispetto alla performance del sottost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ff"/>
                </a:solidFill>
                <a:latin typeface="Comic Sans MS"/>
              </a:rPr>
              <a:t>Gestione del rischio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: attuare strategie di coper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ff"/>
                </a:solidFill>
                <a:latin typeface="Comic Sans MS"/>
              </a:rPr>
              <a:t>Strategie di trading complesse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: attraverso l’acquisto/vendita di due o più opzioni con differenti caratteristi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ff"/>
                </a:solidFill>
                <a:latin typeface="Comic Sans MS"/>
              </a:rPr>
              <a:t>LONG STRADDLE profilo rischio/rendimento per il comprat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Profit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              quotazione 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Perd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3"/>
          <p:cNvSpPr/>
          <p:nvPr/>
        </p:nvSpPr>
        <p:spPr>
          <a:xfrm flipV="1">
            <a:off x="1547640" y="1484280"/>
            <a:ext cx="0" cy="446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900000" y="4724280"/>
            <a:ext cx="734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7"/>
          <p:cNvSpPr/>
          <p:nvPr/>
        </p:nvSpPr>
        <p:spPr>
          <a:xfrm flipH="1" flipV="1">
            <a:off x="2195280" y="2420640"/>
            <a:ext cx="2089080" cy="33130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8"/>
          <p:cNvSpPr/>
          <p:nvPr/>
        </p:nvSpPr>
        <p:spPr>
          <a:xfrm flipV="1">
            <a:off x="4284720" y="2420640"/>
            <a:ext cx="2520720" cy="33130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33cc"/>
                </a:solidFill>
                <a:latin typeface="Comic Sans MS"/>
              </a:rPr>
              <a:t>SHORT STRADDLE  profilo rischio/rendimento per il vendit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Profit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              quotazione 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Perd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3"/>
          <p:cNvSpPr/>
          <p:nvPr/>
        </p:nvSpPr>
        <p:spPr>
          <a:xfrm flipV="1">
            <a:off x="1547640" y="1267920"/>
            <a:ext cx="0" cy="4464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4"/>
          <p:cNvSpPr/>
          <p:nvPr/>
        </p:nvSpPr>
        <p:spPr>
          <a:xfrm>
            <a:off x="900000" y="4724280"/>
            <a:ext cx="734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7"/>
          <p:cNvSpPr/>
          <p:nvPr/>
        </p:nvSpPr>
        <p:spPr>
          <a:xfrm flipV="1">
            <a:off x="2484360" y="3644640"/>
            <a:ext cx="1943280" cy="2158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8"/>
          <p:cNvSpPr/>
          <p:nvPr/>
        </p:nvSpPr>
        <p:spPr>
          <a:xfrm>
            <a:off x="4427640" y="3645000"/>
            <a:ext cx="1800000" cy="2232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ff"/>
                </a:solidFill>
                <a:latin typeface="Comic Sans MS"/>
              </a:rPr>
              <a:t>Caratteristiche contrattual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7200" y="1197000"/>
          <a:ext cx="8221680" cy="5513400"/>
        </p:xfrm>
        <a:graphic>
          <a:graphicData uri="http://schemas.openxmlformats.org/drawingml/2006/table">
            <a:tbl>
              <a:tblPr/>
              <a:tblGrid>
                <a:gridCol w="2459160"/>
                <a:gridCol w="1942920"/>
                <a:gridCol w="2017800"/>
                <a:gridCol w="1801800"/>
              </a:tblGrid>
              <a:tr h="1079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BO su FTSEMI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BO su FTSEMIB settimana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pzioni su azion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tile opzi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rope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rope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eric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Quotazi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nti Indice 2,5 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nti Indice 2,5 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Eu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imensione contr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.I. x 2,5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.I. x 2,5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.E. x lot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remio contrat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.I. x 2,5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.I. x 2,5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mio x lot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iorno di scadenz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° Venerdì h.9,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° 2° 4° Venerdì h.9,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° Venerdì h.9,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caden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scaden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scaden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iquidazi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contanti. Pari a P.E. – Valore Indice su prezzi apertura rilevati il giorno di scadenz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egna fis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242640"/>
            <a:ext cx="8229600" cy="642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MARZO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Aprile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Maggio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GIUGNO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SETTEMBRE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DICEMBRE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cc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ff33cc"/>
                </a:solidFill>
                <a:latin typeface="Arial"/>
              </a:rPr>
              <a:t>GIUGNO 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cc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ff33cc"/>
                </a:solidFill>
                <a:latin typeface="Arial"/>
              </a:rPr>
              <a:t>DICEMBRE 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cc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ff33cc"/>
                </a:solidFill>
                <a:latin typeface="Arial"/>
              </a:rPr>
              <a:t>GIUGNO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cc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ff33cc"/>
                </a:solidFill>
                <a:latin typeface="Arial"/>
              </a:rPr>
              <a:t>DICEMBRE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cc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ff33cc"/>
                </a:solidFill>
                <a:latin typeface="Arial"/>
              </a:rPr>
              <a:t>DICEMBRE 20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cc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ff33cc"/>
                </a:solidFill>
                <a:latin typeface="Arial"/>
              </a:rPr>
              <a:t>DICEMBRE 201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5"/>
          <p:cNvSpPr/>
          <p:nvPr/>
        </p:nvSpPr>
        <p:spPr>
          <a:xfrm>
            <a:off x="1116000" y="0"/>
            <a:ext cx="0" cy="6670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6"/>
          <p:cNvSpPr/>
          <p:nvPr/>
        </p:nvSpPr>
        <p:spPr>
          <a:xfrm>
            <a:off x="1116000" y="40464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7"/>
          <p:cNvSpPr/>
          <p:nvPr/>
        </p:nvSpPr>
        <p:spPr>
          <a:xfrm>
            <a:off x="1116000" y="1108080"/>
            <a:ext cx="479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8"/>
          <p:cNvSpPr/>
          <p:nvPr/>
        </p:nvSpPr>
        <p:spPr>
          <a:xfrm>
            <a:off x="1116000" y="1863720"/>
            <a:ext cx="479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9"/>
          <p:cNvSpPr/>
          <p:nvPr/>
        </p:nvSpPr>
        <p:spPr>
          <a:xfrm>
            <a:off x="1116000" y="2619360"/>
            <a:ext cx="479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0"/>
          <p:cNvSpPr/>
          <p:nvPr/>
        </p:nvSpPr>
        <p:spPr>
          <a:xfrm>
            <a:off x="1116000" y="674640"/>
            <a:ext cx="192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1"/>
          <p:cNvSpPr/>
          <p:nvPr/>
        </p:nvSpPr>
        <p:spPr>
          <a:xfrm>
            <a:off x="1116000" y="890640"/>
            <a:ext cx="192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2"/>
          <p:cNvSpPr/>
          <p:nvPr/>
        </p:nvSpPr>
        <p:spPr>
          <a:xfrm>
            <a:off x="1116000" y="3357720"/>
            <a:ext cx="384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3"/>
          <p:cNvSpPr/>
          <p:nvPr/>
        </p:nvSpPr>
        <p:spPr>
          <a:xfrm>
            <a:off x="1116000" y="4132440"/>
            <a:ext cx="384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4"/>
          <p:cNvSpPr/>
          <p:nvPr/>
        </p:nvSpPr>
        <p:spPr>
          <a:xfrm>
            <a:off x="1116000" y="4888080"/>
            <a:ext cx="384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5"/>
          <p:cNvSpPr/>
          <p:nvPr/>
        </p:nvSpPr>
        <p:spPr>
          <a:xfrm>
            <a:off x="1116000" y="5373720"/>
            <a:ext cx="384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6"/>
          <p:cNvSpPr/>
          <p:nvPr/>
        </p:nvSpPr>
        <p:spPr>
          <a:xfrm>
            <a:off x="1116000" y="5859360"/>
            <a:ext cx="384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7"/>
          <p:cNvSpPr/>
          <p:nvPr/>
        </p:nvSpPr>
        <p:spPr>
          <a:xfrm>
            <a:off x="1116000" y="6399360"/>
            <a:ext cx="384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33cc"/>
                </a:solidFill>
                <a:latin typeface="Comic Sans MS"/>
              </a:rPr>
              <a:t>Valore Opzi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755640" y="1484280"/>
          <a:ext cx="7848720" cy="4853160"/>
        </p:xfrm>
        <a:graphic>
          <a:graphicData uri="http://schemas.openxmlformats.org/drawingml/2006/table">
            <a:tbl>
              <a:tblPr/>
              <a:tblGrid>
                <a:gridCol w="2743200"/>
                <a:gridCol w="1360440"/>
                <a:gridCol w="1873440"/>
                <a:gridCol w="1871640"/>
              </a:tblGrid>
              <a:tr h="67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attor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A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U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ottostan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rezzo Esercizi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ita residu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olatilit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asso d’interes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9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ividend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AutoShape 73"/>
          <p:cNvSpPr/>
          <p:nvPr/>
        </p:nvSpPr>
        <p:spPr>
          <a:xfrm>
            <a:off x="3851280" y="2276640"/>
            <a:ext cx="504720" cy="504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74"/>
          <p:cNvSpPr/>
          <p:nvPr/>
        </p:nvSpPr>
        <p:spPr>
          <a:xfrm>
            <a:off x="5435640" y="2276640"/>
            <a:ext cx="576360" cy="43164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75"/>
          <p:cNvSpPr/>
          <p:nvPr/>
        </p:nvSpPr>
        <p:spPr>
          <a:xfrm>
            <a:off x="7308720" y="2276640"/>
            <a:ext cx="576360" cy="502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76"/>
          <p:cNvSpPr/>
          <p:nvPr/>
        </p:nvSpPr>
        <p:spPr>
          <a:xfrm>
            <a:off x="3780000" y="2997360"/>
            <a:ext cx="576000" cy="502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77"/>
          <p:cNvSpPr/>
          <p:nvPr/>
        </p:nvSpPr>
        <p:spPr>
          <a:xfrm>
            <a:off x="5364000" y="2997360"/>
            <a:ext cx="576360" cy="43164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78"/>
          <p:cNvSpPr/>
          <p:nvPr/>
        </p:nvSpPr>
        <p:spPr>
          <a:xfrm>
            <a:off x="3780000" y="3716280"/>
            <a:ext cx="576000" cy="503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79"/>
          <p:cNvSpPr/>
          <p:nvPr/>
        </p:nvSpPr>
        <p:spPr>
          <a:xfrm>
            <a:off x="5364000" y="3716280"/>
            <a:ext cx="576360" cy="503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80"/>
          <p:cNvSpPr/>
          <p:nvPr/>
        </p:nvSpPr>
        <p:spPr>
          <a:xfrm>
            <a:off x="7308720" y="3716280"/>
            <a:ext cx="576360" cy="503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81"/>
          <p:cNvSpPr/>
          <p:nvPr/>
        </p:nvSpPr>
        <p:spPr>
          <a:xfrm>
            <a:off x="3851280" y="4365720"/>
            <a:ext cx="504720" cy="504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82"/>
          <p:cNvSpPr/>
          <p:nvPr/>
        </p:nvSpPr>
        <p:spPr>
          <a:xfrm>
            <a:off x="5364000" y="4365720"/>
            <a:ext cx="505080" cy="504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83"/>
          <p:cNvSpPr/>
          <p:nvPr/>
        </p:nvSpPr>
        <p:spPr>
          <a:xfrm>
            <a:off x="7308720" y="4365720"/>
            <a:ext cx="505080" cy="504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84"/>
          <p:cNvSpPr/>
          <p:nvPr/>
        </p:nvSpPr>
        <p:spPr>
          <a:xfrm>
            <a:off x="3851280" y="5084640"/>
            <a:ext cx="504720" cy="505080"/>
          </a:xfrm>
          <a:prstGeom prst="upArrow">
            <a:avLst>
              <a:gd name="adj1" fmla="val 50000"/>
              <a:gd name="adj2" fmla="val 25018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85"/>
          <p:cNvSpPr/>
          <p:nvPr/>
        </p:nvSpPr>
        <p:spPr>
          <a:xfrm>
            <a:off x="5364000" y="5084640"/>
            <a:ext cx="505080" cy="5050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86"/>
          <p:cNvSpPr/>
          <p:nvPr/>
        </p:nvSpPr>
        <p:spPr>
          <a:xfrm>
            <a:off x="7308720" y="5084640"/>
            <a:ext cx="576360" cy="503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87"/>
          <p:cNvSpPr/>
          <p:nvPr/>
        </p:nvSpPr>
        <p:spPr>
          <a:xfrm>
            <a:off x="3851280" y="5734080"/>
            <a:ext cx="504720" cy="504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88"/>
          <p:cNvSpPr/>
          <p:nvPr/>
        </p:nvSpPr>
        <p:spPr>
          <a:xfrm>
            <a:off x="7308720" y="5734080"/>
            <a:ext cx="505080" cy="504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89"/>
          <p:cNvSpPr/>
          <p:nvPr/>
        </p:nvSpPr>
        <p:spPr>
          <a:xfrm>
            <a:off x="5364000" y="5734080"/>
            <a:ext cx="576360" cy="503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90"/>
          <p:cNvSpPr/>
          <p:nvPr/>
        </p:nvSpPr>
        <p:spPr>
          <a:xfrm>
            <a:off x="7308720" y="2924280"/>
            <a:ext cx="576360" cy="503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ff"/>
                </a:solidFill>
                <a:latin typeface="Comic Sans MS"/>
              </a:rPr>
              <a:t>OPZIO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52000" y="1267920"/>
            <a:ext cx="87123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 u="sng">
                <a:solidFill>
                  <a:srgbClr val="000000"/>
                </a:solidFill>
                <a:uFillTx/>
                <a:latin typeface="Comic Sans MS"/>
              </a:rPr>
              <a:t>Contratto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 che, a fronte del pagamento di un “premio” iniziale, attribuisce la facoltà d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comprare (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opzione call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) o vendere (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opzione put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un certo quantitativo di attività finanziaria o   reale (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attività sottostante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a un prezzo predeterminato (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prezzo di esercizio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o 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strike price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alla scadenza (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opzione europea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) o entro una specifica scadenza (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opzione americana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252000" y="404280"/>
            <a:ext cx="864252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ff"/>
                </a:solidFill>
                <a:latin typeface="Comic Sans MS"/>
              </a:rPr>
              <a:t>Opzione C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Comic Sans MS"/>
              </a:rPr>
              <a:t>ACQUIRENTE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it-IT" sz="3200" spc="-1" strike="noStrike">
                <a:solidFill>
                  <a:srgbClr val="33cc33"/>
                </a:solidFill>
                <a:latin typeface="Comic Sans MS"/>
              </a:rPr>
              <a:t>VENDIT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Compra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        Ven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il diritto di acquis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500 azioni Enel al prezz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prefissato ed entro un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data futur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4"/>
          <p:cNvSpPr/>
          <p:nvPr/>
        </p:nvSpPr>
        <p:spPr>
          <a:xfrm>
            <a:off x="539640" y="1700280"/>
            <a:ext cx="1511280" cy="2233440"/>
          </a:xfrm>
          <a:custGeom>
            <a:avLst/>
            <a:gdLst>
              <a:gd name="textAreaLeft" fmla="*/ 202320 w 1511280"/>
              <a:gd name="textAreaRight" fmla="*/ 1308960 w 1511280"/>
              <a:gd name="textAreaTop" fmla="*/ 390600 h 2233440"/>
              <a:gd name="textAreaBottom" fmla="*/ 1619280 h 2233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5"/>
          <p:cNvSpPr/>
          <p:nvPr/>
        </p:nvSpPr>
        <p:spPr>
          <a:xfrm>
            <a:off x="6659640" y="1700280"/>
            <a:ext cx="1800000" cy="2232000"/>
          </a:xfrm>
          <a:custGeom>
            <a:avLst/>
            <a:gdLst>
              <a:gd name="textAreaLeft" fmla="*/ 240840 w 1800000"/>
              <a:gd name="textAreaRight" fmla="*/ 1559160 w 1800000"/>
              <a:gd name="textAreaTop" fmla="*/ 390600 h 2232000"/>
              <a:gd name="textAreaBottom" fmla="*/ 1618200 h 22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9"/>
          <p:cNvSpPr/>
          <p:nvPr/>
        </p:nvSpPr>
        <p:spPr>
          <a:xfrm>
            <a:off x="395280" y="5373720"/>
            <a:ext cx="4392720" cy="1224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6840" y="260280"/>
            <a:ext cx="821844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ff"/>
                </a:solidFill>
                <a:latin typeface="Comic Sans MS"/>
              </a:rPr>
              <a:t>LONG CALL profilo rischio/rendimento per il detent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Profit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                             quotazione 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Perd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A scadenza, un’opzione call va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0 se S &gt; 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(Q – S) se S &lt; 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5"/>
          <p:cNvSpPr/>
          <p:nvPr/>
        </p:nvSpPr>
        <p:spPr>
          <a:xfrm flipV="1">
            <a:off x="1547640" y="1052640"/>
            <a:ext cx="0" cy="417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6"/>
          <p:cNvSpPr/>
          <p:nvPr/>
        </p:nvSpPr>
        <p:spPr>
          <a:xfrm>
            <a:off x="971640" y="4292640"/>
            <a:ext cx="7345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7"/>
          <p:cNvSpPr/>
          <p:nvPr/>
        </p:nvSpPr>
        <p:spPr>
          <a:xfrm>
            <a:off x="1547640" y="4724280"/>
            <a:ext cx="23050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8"/>
          <p:cNvSpPr/>
          <p:nvPr/>
        </p:nvSpPr>
        <p:spPr>
          <a:xfrm flipV="1">
            <a:off x="3852720" y="1413000"/>
            <a:ext cx="3095640" cy="3311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Opzione “at the money” (ATM) se lo strike è uguale alla quotazione del sottost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Opzione “in the Money” (ITM) se lo strike è inferiore alla quotazione del sottost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Opzione “out of the money” (OTM) se lo strike è superiore alla quotazione del sottost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Object 5"/>
          <p:cNvGraphicFramePr/>
          <p:nvPr/>
        </p:nvGraphicFramePr>
        <p:xfrm>
          <a:off x="463680" y="3357720"/>
          <a:ext cx="8216640" cy="276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3680" y="3357720"/>
                    <a:ext cx="8216640" cy="27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52000" y="189000"/>
            <a:ext cx="864252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ff"/>
                </a:solidFill>
                <a:latin typeface="Comic Sans MS"/>
              </a:rPr>
              <a:t>Esempio di acquisto di un’opzione c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Titolo Enel vale 3,06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OGGI 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strike 3,2€; scadenza 3 mesi;premio 0,10€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lotto 500 azioni; premio pagato 50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1) Enel quota 3,2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l’opzione è ATM e il suo valore è nu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SCADENZA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2) Enel quota 3,9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l’opzione è ITM, l’esercizio porta a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un guadagno di 300€ (0,7*500 – 5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3) Enel quota 2,6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l’opzione è OTM, perdita del prem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33cc"/>
                </a:solidFill>
                <a:latin typeface="Comic Sans MS"/>
              </a:rPr>
              <a:t>Effetto leva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: con 50€ si investe in un contratto che vale 1.600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32 volte di pi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5"/>
          <p:cNvSpPr/>
          <p:nvPr/>
        </p:nvSpPr>
        <p:spPr>
          <a:xfrm>
            <a:off x="252360" y="1125360"/>
            <a:ext cx="1366920" cy="790920"/>
          </a:xfrm>
          <a:custGeom>
            <a:avLst/>
            <a:gdLst>
              <a:gd name="textAreaLeft" fmla="*/ 0 w 1366920"/>
              <a:gd name="textAreaRight" fmla="*/ 1367280 w 1366920"/>
              <a:gd name="textAreaTop" fmla="*/ 0 h 790920"/>
              <a:gd name="textAreaBottom" fmla="*/ 791280 h 79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6"/>
          <p:cNvSpPr/>
          <p:nvPr/>
        </p:nvSpPr>
        <p:spPr>
          <a:xfrm>
            <a:off x="252360" y="3357720"/>
            <a:ext cx="2374920" cy="863280"/>
          </a:xfrm>
          <a:custGeom>
            <a:avLst/>
            <a:gdLst>
              <a:gd name="textAreaLeft" fmla="*/ 0 w 2374920"/>
              <a:gd name="textAreaRight" fmla="*/ 2374920 w 2374920"/>
              <a:gd name="textAreaTop" fmla="*/ 0 h 863280"/>
              <a:gd name="textAreaBottom" fmla="*/ 863640 h 86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4" y="0"/>
                </a:lnTo>
                <a:lnTo>
                  <a:pt x="21600" y="10800"/>
                </a:lnTo>
                <a:lnTo>
                  <a:pt x="16204" y="21600"/>
                </a:lnTo>
                <a:lnTo>
                  <a:pt x="0" y="21600"/>
                </a:lnTo>
                <a:close/>
              </a:path>
            </a:pathLst>
          </a:cu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252360" y="5805360"/>
            <a:ext cx="8352000" cy="719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33cc"/>
                </a:solidFill>
                <a:latin typeface="Comic Sans MS"/>
              </a:rPr>
              <a:t>SHORT CALL profilo rischio/rendimento per il vendit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Profit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                           quotazione 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Perd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3"/>
          <p:cNvSpPr/>
          <p:nvPr/>
        </p:nvSpPr>
        <p:spPr>
          <a:xfrm flipV="1">
            <a:off x="1547640" y="1052640"/>
            <a:ext cx="0" cy="446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4"/>
          <p:cNvSpPr/>
          <p:nvPr/>
        </p:nvSpPr>
        <p:spPr>
          <a:xfrm>
            <a:off x="971640" y="4292640"/>
            <a:ext cx="7345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7"/>
          <p:cNvSpPr/>
          <p:nvPr/>
        </p:nvSpPr>
        <p:spPr>
          <a:xfrm>
            <a:off x="1547640" y="3860640"/>
            <a:ext cx="2305080" cy="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8"/>
          <p:cNvSpPr/>
          <p:nvPr/>
        </p:nvSpPr>
        <p:spPr>
          <a:xfrm>
            <a:off x="3852720" y="3860640"/>
            <a:ext cx="2590920" cy="259272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252000" y="404280"/>
            <a:ext cx="864252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ff"/>
                </a:solidFill>
                <a:latin typeface="Comic Sans MS"/>
              </a:rPr>
              <a:t>Opzione P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Comic Sans MS"/>
              </a:rPr>
              <a:t>ACQUIRENTE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it-IT" sz="3200" spc="-1" strike="noStrike">
                <a:solidFill>
                  <a:srgbClr val="33cc33"/>
                </a:solidFill>
                <a:latin typeface="Comic Sans MS"/>
              </a:rPr>
              <a:t>VENDIT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Compra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        Ven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il diritto di vend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500 azioni Enel al prezz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prefissato ed entro un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data futur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3"/>
          <p:cNvSpPr/>
          <p:nvPr/>
        </p:nvSpPr>
        <p:spPr>
          <a:xfrm>
            <a:off x="539640" y="1700280"/>
            <a:ext cx="1511280" cy="2233440"/>
          </a:xfrm>
          <a:custGeom>
            <a:avLst/>
            <a:gdLst>
              <a:gd name="textAreaLeft" fmla="*/ 202320 w 1511280"/>
              <a:gd name="textAreaRight" fmla="*/ 1308960 w 1511280"/>
              <a:gd name="textAreaTop" fmla="*/ 390600 h 2233440"/>
              <a:gd name="textAreaBottom" fmla="*/ 1619280 h 2233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4"/>
          <p:cNvSpPr/>
          <p:nvPr/>
        </p:nvSpPr>
        <p:spPr>
          <a:xfrm>
            <a:off x="6659640" y="1700280"/>
            <a:ext cx="1800000" cy="2232000"/>
          </a:xfrm>
          <a:custGeom>
            <a:avLst/>
            <a:gdLst>
              <a:gd name="textAreaLeft" fmla="*/ 240840 w 1800000"/>
              <a:gd name="textAreaRight" fmla="*/ 1559160 w 1800000"/>
              <a:gd name="textAreaTop" fmla="*/ 390600 h 2232000"/>
              <a:gd name="textAreaBottom" fmla="*/ 1618200 h 22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2"/>
          <p:cNvSpPr/>
          <p:nvPr/>
        </p:nvSpPr>
        <p:spPr>
          <a:xfrm>
            <a:off x="395280" y="5373720"/>
            <a:ext cx="4392720" cy="1224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56840" y="260280"/>
            <a:ext cx="821844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ff"/>
                </a:solidFill>
                <a:latin typeface="Comic Sans MS"/>
              </a:rPr>
              <a:t>LONG PUT profilo rischio/rendimento per il detent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Profit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              quotazione 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Perd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A scadenza, un’opzione put va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0 se S &lt; 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(S – Q) se S &gt; 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4"/>
          <p:cNvSpPr/>
          <p:nvPr/>
        </p:nvSpPr>
        <p:spPr>
          <a:xfrm flipV="1">
            <a:off x="1547640" y="1052640"/>
            <a:ext cx="0" cy="417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5"/>
          <p:cNvSpPr/>
          <p:nvPr/>
        </p:nvSpPr>
        <p:spPr>
          <a:xfrm>
            <a:off x="971640" y="4292640"/>
            <a:ext cx="7345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8"/>
          <p:cNvSpPr/>
          <p:nvPr/>
        </p:nvSpPr>
        <p:spPr>
          <a:xfrm flipH="1">
            <a:off x="4643280" y="4797360"/>
            <a:ext cx="281016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9"/>
          <p:cNvSpPr/>
          <p:nvPr/>
        </p:nvSpPr>
        <p:spPr>
          <a:xfrm flipH="1" flipV="1">
            <a:off x="2341440" y="1557360"/>
            <a:ext cx="2301840" cy="324000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3T14:10:52Z</dcterms:created>
  <dc:creator>Patrizia Pia</dc:creator>
  <dc:description/>
  <dc:language>en-US</dc:language>
  <cp:lastModifiedBy>Ute Formazione Banco Di Napoli</cp:lastModifiedBy>
  <cp:lastPrinted>2012-05-02T15:09:26Z</cp:lastPrinted>
  <dcterms:modified xsi:type="dcterms:W3CDTF">2012-10-06T12:02:53Z</dcterms:modified>
  <cp:revision>21</cp:revision>
  <dc:subject/>
  <dc:title>Diapositiva 1</dc:title>
</cp:coreProperties>
</file>