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B9FF-8045-4375-84BE-F4E226AC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261-16F6-4043-8976-142685D9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64D-B744-47D2-94BD-D817B9C7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F2A-E6E6-448A-ABEB-EE710870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8E0-21C0-40DE-BF73-8AF1BA7F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048-450C-42C0-A289-D8F7B1BE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A13-876B-486B-AADD-4C5134A5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364-BED8-45AD-A4B0-2CD42DA1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59E-C84F-4C3E-B62B-E13C6622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ABE-05E2-425D-A4F2-7F7F55ED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B59-2F7B-4AAB-B452-4D2E5E0A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560-7921-4D4D-ACCB-F6518891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3F15-56A1-48F0-8609-299F9DB611A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b050"/>
                </a:solidFill>
                <a:latin typeface="Comic Sans MS"/>
              </a:rPr>
              <a:t>GLI SW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le parti si accordano per scambiarsi nel tempo due diversi flussi di c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OVER-THE-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CURRENCY SWAP (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000" spc="-1" strike="noStrike">
              <a:solidFill>
                <a:srgbClr val="00b05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cordo in base al quale le due controparti si impegnano a scambiarsi, per un periodo prestabilito, dei flussi finanziari equivalenti agli interessi maturati su un certo capitale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COUPON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fisso scambiato con un flusso a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BASIS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variabile scambiato con un flusso, sempre a tasso variabile, ma parametrato ad un diverso indic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itale nozionale: 10 milioni di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fisso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variabile: Libor (1° scambio: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F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NETTIN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ttore 2 3"/>
          <p:cNvCxnSpPr/>
          <p:nvPr/>
        </p:nvCxnSpPr>
        <p:spPr>
          <a:xfrm>
            <a:off x="2484000" y="3428640"/>
            <a:ext cx="33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Connettore 2 6"/>
          <p:cNvCxnSpPr/>
          <p:nvPr/>
        </p:nvCxnSpPr>
        <p:spPr>
          <a:xfrm flipH="1">
            <a:off x="2410560" y="3789000"/>
            <a:ext cx="331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CURRENCY SWAPS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cambio di flussi di cassa espressi in due valute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 COSA SERVONO GLI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ttimizz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 costi di finanziamento o il rendimento di un investimento (v. esemp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’esposizione al rischio di oscillazione dei tassi d’interesse o di camb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osizioni speculative al rialzo o al ribasso nel mercato dei tassi d’interesse o dei 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EM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sideriamo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ue imprese, A e 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nteressate ad ottenere un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finanziamento di 10 milioni di eu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mpresa 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elevato rating, finanziamento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mpresa 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ridotto merito creditizio, finanziamento a tasso fi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ndizioni di mercat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4365720"/>
          <a:ext cx="8088480" cy="2232000"/>
        </p:xfrm>
        <a:graphic>
          <a:graphicData uri="http://schemas.openxmlformats.org/drawingml/2006/table">
            <a:tbl>
              <a:tblPr/>
              <a:tblGrid>
                <a:gridCol w="2695680"/>
                <a:gridCol w="2697120"/>
                <a:gridCol w="2695680"/>
              </a:tblGrid>
              <a:tr h="681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ato del credito bancario a br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ato obbligazio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a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or + 5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or +150 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due imprese godono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migliori condizioni relative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l settore che non inter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 un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wap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otrebber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migliorare le proprie condizioni di finanziamento nel settore che meglio soddisfa le loro esig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IMPRESA A                          IMPRESA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,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%                                                    Libor+1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VESTITORI                                BANCA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Comic Sans MS"/>
              </a:rPr>
              <a:t>A= Libor-25                                          B=9,25+1,5=1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8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ttore 2 4"/>
          <p:cNvCxnSpPr/>
          <p:nvPr/>
        </p:nvCxnSpPr>
        <p:spPr>
          <a:xfrm>
            <a:off x="3276720" y="3428640"/>
            <a:ext cx="273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Connettore 2 6"/>
          <p:cNvCxnSpPr/>
          <p:nvPr/>
        </p:nvCxnSpPr>
        <p:spPr>
          <a:xfrm flipH="1">
            <a:off x="3276360" y="3789000"/>
            <a:ext cx="273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Connettore 2 9"/>
          <p:cNvCxnSpPr/>
          <p:nvPr/>
        </p:nvCxnSpPr>
        <p:spPr>
          <a:xfrm>
            <a:off x="2268000" y="3933360"/>
            <a:ext cx="108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Connettore 2 11"/>
          <p:cNvCxnSpPr/>
          <p:nvPr/>
        </p:nvCxnSpPr>
        <p:spPr>
          <a:xfrm>
            <a:off x="6803640" y="3933360"/>
            <a:ext cx="108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2:41:20Z</dcterms:created>
  <dc:creator>Patrizia Pia</dc:creator>
  <dc:description/>
  <dc:language>en-US</dc:language>
  <cp:lastModifiedBy>Damilano</cp:lastModifiedBy>
  <cp:lastPrinted>2012-11-08T15:14:32Z</cp:lastPrinted>
  <dcterms:modified xsi:type="dcterms:W3CDTF">2012-11-27T13:17:57Z</dcterms:modified>
  <cp:revision>20</cp:revision>
  <dc:subject/>
  <dc:title>Diapositiva 1</dc:title>
</cp:coreProperties>
</file>