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55A-F1E7-46BA-A774-85153222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572-6651-42A6-9A87-99CAFBD6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3E4-67E3-4467-9D80-2BC52FB3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82F-569F-4DC3-90F5-E544EA43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6C22-2B2D-49BE-87F8-786521AA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606-73B8-4CE4-9D50-B522784C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634-03E8-4EFA-9DE6-A7DC4B9C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6A8-5A6B-4E57-8FF8-48158AE2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BAA-BA96-4B2C-ADBC-4FC65509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50C-4997-4746-8D94-91397081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599-3579-48E8-82F0-524EDBC4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D7F-F2C7-453E-A028-A75923E8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6B55-8D5A-421A-B97B-D073989DF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I 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CHE COSA S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BASATI SU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SOTTOSTANTI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TTIVITA’ FINANZIARIE (o RE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TRE PRINCIPALI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 CATEGORIE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A CHE COSA SERV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PER LA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GESTIONE DEL RISCH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ULAZIONE (TR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63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liminazione totale o parziale del rischio di variazione dei prezzi sulle posizioni detenute nel mercato a pro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ECULAZIONE (TRAD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icerca del rischio nella speranza di massimizzare i 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fruttamento di temporanee inefficienze del mercato nel suo compl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NASCITA E SVILUPPO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Il mercato dei derivati, nato nei primi anni ’70, si è enormemente sviluppato nel corso degli ultimi dece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I REGOLAMEN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O “OT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UTILITA’ DEI DERIVATI PER UN EFFICIENTE FUNZIONAMENTO DEI MERCATI FINANZIA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835280" y="4149720"/>
            <a:ext cx="4330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4365720"/>
            <a:ext cx="43308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Marina Damilano</cp:lastModifiedBy>
  <dcterms:modified xsi:type="dcterms:W3CDTF">2012-02-08T14:13:39Z</dcterms:modified>
  <cp:revision>3</cp:revision>
  <dc:subject/>
  <dc:title>Diapositiva 1</dc:title>
</cp:coreProperties>
</file>