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5829-28C8-4824-AB2F-F21175F4F5D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80F8-0042-4394-AB48-0FBBF44137A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49D-1033-4210-8BD7-B3A47D47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386-3402-4013-B836-41EAD54E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BCB-B46C-4538-9C72-263C9993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9E9-352E-49F5-9750-251A38DB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805-55BD-47E4-BCD2-1C9CB7ED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13E-DB6E-4C1C-B289-32012DBB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DBA-30EF-41BD-9548-F9F65C04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BB9-A84C-41BA-A251-3A11EB33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0ED-E391-4D89-824B-10303AEA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1D0-781D-4650-9096-8A4A4E45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C95-29DE-46FB-83D2-64C55DF7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C273-99EF-43F9-9184-221ED1D2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1A6C-29EC-4009-9443-B5D741F6464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IB – FUTURES 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ULL’INDICE DI BOR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TTERISTICHE CONTRAT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NDICE SOTTO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TSE/MIB (40 titoli più liquidi e capitalizzati per il flot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MPORTO CONTRA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UNTI INDICE x 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P.I. x 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 PUNTI INDICE (2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5 P.I. (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CAD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RE 9:05 DEL 3° VENERDI’ DI MARZO, GIUGNO, SETTEMBRE, DIC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ETTLEMENT P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ALI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MEDIA PONDERATA DELL’ULTIMO 10% DI CONTRATTI SCAMBI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O DI SCADENZ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FTSE/MIB DI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IQUID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H SETTLEMEN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1° GIORNO LAVORATIVO SUCCESSIVO 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ODALITA’ DI NEGOZI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STA DI APERTURA (8:30-9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OZIAZIONE CONTINUA (9:00-17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RGINI INIZ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AB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SA DI COMPENSAZIONE E 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UALMENTE: 13,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ATTORI CHE INFLUENZANO IL PREZZO TEORICO DEL F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VALORE DELL’INDICE CASH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EMPO MANCANTE ALLA SCADENZ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ASSO DI INTERESSE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DIVIDENDI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FU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E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INDICE CASH + INT –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TRATEGIE DI UTILIZZ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L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ORTO DI COPERTURA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RADING DIRE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SF – SINGLE STOCK FU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SPETTO AL FI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OTTI MI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GGIOR NUMEROSITA’ DI SCADENZE NEGOZI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UTURES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tratto con il quale i contraenti si assumono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l’impegno ad acquistare o vender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una quantità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t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di una merce o attività finanziaria ad un prezzo e ad un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data futur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predetermi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LO IN 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BORS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UFFICIALMENTE RICONOSCI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IPOLOG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OCK INDEX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NGLE STOCK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TEREST RATE /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arentesi graffa chiusa 1"/>
          <p:cNvSpPr/>
          <p:nvPr/>
        </p:nvSpPr>
        <p:spPr>
          <a:xfrm>
            <a:off x="5940360" y="314172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87640"/>
              <a:gd name="textAreaBottom" fmla="*/ 2080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16200" y="10800"/>
                  <a:pt x="21600" y="10800"/>
                </a:cubicBezTo>
                <a:cubicBezTo>
                  <a:pt x="162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ELEMENTI PECU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AD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E DI CONTR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O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ALTARE AL MASSIMO LA NEGOZI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 IMPORTANTISSIME FUN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MPENS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ARAN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ENSAZION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PARTE OBBLIGATORIA DI OGNI CONTR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FACILITA LA COMPENSAZIONE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ANTICIPATA DELLE POS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GARANTISCE IL BUON FINE DEI CONTR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nessuna esposizione sul mer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richiesta di elevati requisiti patrimoniali ai «clearing members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mpi poteri tecnici, regolamentari e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1"/>
          <p:cNvSpPr/>
          <p:nvPr/>
        </p:nvSpPr>
        <p:spPr>
          <a:xfrm>
            <a:off x="1692360" y="2565360"/>
            <a:ext cx="503280" cy="358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ISTEMA DEI MARGINI DI GAR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Basso (in % del valore del contrat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Obbligatorio per acquirente e vendi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copo: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COPRIRE LE EVENTUALI PERDITE DEL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   1° GIORNO DI CONTRA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I DI VAR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eccanismo del «marking-to-market»: adeguamento giornaliero delle posizioni aperte sul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      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 FUTURES SONO CONTRATTI A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TERMINE CON LIQUIDAZIONE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MMEDIATA DELLE DIFFERENZ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a destra 3"/>
          <p:cNvSpPr/>
          <p:nvPr/>
        </p:nvSpPr>
        <p:spPr>
          <a:xfrm>
            <a:off x="1403280" y="5084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REALTA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MARGINE INIZI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E’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RICALCOLATO GIOR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lla base del «peggior scenario» ragionevolmente possibile per il giorno succ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ocede con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DDEBITO/ACCREDITO GIORNALIERO DELLA DIFFERENZ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a quanto già in essere sul conto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ccia in giù 1"/>
          <p:cNvSpPr/>
          <p:nvPr/>
        </p:nvSpPr>
        <p:spPr>
          <a:xfrm>
            <a:off x="4427640" y="1628640"/>
            <a:ext cx="360360" cy="4320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NQUE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GNI GIORNO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 CASH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 febbraio        15 febb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usura 14 febb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RI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RICAL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EX-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7030a0"/>
                </a:solidFill>
                <a:latin typeface="Comic Sans MS"/>
              </a:rPr>
              <a:t>EX-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a la ∆ d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«accantona» max ∆ 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/02 (rispe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possibile del 15/02 (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13/02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al MI in essere il 14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3"/>
          <p:cNvSpPr/>
          <p:nvPr/>
        </p:nvSpPr>
        <p:spPr>
          <a:xfrm flipV="1">
            <a:off x="900000" y="1807920"/>
            <a:ext cx="72723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nettore 1 5"/>
          <p:cNvSpPr/>
          <p:nvPr/>
        </p:nvSpPr>
        <p:spPr>
          <a:xfrm>
            <a:off x="4535640" y="1557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ttore 1 7"/>
          <p:cNvSpPr/>
          <p:nvPr/>
        </p:nvSpPr>
        <p:spPr>
          <a:xfrm>
            <a:off x="2411280" y="1808280"/>
            <a:ext cx="212436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10"/>
          <p:cNvSpPr/>
          <p:nvPr/>
        </p:nvSpPr>
        <p:spPr>
          <a:xfrm>
            <a:off x="4572000" y="1844640"/>
            <a:ext cx="2124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ttore 2 11"/>
          <p:cNvCxnSpPr/>
          <p:nvPr/>
        </p:nvCxnSpPr>
        <p:spPr>
          <a:xfrm flipV="1">
            <a:off x="4535280" y="2133720"/>
            <a:ext cx="1080" cy="358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Connettore 1 15"/>
          <p:cNvSpPr/>
          <p:nvPr/>
        </p:nvSpPr>
        <p:spPr>
          <a:xfrm flipH="1">
            <a:off x="2556000" y="2852640"/>
            <a:ext cx="172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ttore 1 17"/>
          <p:cNvSpPr/>
          <p:nvPr/>
        </p:nvSpPr>
        <p:spPr>
          <a:xfrm>
            <a:off x="4572000" y="285264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ASH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LIQUIDAZIONE PER CON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e pre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 SCAD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LIQUI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ER CONTANTI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i po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LTIMA DIFFERENZ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i aper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EZZ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ULTIMO M.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Connettore 2 2"/>
          <p:cNvCxnSpPr/>
          <p:nvPr/>
        </p:nvCxnSpPr>
        <p:spPr>
          <a:xfrm flipV="1">
            <a:off x="2050560" y="3572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Connettore 1 5"/>
          <p:cNvSpPr/>
          <p:nvPr/>
        </p:nvSpPr>
        <p:spPr>
          <a:xfrm flipV="1">
            <a:off x="3059280" y="2852640"/>
            <a:ext cx="10810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nettore 1 8"/>
          <p:cNvSpPr/>
          <p:nvPr/>
        </p:nvSpPr>
        <p:spPr>
          <a:xfrm>
            <a:off x="3059280" y="3357720"/>
            <a:ext cx="1081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Pia</cp:lastModifiedBy>
  <cp:lastPrinted>2012-02-15T10:24:12Z</cp:lastPrinted>
  <dcterms:modified xsi:type="dcterms:W3CDTF">2012-03-16T10:34:29Z</dcterms:modified>
  <cp:revision>24</cp:revision>
  <dc:subject/>
  <dc:title>Diapositiva 1</dc:title>
</cp:coreProperties>
</file>