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85BE-2A7D-4A02-90DB-7EAE23DAFBE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24A-D2F7-48A7-B693-020DBB4A43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9DF-32BC-4A76-BE44-84318383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DD2-589D-4CF6-AD0A-D1854E26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B18-267E-492C-BD7C-89DD40A1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2C8-8A2D-44A5-AD7E-361A2E8A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037-6611-4A8A-A40A-671ADBB4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8FE-64C2-426C-B30B-6B28CF4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625-70C0-47F3-952A-E5BB180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825-8CBA-407C-9D50-0F895050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A1B-8BEB-46E1-9F72-1B2622FD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59D-D39B-45FE-978D-B62506E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937-2840-4643-93E1-DCA806A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FF3-C7B6-4C58-8F6B-E234F40B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7DAF-79A0-4746-9A4C-515C4AE1037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Ute Formazione Banco Di Napoli</cp:lastModifiedBy>
  <cp:lastPrinted>2012-05-02T15:09:26Z</cp:lastPrinted>
  <dcterms:modified xsi:type="dcterms:W3CDTF">2012-10-06T12:02:53Z</dcterms:modified>
  <cp:revision>21</cp:revision>
  <dc:subject/>
  <dc:title>Diapositiva 1</dc:title>
</cp:coreProperties>
</file>