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90F9-A562-4BA9-97B8-A2A62E9FA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9307-6A0D-4FBD-88B4-5A3928159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FC93-0B5E-4072-82C0-5003F8855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7F0D-D4EB-4FC9-BD22-02332B5EC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F880-F1D9-48CF-BEA6-94B311B97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0638-2E90-4C6C-B146-DC5776939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33C7-D1CA-4B03-A499-EB3629F39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36FF-FC97-47D2-B0B1-14C14C66D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88FD-E72E-45EF-AA64-E8345EDC2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8C91-EA45-479C-8F63-89F4918B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0173-0EFB-4806-A5DD-102803D6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32EA-23B2-4673-9D00-B3C2181A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B1003-C57B-4BE9-A37A-34B70CE352FB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395280" y="1341360"/>
            <a:ext cx="8424720" cy="1224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b050"/>
                </a:solidFill>
                <a:latin typeface="Comic Sans MS"/>
              </a:rPr>
              <a:t>GLI SWA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Contratto con cui le parti si accordano per scambiarsi nel tempo due diversi flussi di cas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omic Sans MS"/>
              </a:rPr>
              <a:t>OVER-THE-COU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Comic Sans MS"/>
              </a:rPr>
              <a:t>INTEREST RATE SWAP (I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Comic Sans MS"/>
              </a:rPr>
              <a:t>CURRENCY SWAP (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4000" spc="-1" strike="noStrike">
              <a:solidFill>
                <a:srgbClr val="00b05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Comic Sans MS"/>
              </a:rPr>
              <a:t>INTEREST RATE SWAP (I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ccordo in base al quale le due controparti si impegnano a scambiarsi, per un periodo prestabilito, dei flussi finanziari equivalenti agli interessi maturati su un certo capitale di riferim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333399"/>
                </a:solidFill>
                <a:uFillTx/>
                <a:latin typeface="Comic Sans MS"/>
              </a:rPr>
              <a:t>COUPON SWAPS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un flusso di interessi calcolato in base a un tasso fisso scambiato con un flusso a tasso varia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333399"/>
                </a:solidFill>
                <a:uFillTx/>
                <a:latin typeface="Comic Sans MS"/>
              </a:rPr>
              <a:t>BASIS SWAPS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un flusso di interessi calcolato in base a un tasso variabile scambiato con un flusso, sempre a tasso variabile, ma parametrato ad un diverso indica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ts val="18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semp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ts val="1874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apitale nozionale: 10 milioni di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ts val="1874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asso fisso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ts val="1874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asso variabile: Libor (1° scambio: 4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ts val="1874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50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LFA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B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40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«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NETTING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Connettore 2 3"/>
          <p:cNvCxnSpPr/>
          <p:nvPr/>
        </p:nvCxnSpPr>
        <p:spPr>
          <a:xfrm>
            <a:off x="2484000" y="3428640"/>
            <a:ext cx="3312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" name="Connettore 2 6"/>
          <p:cNvCxnSpPr/>
          <p:nvPr/>
        </p:nvCxnSpPr>
        <p:spPr>
          <a:xfrm flipH="1">
            <a:off x="2410560" y="3789000"/>
            <a:ext cx="3313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omic Sans MS"/>
              </a:rPr>
              <a:t>CURRENCY SWAPS</a:t>
            </a:r>
            <a:r>
              <a:rPr b="0" lang="it-IT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scambio di flussi di cassa espressi in due valute dive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Comic Sans MS"/>
              </a:rPr>
              <a:t>A COSA SERVONO GLI SW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ttimizzar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i costi di finanziamento o il rendimento di un investimento (v. esempi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Coprir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l’esposizione al rischio di oscillazione dei tassi d’interesse o di camb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Aprir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posizioni speculative al rialzo o al ribasso nel mercato dei tassi d’interesse o dei camb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ESEMP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Consideriamo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due imprese, A e B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, interessate ad ottenere un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finanziamento di 10 milioni di euro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Impresa A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elevato rating, finanziamento tasso varia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Impresa B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ridotto merito creditizio, finanziamento a tasso fis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Condizioni di mercato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9996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78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539640" y="4365720"/>
          <a:ext cx="8088480" cy="2232000"/>
        </p:xfrm>
        <a:graphic>
          <a:graphicData uri="http://schemas.openxmlformats.org/drawingml/2006/table">
            <a:tbl>
              <a:tblPr/>
              <a:tblGrid>
                <a:gridCol w="2695680"/>
                <a:gridCol w="2697120"/>
                <a:gridCol w="2695680"/>
              </a:tblGrid>
              <a:tr h="681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rcato del credito bancario a bre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rcato obbligaziona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17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esa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or + 50 B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515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esa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or +150 BP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17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B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B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le due imprese godono di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migliori condizioni relative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nel settore che non interes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Con uno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wap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potrebbero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 migliorare le proprie condizioni di finanziamento nel settore che meglio soddisfa le loro esigen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                         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ib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00000"/>
                </a:solidFill>
                <a:latin typeface="Comic Sans MS"/>
              </a:rPr>
              <a:t>     </a:t>
            </a:r>
            <a:r>
              <a:rPr b="1" lang="it-IT" sz="2400" spc="-1" strike="noStrike">
                <a:solidFill>
                  <a:srgbClr val="c00000"/>
                </a:solidFill>
                <a:latin typeface="Comic Sans MS"/>
              </a:rPr>
              <a:t>IMPRESA A                          IMPRESA 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                         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9,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9%                                                    Libor+15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NVESTITORI                                BANCA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00000"/>
                </a:solidFill>
                <a:latin typeface="Comic Sans MS"/>
              </a:rPr>
              <a:t>A= Libor-25                                          B=9,25+1,5=10,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8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8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8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78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Connettore 2 4"/>
          <p:cNvCxnSpPr/>
          <p:nvPr/>
        </p:nvCxnSpPr>
        <p:spPr>
          <a:xfrm>
            <a:off x="3276720" y="3428640"/>
            <a:ext cx="2736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" name="Connettore 2 6"/>
          <p:cNvCxnSpPr/>
          <p:nvPr/>
        </p:nvCxnSpPr>
        <p:spPr>
          <a:xfrm flipH="1">
            <a:off x="3276360" y="3789000"/>
            <a:ext cx="2736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" name="Connettore 2 9"/>
          <p:cNvCxnSpPr/>
          <p:nvPr/>
        </p:nvCxnSpPr>
        <p:spPr>
          <a:xfrm>
            <a:off x="2268000" y="3933360"/>
            <a:ext cx="1080" cy="1151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" name="Connettore 2 11"/>
          <p:cNvCxnSpPr/>
          <p:nvPr/>
        </p:nvCxnSpPr>
        <p:spPr>
          <a:xfrm>
            <a:off x="6803640" y="3933360"/>
            <a:ext cx="1080" cy="1151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2:41:20Z</dcterms:created>
  <dc:creator>Patrizia Pia</dc:creator>
  <dc:description/>
  <dc:language>en-US</dc:language>
  <cp:lastModifiedBy>Damilano</cp:lastModifiedBy>
  <cp:lastPrinted>2012-11-08T15:14:32Z</cp:lastPrinted>
  <dcterms:modified xsi:type="dcterms:W3CDTF">2012-11-27T13:17:57Z</dcterms:modified>
  <cp:revision>20</cp:revision>
  <dc:subject/>
  <dc:title>Diapositiva 1</dc:title>
</cp:coreProperties>
</file>