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2FBB-6257-4659-A792-CC452FBC0B6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E9B2-2222-4E16-80E8-280DE0B9EF9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9A39-33EE-4F08-972E-38D829C0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334A-0F5D-4DA6-9B1E-88FBE307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D6AB-73D9-45D9-B517-56D65117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A580-810C-49A6-AE5F-3E5F12306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BE91-20FB-4441-B0F3-FA5A22BE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9B5F-0934-4C95-A6CB-327B8EFE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2A0D-FB54-4265-BB1A-F4932510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0E73-F40F-4BEF-839E-EB955F5A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1027-6D2D-4462-B85E-BD74DD34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9C0D-D0EA-4EA5-B65D-037FFEEE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5A7D-D44B-468C-A03A-19CF1D28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C2EB-B2BE-4DD3-B434-5AFD5737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04E5-16C3-4AA8-993F-0A10ADFF7E1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664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3399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Arial"/>
              </a:rPr>
              <a:t>I FU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IB – FUTURES </a:t>
            </a: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ULL’INDICE DI BORS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60036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CARATTERISTICHE CONTRATTU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INDICE SOTTOSTA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FTSE/MIB (40 titoli più liquidi e capitalizzati per il flotta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IMPORTO CONTRAT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UNTI INDICE x 5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MINIFI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P.I. x 1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TI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5 PUNTI INDICE (25 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MINIFI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5 P.I. (5 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SCADENZ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ORE 9:05 DEL 3° VENERDI’ DI MARZO, GIUGNO, SETTEMBRE, DICEM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SETTLEMENT PR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GIORNALIER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MEDIA PONDERATA DELL’ULTIMO 10% DI CONTRATTI SCAMBI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GIORNO DI SCADENZ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FTSE/MIB DI AP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LIQUIDAZI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ASH SETTLEMEN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IL 1° GIORNO LAVORATIVO SUCCESSIVO ALLA SCAD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4896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ODALITA’ DI NEGOZIAZI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STA DI APERTURA (8:30-9: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NEGOZIAZIONE CONTINUA (9:00-17: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ARGINI INIZIAL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ABELLA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ASSA DI COMPENSAZIONE E GARANZ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TTUALMENTE: 13,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ATTORI CHE INFLUENZANO IL PREZZO TEORICO DEL FIB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032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VALORE DELL’INDICE CASH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TEMPO MANCANTE ALLA SCADENZA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TASSO DI INTERESSE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DIVIDENDI 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FUT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TEO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= INDICE CASH + INT – D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TRATEGIE DI UTILIZZ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0323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 fontScale="72000"/>
          </a:bodyPr>
          <a:p>
            <a:pPr marL="246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HED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46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ULL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46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APPORTO DI COPERTURA (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TRADING DIREZ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SF – SINGLE STOCK FUTUR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4836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RISPETTO AL FI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LOTTI MINI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AGGIOR NUMEROSITA’ DI SCADENZE NEGOZIAB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UTURES</a:t>
            </a: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- DEFINIZION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311280"/>
          </a:xfrm>
          <a:prstGeom prst="rect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Contratto con il quale i contraenti si assumono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l’impegno ad acquistare o vendere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una quantità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tandardizzata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di una merce o attività finanziaria ad un prezzo e ad una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data futura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predetermin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SOLO IN </a:t>
            </a: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BORSE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 UFFICIALMENTE RICONOSCI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TIPOLOGIE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TOCK INDEX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FINA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INGLE STOCK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FU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NTEREST RATE /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COMMOD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arentesi graffa chiusa 1"/>
          <p:cNvSpPr/>
          <p:nvPr/>
        </p:nvSpPr>
        <p:spPr>
          <a:xfrm>
            <a:off x="5940360" y="3141720"/>
            <a:ext cx="287280" cy="208764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2087640"/>
              <a:gd name="textAreaBottom" fmla="*/ 208044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4"/>
                  <a:pt x="10800" y="248"/>
                </a:cubicBezTo>
                <a:lnTo>
                  <a:pt x="10800" y="10552"/>
                </a:lnTo>
                <a:cubicBezTo>
                  <a:pt x="10800" y="10676"/>
                  <a:pt x="16200" y="10800"/>
                  <a:pt x="21600" y="10800"/>
                </a:cubicBezTo>
                <a:cubicBezTo>
                  <a:pt x="16200" y="10800"/>
                  <a:pt x="10800" y="10924"/>
                  <a:pt x="10800" y="11048"/>
                </a:cubicBezTo>
                <a:lnTo>
                  <a:pt x="10800" y="21352"/>
                </a:lnTo>
                <a:cubicBezTo>
                  <a:pt x="10800" y="21476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ELEMENTI PECULI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TANDARD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MPOR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CADE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EGOLE DI CONTRAT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BIETTIVO: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ESALTARE AL MASSIMO LA NEGOZIABIL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CLEARING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2 IMPORTANTISSIME FUNZIO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OMPENS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GARANZ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ce30a5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COMPENSAZIONE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CONTROPARTE OBBLIGATORIA DI OGNI CONTRA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     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FACILITA LA COMPENSAZIONE 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ANTICIPATA DELLE POSI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GARANZ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GARANTISCE IL BUON FINE DEI CONTRA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nessuna esposizione sul merc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richiesta di elevati requisiti patrimoniali ai «clearing members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ampi poteri tecnici, regolamentari e di cont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ccia a destra 1"/>
          <p:cNvSpPr/>
          <p:nvPr/>
        </p:nvSpPr>
        <p:spPr>
          <a:xfrm>
            <a:off x="1692360" y="2565360"/>
            <a:ext cx="503280" cy="358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ISTEMA DEI MARGINI DI GARANZ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E INI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Basso (in % del valore del contratt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Obbligatorio per acquirente e vendit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Scopo: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COPRIRE LE EVENTUALI PERDITE DEL  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   1° GIORNO DI CONTRATT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I DI VARI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Meccanismo del «marking-to-market»: adeguamento giornaliero delle posizioni aperte sul merc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003399"/>
                </a:solidFill>
                <a:latin typeface="Comic Sans MS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          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I FUTURES SONO CONTRATTI A  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TERMINE CON LIQUIDAZIONE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IMMEDIATA DELLE DIFFERENZ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4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ccia a destra 3"/>
          <p:cNvSpPr/>
          <p:nvPr/>
        </p:nvSpPr>
        <p:spPr>
          <a:xfrm>
            <a:off x="1403280" y="5084640"/>
            <a:ext cx="504720" cy="36036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ff00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 REALTA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MARGINE INIZIALE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ON E’ FI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IENE RICALCOLATO GIORN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ulla base del «peggior scenario» ragionevolmente possibile per il giorno succes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 procede con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ADDEBITO/ACCREDITO GIORNALIERO DELLA DIFFERENZA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spetto a quanto già in essere sul conto fu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ccia in giù 1"/>
          <p:cNvSpPr/>
          <p:nvPr/>
        </p:nvSpPr>
        <p:spPr>
          <a:xfrm>
            <a:off x="4427640" y="1628640"/>
            <a:ext cx="360360" cy="43200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UNQUE,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GNI GIORNO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2 CASH F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4 febbraio        15 febbra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hiusura 14 febbra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E DI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MARGINE INI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ARIAZIONE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RICALCOL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EX-POST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7030a0"/>
                </a:solidFill>
                <a:latin typeface="Comic Sans MS"/>
              </a:rPr>
              <a:t>EX-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iquida la ∆ del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«accantona» max ∆ neg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4/02 (rispetto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possibile del 15/02 (risp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l 13/02)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al MI in essere il 14/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nettore 1 3"/>
          <p:cNvSpPr/>
          <p:nvPr/>
        </p:nvSpPr>
        <p:spPr>
          <a:xfrm flipV="1">
            <a:off x="900000" y="1807920"/>
            <a:ext cx="72723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onnettore 1 5"/>
          <p:cNvSpPr/>
          <p:nvPr/>
        </p:nvSpPr>
        <p:spPr>
          <a:xfrm>
            <a:off x="4535640" y="1557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nnettore 1 7"/>
          <p:cNvSpPr/>
          <p:nvPr/>
        </p:nvSpPr>
        <p:spPr>
          <a:xfrm>
            <a:off x="2411280" y="1808280"/>
            <a:ext cx="212436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onnettore 1 10"/>
          <p:cNvSpPr/>
          <p:nvPr/>
        </p:nvSpPr>
        <p:spPr>
          <a:xfrm>
            <a:off x="4572000" y="1844640"/>
            <a:ext cx="2124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Connettore 2 11"/>
          <p:cNvCxnSpPr/>
          <p:nvPr/>
        </p:nvCxnSpPr>
        <p:spPr>
          <a:xfrm flipV="1">
            <a:off x="4535280" y="2133720"/>
            <a:ext cx="1080" cy="358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Connettore 1 15"/>
          <p:cNvSpPr/>
          <p:nvPr/>
        </p:nvSpPr>
        <p:spPr>
          <a:xfrm flipH="1">
            <a:off x="2556000" y="2852640"/>
            <a:ext cx="172872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onnettore 1 17"/>
          <p:cNvSpPr/>
          <p:nvPr/>
        </p:nvSpPr>
        <p:spPr>
          <a:xfrm>
            <a:off x="4572000" y="2852640"/>
            <a:ext cx="158436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CASH SETT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(LIQUIDAZIONE PER CONTAN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DELIVERY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se previs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A SCADEN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LIQUID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PER CONTANTI D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i poch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ULTIMA DIFFERENZA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tratti aperti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PREZZ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ULTIMO M.V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Connettore 2 2"/>
          <p:cNvCxnSpPr/>
          <p:nvPr/>
        </p:nvCxnSpPr>
        <p:spPr>
          <a:xfrm flipV="1">
            <a:off x="2050560" y="3572640"/>
            <a:ext cx="10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Connettore 1 5"/>
          <p:cNvSpPr/>
          <p:nvPr/>
        </p:nvSpPr>
        <p:spPr>
          <a:xfrm flipV="1">
            <a:off x="3059280" y="2852640"/>
            <a:ext cx="108108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onnettore 1 8"/>
          <p:cNvSpPr/>
          <p:nvPr/>
        </p:nvSpPr>
        <p:spPr>
          <a:xfrm>
            <a:off x="3059280" y="3357720"/>
            <a:ext cx="108108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3:27:07Z</dcterms:created>
  <dc:creator>Marina Damilano</dc:creator>
  <dc:description/>
  <dc:language>en-US</dc:language>
  <cp:lastModifiedBy>Pia</cp:lastModifiedBy>
  <cp:lastPrinted>2012-02-15T10:24:12Z</cp:lastPrinted>
  <dcterms:modified xsi:type="dcterms:W3CDTF">2012-03-16T10:34:29Z</dcterms:modified>
  <cp:revision>24</cp:revision>
  <dc:subject/>
  <dc:title>Diapositiva 1</dc:title>
</cp:coreProperties>
</file>