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318D-46EC-4375-9DC5-82C6D4E2E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05DA-1655-4E31-AE7A-C2248C290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A367-6639-45A1-87BF-6F7649E7F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635C-A2E2-4831-AB25-FA7FBB373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EE21-F0B9-40C2-824D-6DB9C277C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292B-059D-4B00-AD73-E33A0C6BE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558C-1420-4079-B293-997823604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CEE3-E965-4ABD-A9E9-C69BFFA52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B18D-F995-4B1C-9814-7476B1C8D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4532-5E09-4F10-A522-B49F8DB00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7B67-E295-4A0E-BDC1-F49383E08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3ADD-2DE1-49CB-ABAC-AF4E2A664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24582-B538-4681-BD53-B5DBE80B87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735120" y="4238280"/>
            <a:ext cx="7673760" cy="63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8" descr="SAA_1a_LOGO_NUOVO_2008"/>
          <p:cNvPicPr/>
          <p:nvPr/>
        </p:nvPicPr>
        <p:blipFill>
          <a:blip r:embed="rId1"/>
          <a:stretch/>
        </p:blipFill>
        <p:spPr>
          <a:xfrm>
            <a:off x="436680" y="358920"/>
            <a:ext cx="1341360" cy="10159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Univerità"/>
          <p:cNvPicPr/>
          <p:nvPr/>
        </p:nvPicPr>
        <p:blipFill>
          <a:blip r:embed="rId2"/>
          <a:stretch/>
        </p:blipFill>
        <p:spPr>
          <a:xfrm>
            <a:off x="7615080" y="320760"/>
            <a:ext cx="1108080" cy="10602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2"/>
          <p:cNvSpPr/>
          <p:nvPr/>
        </p:nvSpPr>
        <p:spPr>
          <a:xfrm>
            <a:off x="115920" y="2141640"/>
            <a:ext cx="8889840" cy="21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it-IT" sz="3200" spc="-1" strike="noStrike">
                <a:solidFill>
                  <a:srgbClr val="0000ff"/>
                </a:solidFill>
                <a:latin typeface="Arial"/>
              </a:rPr>
              <a:t>I PRODOTTI E I SERVIZI DI INVESTIMENTO FINANZIA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0000ff"/>
                </a:solidFill>
                <a:uFillTx/>
                <a:latin typeface="Arial"/>
              </a:rPr>
              <a:t>LE OPZIO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ff"/>
                </a:solidFill>
                <a:latin typeface="Arial"/>
                <a:ea typeface="Arial"/>
              </a:rPr>
              <a:t>Prof.ssa Marina Damilano -  Prof.ssa Patrizia P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252000" y="189000"/>
            <a:ext cx="864252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ff"/>
                </a:solidFill>
                <a:latin typeface="Comic Sans MS"/>
              </a:rPr>
              <a:t>Esempio di acquisto di un’opzione p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Titolo Italcementi vale 5,34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OGGI 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strike 5€; scadenza 2 mesi;premio 0,15€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lotto 100 azioni; premio pagato 15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1) Italcementi quota 5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l’opzione è ATM e il suo valore è nu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SCADENZA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2) Italcementi quota 3,8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l’opzione è ITM, l’esercizio porta a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un guadagno di 105€ (1,2*100 – 1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3) Italcementi quota 7,2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l’opzione è OTM, perdita del prem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33cc"/>
                </a:solidFill>
                <a:latin typeface="Comic Sans MS"/>
              </a:rPr>
              <a:t>Effetto leva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: con 15€ si investe in un contratto che vale 500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33,33 volte di pi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2360" y="1125360"/>
            <a:ext cx="1366920" cy="790920"/>
          </a:xfrm>
          <a:custGeom>
            <a:avLst/>
            <a:gdLst>
              <a:gd name="textAreaLeft" fmla="*/ 0 w 1366920"/>
              <a:gd name="textAreaRight" fmla="*/ 1367280 w 1366920"/>
              <a:gd name="textAreaTop" fmla="*/ 0 h 790920"/>
              <a:gd name="textAreaBottom" fmla="*/ 791280 h 79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2360" y="3357720"/>
            <a:ext cx="2374920" cy="863280"/>
          </a:xfrm>
          <a:custGeom>
            <a:avLst/>
            <a:gdLst>
              <a:gd name="textAreaLeft" fmla="*/ 0 w 2374920"/>
              <a:gd name="textAreaRight" fmla="*/ 2374920 w 2374920"/>
              <a:gd name="textAreaTop" fmla="*/ 0 h 863280"/>
              <a:gd name="textAreaBottom" fmla="*/ 863640 h 86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4" y="0"/>
                </a:lnTo>
                <a:lnTo>
                  <a:pt x="21600" y="10800"/>
                </a:lnTo>
                <a:lnTo>
                  <a:pt x="16204" y="21600"/>
                </a:lnTo>
                <a:lnTo>
                  <a:pt x="0" y="21600"/>
                </a:lnTo>
                <a:close/>
              </a:path>
            </a:pathLst>
          </a:cu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2360" y="5805360"/>
            <a:ext cx="8352000" cy="719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Comic Sans MS"/>
              </a:rPr>
              <a:t>SHORT PUT profilo rischio/rendimento per il vendito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fit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quotazione 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erd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1547640" y="1052640"/>
            <a:ext cx="0" cy="446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900000" y="4724280"/>
            <a:ext cx="734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427640" y="4221000"/>
            <a:ext cx="3529080" cy="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2700360" y="4221000"/>
            <a:ext cx="1727280" cy="187200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LONG STRADDLE profilo rischio/rendimento per il vendit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fit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quotazione 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erd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547640" y="1484280"/>
            <a:ext cx="0" cy="446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900000" y="4724280"/>
            <a:ext cx="734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2195280" y="2420640"/>
            <a:ext cx="2089080" cy="33130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4284720" y="2420640"/>
            <a:ext cx="2520720" cy="33130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cc"/>
                </a:solidFill>
                <a:latin typeface="Comic Sans MS"/>
              </a:rPr>
              <a:t>SHORT STRADDLE  profilo rischio/rendimento per il vendit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fit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quotazione 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erd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47640" y="1267920"/>
            <a:ext cx="0" cy="4464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00000" y="4724280"/>
            <a:ext cx="734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484360" y="3644640"/>
            <a:ext cx="1943280" cy="2158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27640" y="3645000"/>
            <a:ext cx="1800000" cy="2232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A cosa servono le opzio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52000" y="1052640"/>
            <a:ext cx="843444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ff"/>
                </a:solidFill>
                <a:latin typeface="Comic Sans MS"/>
              </a:rPr>
              <a:t>Trading direzionale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: il pay-off asimmetrico consente di ottenere profitti anche nei casi in cui il mercato è al ribas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ff"/>
                </a:solidFill>
                <a:latin typeface="Comic Sans MS"/>
              </a:rPr>
              <a:t>Effetto leva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: controllando un elevato controvalore di attività finanziarie con un investimento limitato, si possono ottenere risultati amplificati rispetto alla performance del sottost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ff"/>
                </a:solidFill>
                <a:latin typeface="Comic Sans MS"/>
              </a:rPr>
              <a:t>Gestione del rischio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: attuare strategie di coper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ff"/>
                </a:solidFill>
                <a:latin typeface="Comic Sans MS"/>
              </a:rPr>
              <a:t>Strategie di trading complesse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: attraverso l’acquisto/vendita di due o più opzioni con differenti caratteristi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omic Sans MS"/>
              </a:rPr>
              <a:t>Caratteristiche contrattual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457200" y="1197000"/>
          <a:ext cx="8221680" cy="5238720"/>
        </p:xfrm>
        <a:graphic>
          <a:graphicData uri="http://schemas.openxmlformats.org/drawingml/2006/table">
            <a:tbl>
              <a:tblPr/>
              <a:tblGrid>
                <a:gridCol w="2459160"/>
                <a:gridCol w="1942920"/>
                <a:gridCol w="2017800"/>
                <a:gridCol w="1801800"/>
              </a:tblGrid>
              <a:tr h="107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BO su FTSEMI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BO su FTSEMIB settimana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pzioni su azion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tile opzi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rope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rope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eric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Quotazi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nti Indice 2,5 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nti Indice 2,5 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Eu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imensione contr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.I. x 2,5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.I. x 2,5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.E. x lot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remio contrat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.I. x 2,5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.I. x 2,5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mio x lot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iorno di scadenz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° Venerdì h.9,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° 2° 4° Venerdì h.9,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° Venerdì h.9,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caden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scaden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iovedì - Venerd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scaden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iquidazi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contanti. Pari a P.E. – V.I. su prezzi apertura rilevati il giorno di scadenz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242640"/>
            <a:ext cx="8229600" cy="642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MARZO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rile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ggio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GIUGNO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SETTEMBRE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DICEMBRE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cc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33cc"/>
                </a:solidFill>
                <a:latin typeface="Arial"/>
              </a:rPr>
              <a:t>GIUGNO 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cc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33cc"/>
                </a:solidFill>
                <a:latin typeface="Arial"/>
              </a:rPr>
              <a:t>DICEMBRE 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cc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33cc"/>
                </a:solidFill>
                <a:latin typeface="Arial"/>
              </a:rPr>
              <a:t>GIUGNO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cc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33cc"/>
                </a:solidFill>
                <a:latin typeface="Arial"/>
              </a:rPr>
              <a:t>DICEMBRE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cc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33cc"/>
                </a:solidFill>
                <a:latin typeface="Arial"/>
              </a:rPr>
              <a:t>DICEMBRE 20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cc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33cc"/>
                </a:solidFill>
                <a:latin typeface="Arial"/>
              </a:rPr>
              <a:t>DICEMBRE 201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116000" y="0"/>
            <a:ext cx="0" cy="6670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116000" y="40464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16000" y="1108080"/>
            <a:ext cx="479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116000" y="1863720"/>
            <a:ext cx="479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116000" y="2619360"/>
            <a:ext cx="479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116000" y="674640"/>
            <a:ext cx="192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116000" y="890640"/>
            <a:ext cx="192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116000" y="3357720"/>
            <a:ext cx="384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116000" y="4132440"/>
            <a:ext cx="384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116000" y="4888080"/>
            <a:ext cx="384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116000" y="5373720"/>
            <a:ext cx="384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16000" y="5859360"/>
            <a:ext cx="384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16000" y="6399360"/>
            <a:ext cx="384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Comic Sans MS"/>
              </a:rPr>
              <a:t>Valore Opzi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755640" y="1484280"/>
          <a:ext cx="7848720" cy="4853160"/>
        </p:xfrm>
        <a:graphic>
          <a:graphicData uri="http://schemas.openxmlformats.org/drawingml/2006/table">
            <a:tbl>
              <a:tblPr/>
              <a:tblGrid>
                <a:gridCol w="2743200"/>
                <a:gridCol w="1360440"/>
                <a:gridCol w="1873440"/>
                <a:gridCol w="1871640"/>
              </a:tblGrid>
              <a:tr h="67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attor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A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U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ottostan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rezzo Esercizi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ita residu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olatilit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asso d’interes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9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ividend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6" name=""/>
          <p:cNvSpPr/>
          <p:nvPr/>
        </p:nvSpPr>
        <p:spPr>
          <a:xfrm>
            <a:off x="3851280" y="2276640"/>
            <a:ext cx="504720" cy="504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435640" y="2276640"/>
            <a:ext cx="576360" cy="43164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308720" y="2276640"/>
            <a:ext cx="576360" cy="502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780000" y="2997360"/>
            <a:ext cx="576000" cy="502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364000" y="2997360"/>
            <a:ext cx="576360" cy="43164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80000" y="3716280"/>
            <a:ext cx="576000" cy="503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364000" y="3716280"/>
            <a:ext cx="576360" cy="503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308720" y="3716280"/>
            <a:ext cx="576360" cy="503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51280" y="4365720"/>
            <a:ext cx="504720" cy="504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364000" y="4365720"/>
            <a:ext cx="505080" cy="504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308720" y="4365720"/>
            <a:ext cx="505080" cy="504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851280" y="5084640"/>
            <a:ext cx="504720" cy="505080"/>
          </a:xfrm>
          <a:prstGeom prst="upArrow">
            <a:avLst>
              <a:gd name="adj1" fmla="val 50000"/>
              <a:gd name="adj2" fmla="val 25018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64000" y="5084640"/>
            <a:ext cx="505080" cy="5050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308720" y="5084640"/>
            <a:ext cx="576360" cy="503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851280" y="5734080"/>
            <a:ext cx="504720" cy="504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308720" y="5734080"/>
            <a:ext cx="505080" cy="504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364000" y="5734080"/>
            <a:ext cx="576360" cy="503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308720" y="2924280"/>
            <a:ext cx="576360" cy="503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</a:rPr>
              <a:t>OPZIO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52000" y="1267920"/>
            <a:ext cx="87123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 u="sng">
                <a:solidFill>
                  <a:srgbClr val="000000"/>
                </a:solidFill>
                <a:uFillTx/>
                <a:latin typeface="Comic Sans MS"/>
              </a:rPr>
              <a:t>Contratto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 che, a fronte del pagamento di un “premio” iniziale, attribuisce la facoltà d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comprare (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opzione call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) o vendere (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opzione put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un certo quantitativo di attività finanziaria o   reale (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attività sottostante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a un prezzo predeterminato (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prezzo di esercizio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o 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strike price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alla scadenza (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opzione europea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) o entro una specifica scadenza (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opzione americana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252000" y="404280"/>
            <a:ext cx="864252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ff"/>
                </a:solidFill>
                <a:latin typeface="Comic Sans MS"/>
              </a:rPr>
              <a:t>Opzione C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Comic Sans MS"/>
              </a:rPr>
              <a:t>ACQUIRENTE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it-IT" sz="3200" spc="-1" strike="noStrike">
                <a:solidFill>
                  <a:srgbClr val="33cc33"/>
                </a:solidFill>
                <a:latin typeface="Comic Sans MS"/>
              </a:rPr>
              <a:t>VENDIT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Compra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        Ven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il diritto di acquis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1000 azioni Enel al prezz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prefissato ed entro un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data futur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39640" y="1700280"/>
            <a:ext cx="1511280" cy="2233440"/>
          </a:xfrm>
          <a:custGeom>
            <a:avLst/>
            <a:gdLst>
              <a:gd name="textAreaLeft" fmla="*/ 202320 w 1511280"/>
              <a:gd name="textAreaRight" fmla="*/ 1308960 w 1511280"/>
              <a:gd name="textAreaTop" fmla="*/ 390600 h 2233440"/>
              <a:gd name="textAreaBottom" fmla="*/ 1619280 h 2233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659640" y="1700280"/>
            <a:ext cx="1800000" cy="2232000"/>
          </a:xfrm>
          <a:custGeom>
            <a:avLst/>
            <a:gdLst>
              <a:gd name="textAreaLeft" fmla="*/ 240840 w 1800000"/>
              <a:gd name="textAreaRight" fmla="*/ 1559160 w 1800000"/>
              <a:gd name="textAreaTop" fmla="*/ 390600 h 2232000"/>
              <a:gd name="textAreaBottom" fmla="*/ 1618200 h 22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95280" y="5373720"/>
            <a:ext cx="4392720" cy="1224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6840" y="260280"/>
            <a:ext cx="821844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ff"/>
                </a:solidFill>
                <a:latin typeface="Comic Sans MS"/>
              </a:rPr>
              <a:t>LONG CALL profilo rischio/rendimento per il detent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Profit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              quotazione 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Perd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A scadenza, un’opzione call va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0 se S &gt; 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(Q – S) se S &lt; 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547640" y="1052640"/>
            <a:ext cx="0" cy="417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971640" y="4292640"/>
            <a:ext cx="7345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547640" y="4724280"/>
            <a:ext cx="23050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3852720" y="1413000"/>
            <a:ext cx="3095640" cy="3311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pzione “at the money” (ATM) se lo strike è uguale alla quotazione del sottost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pzione “in the Money” (ITM) se lo strike è inferiore alla quotazione del sottost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pzione “out of the money” (OTM) se lo strike è superiore alla quotazione del sottost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463680" y="3357720"/>
          <a:ext cx="8216640" cy="276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3680" y="3357720"/>
                    <a:ext cx="8216640" cy="27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252000" y="189000"/>
            <a:ext cx="864252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ff"/>
                </a:solidFill>
                <a:latin typeface="Comic Sans MS"/>
              </a:rPr>
              <a:t>Esempio di acquisto di un’opzione c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Titolo Enel vale 3,06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OGGI 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strike 3,2€; scadenza 3 mesi;premio 0,10€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lotto 500 azioni; premio pagato 50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1) Enel quota 3,2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l’opzione è ATM e il suo valore è nu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SCADENZA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2) Enel quota 3,9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l’opzione è ITM, l’esercizio porta a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un guadagno di 300€ (0,7*500 – 5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3) Enel quota 2,6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l’opzione è OTM, perdita del prem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33cc"/>
                </a:solidFill>
                <a:latin typeface="Comic Sans MS"/>
              </a:rPr>
              <a:t>Effetto leva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: con 50€ si investe in un contratto che vale 1.600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32 volte di pi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2360" y="1125360"/>
            <a:ext cx="1366920" cy="790920"/>
          </a:xfrm>
          <a:custGeom>
            <a:avLst/>
            <a:gdLst>
              <a:gd name="textAreaLeft" fmla="*/ 0 w 1366920"/>
              <a:gd name="textAreaRight" fmla="*/ 1367280 w 1366920"/>
              <a:gd name="textAreaTop" fmla="*/ 0 h 790920"/>
              <a:gd name="textAreaBottom" fmla="*/ 791280 h 79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2360" y="3357720"/>
            <a:ext cx="2374920" cy="863280"/>
          </a:xfrm>
          <a:custGeom>
            <a:avLst/>
            <a:gdLst>
              <a:gd name="textAreaLeft" fmla="*/ 0 w 2374920"/>
              <a:gd name="textAreaRight" fmla="*/ 2374920 w 2374920"/>
              <a:gd name="textAreaTop" fmla="*/ 0 h 863280"/>
              <a:gd name="textAreaBottom" fmla="*/ 863640 h 86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4" y="0"/>
                </a:lnTo>
                <a:lnTo>
                  <a:pt x="21600" y="10800"/>
                </a:lnTo>
                <a:lnTo>
                  <a:pt x="16204" y="21600"/>
                </a:lnTo>
                <a:lnTo>
                  <a:pt x="0" y="21600"/>
                </a:lnTo>
                <a:close/>
              </a:path>
            </a:pathLst>
          </a:cu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52360" y="5805360"/>
            <a:ext cx="8352000" cy="719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cc"/>
                </a:solidFill>
                <a:latin typeface="Comic Sans MS"/>
              </a:rPr>
              <a:t>SHORT CALL profilo rischio/rendimento per il vendit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fit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quotazione 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erd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1547640" y="1052640"/>
            <a:ext cx="0" cy="446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971640" y="4292640"/>
            <a:ext cx="7345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547640" y="3860640"/>
            <a:ext cx="2305080" cy="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52720" y="3860640"/>
            <a:ext cx="2590920" cy="259272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252000" y="404280"/>
            <a:ext cx="864252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ff"/>
                </a:solidFill>
                <a:latin typeface="Comic Sans MS"/>
              </a:rPr>
              <a:t>Opzione P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Comic Sans MS"/>
              </a:rPr>
              <a:t>ACQUIRENTE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it-IT" sz="3200" spc="-1" strike="noStrike">
                <a:solidFill>
                  <a:srgbClr val="33cc33"/>
                </a:solidFill>
                <a:latin typeface="Comic Sans MS"/>
              </a:rPr>
              <a:t>VENDIT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Compra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        Ven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il diritto di vend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1000 azioni Enel al prezz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prefissato ed entro un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data futur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39640" y="1700280"/>
            <a:ext cx="1511280" cy="2233440"/>
          </a:xfrm>
          <a:custGeom>
            <a:avLst/>
            <a:gdLst>
              <a:gd name="textAreaLeft" fmla="*/ 202320 w 1511280"/>
              <a:gd name="textAreaRight" fmla="*/ 1308960 w 1511280"/>
              <a:gd name="textAreaTop" fmla="*/ 390600 h 2233440"/>
              <a:gd name="textAreaBottom" fmla="*/ 1619280 h 2233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659640" y="1700280"/>
            <a:ext cx="1800000" cy="2232000"/>
          </a:xfrm>
          <a:custGeom>
            <a:avLst/>
            <a:gdLst>
              <a:gd name="textAreaLeft" fmla="*/ 240840 w 1800000"/>
              <a:gd name="textAreaRight" fmla="*/ 1559160 w 1800000"/>
              <a:gd name="textAreaTop" fmla="*/ 390600 h 2232000"/>
              <a:gd name="textAreaBottom" fmla="*/ 1618200 h 22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95280" y="5373720"/>
            <a:ext cx="4392720" cy="1224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6840" y="260280"/>
            <a:ext cx="821844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ff"/>
                </a:solidFill>
                <a:latin typeface="Comic Sans MS"/>
              </a:rPr>
              <a:t>LONG PUT profilo rischio/rendimento per il detent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Profit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              quotazione 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Perd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A scadenza, un’opzione put va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0 se S &lt; 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(S – Q) se S &gt; 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547640" y="1052640"/>
            <a:ext cx="0" cy="417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971640" y="4292640"/>
            <a:ext cx="7345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4643280" y="4797360"/>
            <a:ext cx="281016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2341440" y="1557360"/>
            <a:ext cx="2301840" cy="324000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3T14:10:52Z</dcterms:created>
  <dc:creator>Patrizia Pia</dc:creator>
  <dc:description/>
  <dc:language>en-US</dc:language>
  <cp:lastModifiedBy>Patrizia Pia</cp:lastModifiedBy>
  <dcterms:modified xsi:type="dcterms:W3CDTF">2012-02-08T12:30:51Z</dcterms:modified>
  <cp:revision>11</cp:revision>
  <dc:subject/>
  <dc:title>Diapositiva 1</dc:title>
</cp:coreProperties>
</file>