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4F5D-18C5-49C1-BEAC-BB898476569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5EEF-4EB3-4D1D-909C-6FF6319E1BD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D63-5317-4C32-BCF1-FCBCAB97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14B-CEC5-43B8-97B9-2E8B8E0B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C96-6BB4-4DE7-8561-A565AB8F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39D-EC2F-49D5-9785-949073AF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76AA-E057-4891-B4A9-FED788AF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029-284C-4F99-A160-AD644CCF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1747-C5AE-4510-A1DB-3E428159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93A-666E-4C30-B847-511284D8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854-A605-4321-AC10-A36E692E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7D39-357C-4832-A999-605A3259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62D-1FC6-4987-8012-00ED21B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9B5-0CE6-4E18-8E64-815B6277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169B-C641-4257-8735-CA36D48833D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GLI SW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95280" y="1557360"/>
            <a:ext cx="8424720" cy="115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cc00"/>
                </a:solidFill>
                <a:latin typeface="Comic Sans MS"/>
              </a:rPr>
              <a:t>GLI SW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le parti si accordano per scambiarsi nel tempo due diversi flussi di c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cordo in base al quale le due controparti si impegnano a scambiarsi, per un periodo prestabilito, dei flussi finanziari equivalenti agli interessi maturati su un certo capitale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95280" y="4365720"/>
            <a:ext cx="8064360" cy="93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COUPON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fisso scambiato con un flusso a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BASIS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variabile scambiato con un flusso, sempre a tasso variabile, ma parametrato ad un diverso indic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cc00"/>
                </a:solidFill>
                <a:latin typeface="Comic Sans MS"/>
              </a:rPr>
              <a:t>CURRENCY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scambio di flussi di cassa espressi in due valute d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 COSA SERVONO GLI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ttimizz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 costi di finanziamento o il rendimento di un invest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’esposizione al rischio di oscillazione dei tassi d’interesse o di cam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osizioni speculative al rialzo o al ribasso nel mercato dei tassi d’interesse o dei 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00"/>
                </a:solidFill>
                <a:latin typeface="Comic Sans MS"/>
              </a:rPr>
              <a:t>CREDIT DEFAULT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una parte (compratore della protezione), contro pagamento di un premio, riceve dall’altra parte (venditore di protezione) una somma di denaro pari alla perdita subita o ha il diritto di consegnare un’obbligazione di pagamento del soggetto di riferimento se entro la scadenza concordata il soggetto in questione diviene insolv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2:41:20Z</dcterms:created>
  <dc:creator>Patrizia Pia</dc:creator>
  <dc:description/>
  <dc:language>en-US</dc:language>
  <cp:lastModifiedBy>Pia</cp:lastModifiedBy>
  <dcterms:modified xsi:type="dcterms:W3CDTF">2012-03-16T10:34:02Z</dcterms:modified>
  <cp:revision>4</cp:revision>
  <dc:subject/>
  <dc:title>Diapositiva 1</dc:title>
</cp:coreProperties>
</file>