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76B-3A26-42FF-BF72-462DE86D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CA7E-37DE-4A49-8A07-A56A896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675-C673-4954-A9CD-5B34CCB9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89A-29F2-40A9-ADB4-D0797923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DC7-C73B-41F4-88E1-B513AD04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7ED-8968-478B-902E-FA6F71D2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9BD-9ADE-4EA5-9D20-C34D1BCF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B34-7DBA-498F-A46A-3ECE1EF9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B39-831A-403F-8317-5555B2E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11C-9B2E-4C45-BADE-6F88D1B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931-4238-4A88-8FF5-29DE833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B48-5B6D-4277-A78D-5870CE30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C593-DDE0-41E7-BF5C-E7D4D8E70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Patrizia Pia</cp:lastModifiedBy>
  <dcterms:modified xsi:type="dcterms:W3CDTF">2012-03-08T13:41:25Z</dcterms:modified>
  <cp:revision>4</cp:revision>
  <dc:subject/>
  <dc:title>Diapositiva 1</dc:title>
</cp:coreProperties>
</file>