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06CF-9636-452E-9B41-8E3449510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D532-7540-46EB-B367-2385A6B53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4073-7076-4609-9D24-B0D879963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4579-280B-44C2-8AEA-9E9C33FCF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FB36-9585-4355-B3B2-38471244E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94C0-2D85-4FBE-8058-0CDDC66E3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264D-5D36-47BE-B85D-A215763BB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255B-F1C5-48ED-A244-ED1DF8E92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74BB-CD7B-428D-BCE2-55676CD81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DE21-8942-4181-84F3-85905C550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3EE7-E52B-43B4-B9D4-92078BA62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1FA0-F42C-40F1-B76B-994E203FA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ADDB5-09E0-4778-9B12-C7F5ED7D2C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735120" y="4238280"/>
            <a:ext cx="7673760" cy="63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8" descr="SAA_1a_LOGO_NUOVO_2008"/>
          <p:cNvPicPr/>
          <p:nvPr/>
        </p:nvPicPr>
        <p:blipFill>
          <a:blip r:embed="rId1"/>
          <a:stretch/>
        </p:blipFill>
        <p:spPr>
          <a:xfrm>
            <a:off x="436680" y="358920"/>
            <a:ext cx="1341360" cy="10159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Univerità"/>
          <p:cNvPicPr/>
          <p:nvPr/>
        </p:nvPicPr>
        <p:blipFill>
          <a:blip r:embed="rId2"/>
          <a:stretch/>
        </p:blipFill>
        <p:spPr>
          <a:xfrm>
            <a:off x="7615080" y="320760"/>
            <a:ext cx="1108080" cy="10602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2"/>
          <p:cNvSpPr/>
          <p:nvPr/>
        </p:nvSpPr>
        <p:spPr>
          <a:xfrm>
            <a:off x="115920" y="2141640"/>
            <a:ext cx="8889840" cy="21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it-IT" sz="3200" spc="-1" strike="noStrike">
                <a:solidFill>
                  <a:srgbClr val="0000ff"/>
                </a:solidFill>
                <a:latin typeface="Arial"/>
              </a:rPr>
              <a:t>I PRODOTTI E I SERVIZI DI INVESTIMENTO FINANZIA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0000ff"/>
                </a:solidFill>
                <a:uFillTx/>
                <a:latin typeface="Arial"/>
              </a:rPr>
              <a:t>I CERTIFIC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ff"/>
                </a:solidFill>
                <a:latin typeface="Arial"/>
                <a:ea typeface="Arial"/>
              </a:rPr>
              <a:t>Prof.ssa Marina Damilano -  Prof.ssa Patrizia P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EVERAGE CERTIFICA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corporano livello di rischio più elevato e permettono di partecipare in modo amplificato all’andamento del sottost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urata minore: 1-2 an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 scadenza si comportano come normali opzioni </a:t>
            </a:r>
            <a:r>
              <a:rPr b="0" i="1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all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o </a:t>
            </a:r>
            <a:r>
              <a:rPr b="0" i="1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ut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ma cessano di esistere e vengono liquidati anticipatamente se il sottostante tocca la barriera o lo stop loss in qualunque momento durante la vita del certif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sempio di leverage certificate “bull”: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Strike 16.500; barriera 16.890; multiplo 0,0001; Prezzo di mercato 0,352€; prezzo sottostante (valore Indice) 19.705; scadenza 2 me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1. L’indice tocca la barriera prima della scaden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l certificato cessa di esistere e viene liquidato al prezzo di stop lo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ezzo minimo toccato 16.750 liquidato 0,025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ezzo minimo toccato 16.350 liquidato z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404640"/>
            <a:ext cx="836280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2. L’indice sottostante non tocca il livello barrie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 l’indice vale 21.350 punti: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21.350 – 16.500) x 0,0001 = 0,485 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cremento indice 8,3%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cremento certificato 37,8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 l’indice vale 18.525 punt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18.525 – 16.500) x 0,0001 = 0,2025 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iduzione indice del 6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iduzione certificato del 42,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8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284720" y="3933720"/>
            <a:ext cx="4535280" cy="863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84720" y="2852640"/>
            <a:ext cx="3311640" cy="505080"/>
          </a:xfrm>
          <a:prstGeom prst="rect">
            <a:avLst/>
          </a:prstGeom>
          <a:solidFill>
            <a:srgbClr val="cc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284720" y="1844640"/>
            <a:ext cx="3743280" cy="4320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99"/>
                </a:solidFill>
                <a:latin typeface="Comic Sans MS"/>
              </a:rPr>
              <a:t>I CERTIFIC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8920" y="1196640"/>
            <a:ext cx="8713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Strumenti derivati cartolarizza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A capitale non protet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3399"/>
                </a:solidFill>
                <a:latin typeface="Comic Sans MS"/>
              </a:rPr>
              <a:t>INVESTMENT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A capitale protet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3399"/>
                </a:solidFill>
                <a:latin typeface="Comic Sans MS"/>
              </a:rPr>
              <a:t>CERTIFICATES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A capitale condizionatam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protet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cc0099"/>
                </a:solidFill>
                <a:latin typeface="Comic Sans MS"/>
              </a:rPr>
              <a:t>LEVE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cc0099"/>
                </a:solidFill>
                <a:latin typeface="Comic Sans MS"/>
              </a:rPr>
              <a:t>CERTIFIC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3419640" y="2205000"/>
            <a:ext cx="720720" cy="719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19640" y="3068640"/>
            <a:ext cx="647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3429000"/>
            <a:ext cx="647640" cy="863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Comic Sans MS"/>
              </a:rPr>
              <a:t>MOLTEPLICI SOTTOSTANT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8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INVESTMENT CERTIFICATES tipo BENCHMA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urata compresa tra 2 e 5 an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nsibilità nulla o comunque molto ridotta rispetto al tempo mancante alla scadenza e alla volatilità del sottostante; minori difficoltà a “prezzare” i certific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corpora opzione call con strike uguale a zero (sempre deep-in-the-mone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99"/>
                </a:solidFill>
                <a:latin typeface="Comic Sans MS"/>
              </a:rPr>
              <a:t>Profilo rischio/rendimento del Certificate Benchma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vestment Certificate su FTSE/MIB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Multiplo 0,0001; prezzo di mercato 2,405€; Valore indice 27.333; vita residua 3 an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ER VALUTARE L’OPPORTUNITA’ DI INVESTIMENTO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alcolare lo sconto del certific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nfrontare entità sconto con tasso annuale dividend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,4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conto % = 1 - 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x 100 = 12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7.333 x 0,0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conto annualizzato (1 + 0,12)</a:t>
            </a:r>
            <a:r>
              <a:rPr b="1" lang="it-IT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⅓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- 1 = 3,8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 a scadenza l’indice FTSE/MIB vale 29.5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’importo liquidato: 29520 x 0,0001 = 2,952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ndimento di periodo: 22,7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76720" y="2276640"/>
            <a:ext cx="2663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Comic Sans MS"/>
              </a:rPr>
              <a:t>A CAPITALE PROTET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78920" y="160020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Seguono l’andamento di un sottotante ma viene fissato un livello minimo di riborso fina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Struttura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: acquisto di call con strike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acquisto di put con strike = livel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di prote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15:19:37Z</dcterms:created>
  <dc:creator>Patrizia Pia</dc:creator>
  <dc:description/>
  <dc:language>en-US</dc:language>
  <cp:lastModifiedBy>Patrizia Pia</cp:lastModifiedBy>
  <dcterms:modified xsi:type="dcterms:W3CDTF">2012-03-08T13:41:25Z</dcterms:modified>
  <cp:revision>4</cp:revision>
  <dc:subject/>
  <dc:title>Diapositiva 1</dc:title>
</cp:coreProperties>
</file>