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CE6-2A72-4A00-BE73-2F0B3EF9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8575-0270-465E-868F-37E5D4A4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719-C42C-46DB-B768-D471622D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3F2-9EE7-4656-8154-D380EEEA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5C4-C3B4-468E-978D-666BFAD9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869-5886-4923-A8FC-A3FD211E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4BE-87A9-4CBC-BA29-BC891D37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831-A794-4F81-9130-E6FE51B8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FA1-8493-49FF-9031-4E5DABAC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6B9-50EF-4063-8DBD-123F413A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DB0-6881-4803-BCC3-82350F23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656-E458-436B-A82F-1DB73C59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035B-7EED-4995-8EE5-665501B57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 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CHE COSA S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BASATI SU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SOTTOSTANTI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TTIVITA’ FINANZIARIE (o RE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TRE PRINCIPALI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 CATEGORIE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A CHE COSA SERV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PER LA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GESTIONE DEL RISCH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ULAZIONE (TR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iminazione totale o parziale del rischio di variazione dei prezzi sulle posizioni detenute nel mercato a p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ULAZIONE (TRAD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icerca del rischio nella speranza di massimizzare i 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fruttamento di temporanee inefficienze del mercato nel suo compl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NASCITA E SVILUPPO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Il mercato dei derivati, nato nei primi anni ’70, si è enormemente sviluppato nel corso degli ultimi dec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I REGOLA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O “OT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UTILITA’ DEI DERIVATI PER UN EFFICIENTE FUNZIONAMENTO DEI MERCATI FINANZ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35280" y="4149720"/>
            <a:ext cx="43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4365720"/>
            <a:ext cx="4330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Marina Damilano</cp:lastModifiedBy>
  <dcterms:modified xsi:type="dcterms:W3CDTF">2012-02-08T14:13:39Z</dcterms:modified>
  <cp:revision>3</cp:revision>
  <dc:subject/>
  <dc:title>Diapositiva 1</dc:title>
</cp:coreProperties>
</file>