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B87-731B-48CA-8762-C0C5E0D7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5D4-1C0F-4E06-9EB9-5D66179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183-5786-4F95-A8F0-51D22168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4EA-287A-4127-BCE9-E4309B93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A70-4FD9-4AC5-8496-C0B2205E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999-B518-4DEC-9EDF-084BBF14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E9F-CAB7-49AA-9647-03B8AC49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1B5-C4B7-4D92-9460-DFC9369F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924-DBAE-4576-B28E-99C99DB6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C28-C3D6-480E-AEFD-379E7455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40D-1FAF-43DB-8C08-58E84337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40C8-63EF-4A8C-8F5D-53C5147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89C-E001-4616-A83D-8329861D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ottenere profitti anche nei casi in cui il mercato è al riba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197000"/>
          <a:ext cx="8221680" cy="523872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 - 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.I.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Patrizia Pia</cp:lastModifiedBy>
  <dcterms:modified xsi:type="dcterms:W3CDTF">2012-02-08T12:30:51Z</dcterms:modified>
  <cp:revision>11</cp:revision>
  <dc:subject/>
  <dc:title>Diapositiva 1</dc:title>
</cp:coreProperties>
</file>