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76B7-5BF3-4526-8297-6E0EEFB9A8E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726A-6A5A-49CB-9C31-7A43358589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A93-390F-4666-8900-CC30CEAC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627-9051-4DBF-897E-2B0B4143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403-D6F1-490B-96C8-E56EEC9B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6EB-753C-4E16-9F08-41E22C0F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00B-5DDB-43AE-884B-69AC393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DDD-46B4-42D0-B6D2-436D130B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764-260F-49D1-8051-F0CD1938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0A3-F2A2-471A-A3BA-530A7BD3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52F-937F-4F0F-B072-1D4C3C6A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85-B3D7-47DF-9279-E72AA76D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553-86A2-48B6-BD92-D871C5C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58F-884A-4E06-9C0E-A2524A2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E6BA-5905-4F1F-B02E-5CE233F8907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GLI SW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95280" y="1557360"/>
            <a:ext cx="842472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cc0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4365720"/>
            <a:ext cx="806436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00"/>
                </a:solidFill>
                <a:latin typeface="Comic Sans MS"/>
              </a:rPr>
              <a:t>CURRENCY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cambio di flussi di cassa espressi in due valute d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Comic Sans MS"/>
              </a:rPr>
              <a:t>CREDIT DEFAULT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una parte (compratore della protezione), contro pagamento di un premio, riceve dall’altra parte (venditore di protezione) una somma di denaro pari alla perdita subita o ha il diritto di consegnare un’obbligazione di pagamento del soggetto di riferimento se entro la scadenza concordata il soggetto in questione diviene insolv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Pia</cp:lastModifiedBy>
  <dcterms:modified xsi:type="dcterms:W3CDTF">2012-03-16T10:34:02Z</dcterms:modified>
  <cp:revision>4</cp:revision>
  <dc:subject/>
  <dc:title>Diapositiva 1</dc:title>
</cp:coreProperties>
</file>