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6367-E8C7-450D-AD05-70F78EF0F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EFCD-F8BD-40CF-A8E1-B9CA2C0E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6746-6FBE-4BF1-8FCE-C81A22024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6B35-EF1B-4AF9-82B1-C59A68BA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C909-0E73-4747-A450-0352BC4E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C1DC-58B1-4FC6-B757-0F3274FB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CB1A-BBE6-43C1-83C9-14C942D3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D571-CD28-4CCA-B3DF-A3B2D0D99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5D56-88D8-42A5-9D33-A6CE5F06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814D-1535-4590-A52B-609B680D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9C39-0BB8-4D3B-BDC7-C629B228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5B07-E567-479D-8D72-0EEFB8B3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E374-9594-4C91-AA82-1DCC70B81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8080" cy="106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00ff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ff"/>
                </a:solidFill>
                <a:uFillTx/>
                <a:latin typeface="Arial"/>
              </a:rPr>
              <a:t>I CERTIF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VERAGE CERTIFIC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orporano livello di rischio più elevato e permettono di partecipare in modo amplificato all’andamento del sotto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urata minore: 1-2 a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scadenza si comportano come normali opzioni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l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a cessano di esistere e vengono liquidati anticipatamente se il sottostante tocca la barriera o lo stop loss in qualunque momento durante la vita del certif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empio di leverage certificate “bull”: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trike 16.500; barriera 16.890; multiplo 0,0001; Prezzo di mercato 0,352€; prezzo sottostante (valore Indice) 19.705; scadenza 2 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1. L’indice tocca la barriera prima della scad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certificato cessa di esistere e viene liquidato al prezzo di stop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zzo minimo toccato 16.750 liquidato 0,025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zzo minimo toccato 16.350 liquidato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362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2. L’indice sottostante non tocca il livello barri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l’indice vale 21.350 punti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21.350 – 16.500) x 0,0001 = 0,485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remento indice 8,3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remento certificato 37,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l’indice vale 18.525 pun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18.525 – 16.500) x 0,0001 = 0,2025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iduzione indice del 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iduzione certificato del 42,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284720" y="3933720"/>
            <a:ext cx="4535280" cy="863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84720" y="2852640"/>
            <a:ext cx="3311640" cy="50508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84720" y="1844640"/>
            <a:ext cx="3743280" cy="4320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Comic Sans MS"/>
              </a:rPr>
              <a:t>I CERTIF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trumenti derivati cartolarizz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 capitale non prot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INVESTMENT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 capitale prot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CERTIFICATES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 capitale condizionat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ot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99"/>
                </a:solidFill>
                <a:latin typeface="Comic Sans MS"/>
              </a:rPr>
              <a:t>LE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99"/>
                </a:solidFill>
                <a:latin typeface="Comic Sans MS"/>
              </a:rPr>
              <a:t>CERTIFIC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419640" y="2205000"/>
            <a:ext cx="72072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306864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3429000"/>
            <a:ext cx="64764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Comic Sans MS"/>
              </a:rPr>
              <a:t>MOLTEPLICI SOTTOSTA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INVESTMENT CERTIFICATES tipo BENCH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urata compresa tra 2 e 5 a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nsibilità nulla o comunque molto ridotta rispetto al tempo mancante alla scadenza e alla volatilità del sottostante; minori difficoltà a “prezzare” i certif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orpora opzione call con strike uguale a zero (sempre deep-in-the-mon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Comic Sans MS"/>
              </a:rPr>
              <a:t>Profilo rischio/rendimento del Certificate Benchm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vestment Certificate su FTSE/MIB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ultiplo 0,0001; prezzo di mercato 2,405€; Valore indice 27.333; vita residua 3 an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 VALUTARE L’OPPORTUNITA’ DI INVESTIMENT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colare lo sconto del certific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frontare entità sconto con tasso annuale dividen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,4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conto % = 1 -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x 100 = 1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7.333 x 0,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conto annualizzato (1 + 0,12)</a:t>
            </a:r>
            <a:r>
              <a:rPr b="1" lang="it-IT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⅓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- 1 = 3,8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a scadenza l’indice FTSE/MIB vale 29.5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’importo liquidato: 29520 x 0,0001 = 2,952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ndimento di periodo: 22,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2276640"/>
            <a:ext cx="26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Comic Sans MS"/>
              </a:rPr>
              <a:t>A CAPITALE PROTE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eguono l’andamento di un sottotante ma viene fissato un livello minimo di riborso fin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Struttur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: acquisto di call con strike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acquisto di put con strike = live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di prote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5:19:37Z</dcterms:created>
  <dc:creator>Patrizia Pia</dc:creator>
  <dc:description/>
  <dc:language>en-US</dc:language>
  <cp:lastModifiedBy>Patrizia Pia</cp:lastModifiedBy>
  <dcterms:modified xsi:type="dcterms:W3CDTF">2012-03-08T13:41:25Z</dcterms:modified>
  <cp:revision>4</cp:revision>
  <dc:subject/>
  <dc:title>Diapositiva 1</dc:title>
</cp:coreProperties>
</file>