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4CA-5AF6-475D-9D02-95A4C15B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9548-2A98-4951-A0A2-BD3B1DD3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651-C031-45C1-A516-26E7914D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27C-2E03-4DE6-A5F0-ADF03180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BF8-B7F9-484B-84B1-F854DD8F4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868-6EFC-4714-BCA4-D56F63E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E5F-9EBE-4C51-AF8F-CF1A9807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23BD-DA9B-4C43-9BE7-8C3FBE21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846-107E-4E12-A8BB-BD24006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C95-AB1A-48DF-8726-894637B2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BE6B-77F4-49BD-86A4-5B3FAA5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148-F471-433D-B255-9429E44D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37FC-3045-412C-8827-A21D486A4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ottenere profitti anche nei casi in cui il mercato è al riba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57200" y="1197000"/>
          <a:ext cx="8221680" cy="523872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ovedì - Venerd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.I.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0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Patrizia Pia</cp:lastModifiedBy>
  <dcterms:modified xsi:type="dcterms:W3CDTF">2012-02-08T12:30:51Z</dcterms:modified>
  <cp:revision>11</cp:revision>
  <dc:subject/>
  <dc:title>Diapositiva 1</dc:title>
</cp:coreProperties>
</file>