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A919-09CD-4CA5-8380-54479F28FCB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2DA6-C903-492D-AD16-F78202AA1A3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31CD-F4B6-42FE-BBA0-C4AF54477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E1FD-559A-4A9A-ABA2-2883EFEC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B319-2CD4-446D-B2B3-FA903A60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ECA8-BCD3-411A-8660-DEC491DE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8165-6B81-462A-9B14-3ADB47D5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7C5E-41FD-4EF0-80B0-1294DE15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9E5E-8C33-4F10-B4EB-0B997B20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02E9-72B6-478C-AA6C-BBC91DA5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DF8E-A24F-4097-BBCC-A9CB96CF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F62A-C39D-4C01-8232-77F18B1D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9574-DD92-47BC-AB74-9B8FE0B4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7381-9DC4-4E9B-BCB8-7BE6AE3A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5B3B-97DD-4978-B5BD-17030C960CF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808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00ff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ff"/>
                </a:solidFill>
                <a:uFillTx/>
                <a:latin typeface="Arial"/>
              </a:rPr>
              <a:t>GLI SW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395280" y="1557360"/>
            <a:ext cx="8424720" cy="1150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cc00"/>
                </a:solidFill>
                <a:latin typeface="Comic Sans MS"/>
              </a:rPr>
              <a:t>GLI SW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tratto con cui le parti si accordano per scambiarsi nel tempo due diversi flussi di cas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Comic Sans MS"/>
              </a:rPr>
              <a:t>INTEREST RATE SWAP (I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ccordo in base al quale le due controparti si impegnano a scambiarsi, per un periodo prestabilito, dei flussi finanziari equivalenti agli interessi maturati su un certo capitale di riferi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395280" y="4365720"/>
            <a:ext cx="8064360" cy="93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99"/>
                </a:solidFill>
                <a:uFillTx/>
                <a:latin typeface="Comic Sans MS"/>
              </a:rPr>
              <a:t>COUPON SWAPS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un flusso di interessi calcolato in base a un tasso fisso scambiato con un flusso a tasso vari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99"/>
                </a:solidFill>
                <a:uFillTx/>
                <a:latin typeface="Comic Sans MS"/>
              </a:rPr>
              <a:t>BASIS SWAPS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un flusso di interessi calcolato in base a un tasso variabile scambiato con un flusso, sempre a tasso variabile, ma parametrato ad un diverso indica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cc00"/>
                </a:solidFill>
                <a:latin typeface="Comic Sans MS"/>
              </a:rPr>
              <a:t>CURRENCY SWAPS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scambio di flussi di cassa espressi in due valute d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A COSA SERVONO GLI SW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ttimizza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i costi di finanziamento o il rendimento di un invest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opri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l’esposizione al rischio di oscillazione dei tassi d’interesse o di camb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pri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posizioni speculative al rialzo o al ribasso nel mercato dei tassi d’interesse o dei camb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cc00"/>
                </a:solidFill>
                <a:latin typeface="Comic Sans MS"/>
              </a:rPr>
              <a:t>CREDIT DEFAULT SW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tratto con cui una parte (compratore della protezione), contro pagamento di un premio, riceve dall’altra parte (venditore di protezione) una somma di denaro pari alla perdita subita o ha il diritto di consegnare un’obbligazione di pagamento del soggetto di riferimento se entro la scadenza concordata il soggetto in questione diviene insolv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2:41:20Z</dcterms:created>
  <dc:creator>Patrizia Pia</dc:creator>
  <dc:description/>
  <dc:language>en-US</dc:language>
  <cp:lastModifiedBy>Pia</cp:lastModifiedBy>
  <dcterms:modified xsi:type="dcterms:W3CDTF">2012-03-16T10:34:02Z</dcterms:modified>
  <cp:revision>4</cp:revision>
  <dc:subject/>
  <dc:title>Diapositiva 1</dc:title>
</cp:coreProperties>
</file>