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96F-EE51-4EF3-8D79-D6E6299F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C3C-7D66-4835-9472-722A7D4D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13F-0559-4481-89F3-D6D6D34C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FA4-845B-48FC-B298-823099BB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32F-9AA6-4C84-A29A-7E035F21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1A8-F5B1-4148-8A8B-EA12026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016-EF03-4F1D-97E2-FC7E5443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BB8-EF90-4815-B185-A25D28A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AB9-794D-4177-BB33-DF25EBC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B3E-F834-4745-ACF2-08CFF92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DBE-A4C2-4D9E-A8CF-A0DBD20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F4-B9D4-4F5F-9976-9F96E95F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22B-FE65-43C5-80AC-D808231AF3E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Marina</cp:lastModifiedBy>
  <cp:lastPrinted>2012-11-08T15:14:32Z</cp:lastPrinted>
  <dcterms:modified xsi:type="dcterms:W3CDTF">2013-04-12T10:15:33Z</dcterms:modified>
  <cp:revision>21</cp:revision>
  <dc:subject/>
  <dc:title>Diapositiva 1</dc:title>
</cp:coreProperties>
</file>