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5657-7899-45D0-9234-ED18C11049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1EA9-2E94-423C-9491-738FCBF87D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92-57B3-43F4-A221-647D3900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A18-4ADA-4EEB-822F-2D9D4D14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3F3-E424-4F21-AD47-C0CC5095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51A-589E-49A7-9A51-012ACE10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C0F-86D2-4D5B-89B4-2ACF7B5F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2E6-6054-423A-92EB-776F05A9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C91-E9B3-40F5-83EA-86047CA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FCE-0649-472F-8ABD-C75AB1BE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1E1-689A-4942-95C6-9E112D1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117-93B9-4827-8F67-5E10FEA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7BE-1739-4C75-80BF-4424820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C40-40C1-46E1-A3A8-F5C8A89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40A6-7497-4A1A-99A8-58682FDEC04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Marina</cp:lastModifiedBy>
  <cp:lastPrinted>2012-05-02T15:09:26Z</cp:lastPrinted>
  <dcterms:modified xsi:type="dcterms:W3CDTF">2013-04-12T10:15:07Z</dcterms:modified>
  <cp:revision>22</cp:revision>
  <dc:subject/>
  <dc:title>Diapositiva 1</dc:title>
</cp:coreProperties>
</file>