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1037-3623-4B21-A402-78B4990D7A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7E8F-3E05-4EFF-B62F-ACCD90B8CF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069-EEAD-4BDB-BD56-D2FAF8BC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A02-C4E2-4B9A-A5DD-D296AC94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35D-73F1-4034-BBCA-C42009E5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304-8E73-41A5-A34E-D4FBCC6D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4DC-AFE0-4BCA-B78B-4601362A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EBF-A06F-4C9B-86A2-8E8896B1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441-6DBA-408E-B84B-753189C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2C0-7DA5-410C-BD93-D40DC149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8F0-5490-4F6C-B693-30E40E01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769-D135-4637-98EA-3A6FF061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637-D596-49E4-B731-42D547C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77F-7BFF-493F-A314-765B79E9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E90B-D28C-4D02-8D39-C6462949A07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docenti</cp:lastModifiedBy>
  <cp:lastPrinted>2012-02-15T10:24:12Z</cp:lastPrinted>
  <dcterms:modified xsi:type="dcterms:W3CDTF">2013-03-01T09:57:25Z</dcterms:modified>
  <cp:revision>26</cp:revision>
  <dc:subject/>
  <dc:title>Diapositiva 1</dc:title>
</cp:coreProperties>
</file>