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0C32-4D34-4065-A2A2-4FC9FE53632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9FCA-B9EA-4E8A-B180-03BA7F2A045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2B56-C529-4811-9152-471B9FAA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073F-5D33-4E85-A7CB-91C03BD4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2179-0034-4220-AF5E-2B53A43A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6FF-9F4D-4827-B88F-1565E99F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9F75-04BB-4976-8DAF-E56B9E96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1AC5-DCE9-4C63-92F4-857C257C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A530-3DB2-4AC3-9236-099C5D18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466-D387-476F-AD44-801C527D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F676-78CD-495E-B959-C0022D39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B695-3DA4-4CF8-8CDA-752EDE6E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D10E-8F61-4041-82CF-44789F0D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8D4-6296-46C2-9F17-388E4D5D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05F8-050B-4FF2-8FCC-469CD190B93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I 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CHE COSA SONO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STRUMENTI BASATI SU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SOTTOSTANTI </a:t>
            </a: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ATTIVITA’ FINANZIARIE (o RE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TRE PRINCIPALI</a:t>
            </a: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 CATEGORI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A CHE COSA SERVONO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STRUMENTI PER LA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GESTIONE DEL RISCH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PECULAZIONE (TR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63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Eliminazione totale o parziale del rischio di variazione dei prezzi sulle posizioni detenute nel mercato a pro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PECULAZIONE (TRAD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Ricerca del rischio nella speranza di massimizzare i 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Sfruttamento di temporanee inefficienze del mercato nel suo compl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NASCITA E SVILUPPO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Il mercato dei derivati, nato nei primi anni ’70, si è enormemente sviluppato nel corso degli ultimi dece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ERCATI REGOLAMEN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ERCATO “OT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UTILITA’ DEI DERIVATI PER UN EFFICIENTE FUNZIONAMENTO DEI MERCATI FINANZIA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 flipV="1">
            <a:off x="1835280" y="4149720"/>
            <a:ext cx="43308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1835280" y="4365720"/>
            <a:ext cx="43308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docenti</cp:lastModifiedBy>
  <dcterms:modified xsi:type="dcterms:W3CDTF">2013-03-01T09:55:44Z</dcterms:modified>
  <cp:revision>4</cp:revision>
  <dc:subject/>
  <dc:title>Diapositiva 1</dc:title>
</cp:coreProperties>
</file>