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0F62-DD38-411E-8558-5CE6DABC6A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B3AF-6F63-4B80-8E51-C49956D94C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8C6-C331-440A-826F-559C5A37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4B7-6F34-45E3-A2A8-4A6C299B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B54-FEEC-450E-864B-ED7FF944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10E-EC40-4CD1-BA2C-327EDE3D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1BD-F16D-4852-A565-725699A9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F97-AE6F-4FF9-9786-A8744C5B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F2D-437F-4068-BAA9-B17FF168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646-5BFE-4FDC-9F84-176CDF4C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1D6-F563-4214-A5F4-46958A16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E45-55C8-4B85-A241-066E5FD8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953-0EC9-4D94-9BF2-0E5AAB18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C44-9721-4186-AC2C-3088B8B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F597-236C-4C53-B23E-E17D17B582E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 IMPORTANTISSIME FUN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PENS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ARA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ENSAZION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FACILITA LA COMPENSAZIONE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ANTICIPATA DELLE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GARANTISCE IL BUON FINE DEI CONTR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essuna esposizione su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ichiesta di elevati requisiti patrimoniali ai «clearing member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mpi poteri tecnici, regolamentari e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"/>
          <p:cNvSpPr/>
          <p:nvPr/>
        </p:nvSpPr>
        <p:spPr>
          <a:xfrm>
            <a:off x="1692360" y="2565360"/>
            <a:ext cx="503280" cy="358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Pia</cp:lastModifiedBy>
  <cp:lastPrinted>2012-02-15T10:24:12Z</cp:lastPrinted>
  <dcterms:modified xsi:type="dcterms:W3CDTF">2012-03-16T10:34:29Z</dcterms:modified>
  <cp:revision>24</cp:revision>
  <dc:subject/>
  <dc:title>Diapositiva 1</dc:title>
</cp:coreProperties>
</file>