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7977-9903-4299-82D1-F29C455680B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F09C-99B3-4D2A-B02B-F3A5AE34773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BC6-E978-4A84-A5B1-577EF9A9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320-FF1A-48C4-9C3F-A27864A6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3FB-1598-47F3-A6F9-ACD8B531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5C3-E961-404B-B003-44A772F7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E9E-41D0-4A4F-B18E-50CA5D16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DA4-CE81-46D8-BC53-BE754EEE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B5B-75C2-4AFA-B26B-9DFC9E24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17C-6950-478C-83C2-BA13CD87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033-FE8F-4322-B75E-07C6DB4E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D14-21D3-42FD-81A7-D90034DE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DB8-C6BA-443C-A3C5-65AD6B1B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D97-A40A-433B-8B07-FC24C112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C32C-570A-41D4-9950-58EF43C58B5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LE OBBLIGAZIONI STRUTT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REVERSE FLOATER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dicizzazione inversa (con eventuale “amplificazion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PLAIN VANIL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sso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 PIU’ INTEREST RATE SWAP 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nvestitore paga variabile e riceve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900000" y="277956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Per evitare cedole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eriore elemento di struttur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. OPZIONE CAP SUL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FIXED REVERSE FLOATER: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dem ma vendita IRS con partenza diffe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5400000">
            <a:off x="1625040" y="1993680"/>
            <a:ext cx="493920" cy="360360"/>
          </a:xfrm>
          <a:custGeom>
            <a:avLst/>
            <a:gdLst>
              <a:gd name="textAreaLeft" fmla="*/ 0 w 493920"/>
              <a:gd name="textAreaRight" fmla="*/ 423360 w 49392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EXCHANGEABLE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i “trasformabi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PLAIN VANIL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sso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SWAPTION 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e conferisce all’emittente la facoltà di entrare in un contratto interest rate swap a condizioni prede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900000" y="277956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con DERIVATI AZION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46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TRAIGHT BOND / ZERO COUPON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 OPZIONI CALL / PUT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singole 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indici di bo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panieri di fo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BLIGAZ. CON VALORE DI RIMBO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QUITY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X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D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BBLIGAZIONI REVERSE CONVERTIBLE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076720" y="2131920"/>
            <a:ext cx="216000" cy="1152720"/>
          </a:xfrm>
          <a:custGeom>
            <a:avLst/>
            <a:gdLst>
              <a:gd name="textAreaLeft" fmla="*/ 63360 w 216000"/>
              <a:gd name="textAreaRight" fmla="*/ 216360 w 216000"/>
              <a:gd name="textAreaTop" fmla="*/ 47880 h 1152720"/>
              <a:gd name="textAreaBottom" fmla="*/ 1104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EQUITY/INDEX/FUND LIN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lore di rimborso indicizz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minimo garantito + premio di rimborso indicizz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QUITY LIN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. (STRAIGHT BOND O ZC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CALL O PUT SU UN’AZIONE DI RIFERIMENTO CON SCADENZA PARI A QUELLA DELL’EMISS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l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l’investitore può approfittare di un rialzo; s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unta su un ribasso dell’azione di riferi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828720" y="342900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vente uso di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PZIONI ASIATICHE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zion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OTICH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l cui payoff dipende da un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di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i valori registrati nel corso di un certo period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tempo (MINORE VOLATILITA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 rot="5400000">
            <a:off x="2057040" y="1839960"/>
            <a:ext cx="493560" cy="360360"/>
          </a:xfrm>
          <a:custGeom>
            <a:avLst/>
            <a:gdLst>
              <a:gd name="textAreaLeft" fmla="*/ 0 w 493560"/>
              <a:gd name="textAreaRight" fmla="*/ 423000 w 49356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REVERSE CONVERT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rimborso può avvenire, anziché in forma monetaria, attraverso la consegna di un numero prestabilito di 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NO VERE OBBLIG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. (STRAIGHT BOND O ZC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DI 1 O PIU’ OPZIONI PUT ALL’EMIT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guadagno limitato a fronte di perdita potenzialmente illimit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826920" y="4076640"/>
            <a:ext cx="287640" cy="504720"/>
          </a:xfrm>
          <a:custGeom>
            <a:avLst/>
            <a:gdLst>
              <a:gd name="textAreaLeft" fmla="*/ 38520 w 287640"/>
              <a:gd name="textAreaRight" fmla="*/ 249120 w 28764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R MITIGARE IL RISCH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PZIONI PUT DI TIPO “KNOCK-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ZIONI ESOTICH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 attivan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lo al raggiungimento di determin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barrie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 KNOCK-I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itto di vendere solo nel caso in cui la quotazione &lt; soglia prestabilita (&lt; strike pr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 rot="5400000">
            <a:off x="1983600" y="2570040"/>
            <a:ext cx="493920" cy="360360"/>
          </a:xfrm>
          <a:custGeom>
            <a:avLst/>
            <a:gdLst>
              <a:gd name="textAreaLeft" fmla="*/ 0 w 493920"/>
              <a:gd name="textAreaRight" fmla="*/ 423360 w 49392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con CREDIT DERIV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464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TITOLO DI DEB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REDIT DERIV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   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(CREDIT DEFAULT SW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DIT LINKED NOTES (CL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ccia in giù 1"/>
          <p:cNvSpPr/>
          <p:nvPr/>
        </p:nvSpPr>
        <p:spPr>
          <a:xfrm>
            <a:off x="4500720" y="3716280"/>
            <a:ext cx="142560" cy="7923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REDIT DEFAULT SWAP</a:t>
            </a: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- DEFINIZION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025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o mediante il quale una parte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CTION BUY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paga una commissione periodica, generalmente espressa in punti base fissi sull’ammontare nozionale, contro un pagamento da effettuarsi dalla controparte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CTION SELL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in caso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REDIT EVEN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i una terza parte (il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OGGETTO DI RIFERIMEN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OBBLIGAZIONI STRUTTURATE</a:t>
            </a:r>
            <a:br>
              <a:rPr sz="3600"/>
            </a:b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toli che nascono come risultato dell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fusion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fra un’obbligazione </a:t>
            </a:r>
            <a:r>
              <a:rPr b="1" i="1" lang="it-IT" sz="3200" spc="-1" strike="noStrike">
                <a:solidFill>
                  <a:srgbClr val="003399"/>
                </a:solidFill>
                <a:latin typeface="Comic Sans MS"/>
              </a:rPr>
              <a:t>plain vanilla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oppure un titolo </a:t>
            </a:r>
            <a:r>
              <a:rPr b="1" i="1" lang="it-IT" sz="3200" spc="-1" strike="noStrike">
                <a:solidFill>
                  <a:srgbClr val="003399"/>
                </a:solidFill>
                <a:latin typeface="Comic Sans MS"/>
              </a:rPr>
              <a:t>zero-coupon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e uno o più strumenti derivati, frequentemente appartenenti alla famiglia delle opzio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CREDIT LINKED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i il cui acquisto comporta, per l’investitore, l’assunzione del ruolo di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PROTECTION 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ARATTERISTI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esse direttamente da una società (finanzi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ynthetic securit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ute direttamente agli investitori (istituzion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ppio rischio di controparte per l’invest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ccia a destra rientrata 2"/>
          <p:cNvSpPr/>
          <p:nvPr/>
        </p:nvSpPr>
        <p:spPr>
          <a:xfrm>
            <a:off x="971640" y="3789360"/>
            <a:ext cx="287280" cy="144360"/>
          </a:xfrm>
          <a:custGeom>
            <a:avLst/>
            <a:gdLst>
              <a:gd name="textAreaLeft" fmla="*/ 36000 w 287280"/>
              <a:gd name="textAreaRight" fmla="*/ 25128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70" y="5400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00"/>
                </a:lnTo>
                <a:lnTo>
                  <a:pt x="0" y="16200"/>
                </a:lnTo>
                <a:lnTo>
                  <a:pt x="27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ccia a destra rientrata 6"/>
          <p:cNvSpPr/>
          <p:nvPr/>
        </p:nvSpPr>
        <p:spPr>
          <a:xfrm>
            <a:off x="971640" y="5516640"/>
            <a:ext cx="287280" cy="144360"/>
          </a:xfrm>
          <a:custGeom>
            <a:avLst/>
            <a:gdLst>
              <a:gd name="textAreaLeft" fmla="*/ 36000 w 287280"/>
              <a:gd name="textAreaRight" fmla="*/ 25128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70" y="5400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00"/>
                </a:lnTo>
                <a:lnTo>
                  <a:pt x="0" y="16200"/>
                </a:lnTo>
                <a:lnTo>
                  <a:pt x="27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PRINCIPALI TIP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DERIVATI SUI TASSI DI INTER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ped, floored e collare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verse floater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xchangea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DERIVATI DI NATURA AZIO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quity, index, fund linke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verse converti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CREDIT 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redit linked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SPECIAL PURPOSE 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200" spc="-1" strike="noStrike">
                <a:solidFill>
                  <a:srgbClr val="ce30a5"/>
                </a:solidFill>
                <a:latin typeface="Comic Sans MS"/>
              </a:rPr>
              <a:t>con DERIVATI SUI TASSI DI 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3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OBBLIGAZIONE PLAIN VAN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pped, floored e collared; exchange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RS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verse floater e fixed reverse flo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1547640" y="3357720"/>
            <a:ext cx="71640" cy="1942920"/>
          </a:xfrm>
          <a:custGeom>
            <a:avLst/>
            <a:gdLst>
              <a:gd name="textAreaLeft" fmla="*/ 45720 w 71640"/>
              <a:gd name="textAreaRight" fmla="*/ 72000 w 7164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APPED/FLOORED/COLLARED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mitazioni alla variabilità della ced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APP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PZIONE CAP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gt; strike rate, l’investitore paga all’emittente la differenza tra tasso corrente e strik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755640" y="249228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OPZIONE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MPRATORE ACQUISISCE IL DIRITTO DI RICEVERE, ALLE VARIE SCADENZE PRESTABILITE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VENTUALE DIFFERENZA POSITIVA TRA UN TASSO CORRENTE DI MERCATO E LO STRIKE RATE PREDEFINI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EL CONTRATTO, SU UN CERTO CAPITAL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TETTO MAX COSTO DI UN PRES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476360" y="472428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FLOOR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FLOOR  D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lt; strike rate, l’investitore riceve dall’emittente la differenza tra strike rate e tasso cor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684360" y="105264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OPZIONE FLO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MPRATORE ACQUISISCE IL DIRITTO DI RICEVERE, ALLE VARIE SCADENZE PRESTABILITE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VENTUALE DIFFERENZA POSITIVA TRA LO STRIKE RATE E UN TASSO CORRENTE DI MERCA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U UN CERTO CAPITAL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PAVIMENTO MIN . RENDIMENTO DI UN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476360" y="472428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OLLAR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PZIONE CAP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gt; strike rate, l’investitore paga all’emittente la differenza tra tasso corrente e strik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FLOOR  D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lt; strike rate, l’investitore riceve dall’emittente la differenza tra strike rate e tasso cor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684360" y="76356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4:16:44Z</dcterms:created>
  <dc:creator>Marina Damilano</dc:creator>
  <dc:description/>
  <dc:language>en-US</dc:language>
  <cp:lastModifiedBy>docenti</cp:lastModifiedBy>
  <dcterms:modified xsi:type="dcterms:W3CDTF">2012-05-05T11:58:49Z</dcterms:modified>
  <cp:revision>24</cp:revision>
  <dc:subject/>
  <dc:title>Diapositiva 1</dc:title>
</cp:coreProperties>
</file>