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B66F-A37D-4771-901D-95884D628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803A-9632-4D3B-98E5-631C9E08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9D56-2A66-4E64-923B-968FF45B1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F11F-96B5-4EF5-8BA7-8107186B2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19DE-4EF1-424D-8BE4-CCB25301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DBDA-65DE-4C1F-B228-D05CCC4F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D7A6-01D2-4435-BC83-B0EF0FDD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F429-F2E7-42C3-81D2-E470899F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28E0-DFE1-469C-80ED-4EC23731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37D7-E798-4270-AD7C-0ACE8C61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5BBD-05DD-4CBB-9F53-3AE5A6A5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307B-F023-4AA3-9A68-00856A87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F31B-742B-405E-8528-FE1F19A27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6640" cy="1060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I DERIV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e30a5"/>
                </a:solidFill>
                <a:latin typeface="Comic Sans MS"/>
              </a:rPr>
              <a:t>GLI STRUMENTI DERIV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42160" cy="468144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CHE COSA SONO</a:t>
            </a: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STRUMENTI BASATI SU 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SOTTOSTANTI 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ATTIVITA’ FINANZIARIE (o REA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TRE PRINCIPALI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 CATEGORIE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U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W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e30a5"/>
                </a:solidFill>
                <a:latin typeface="Comic Sans MS"/>
              </a:rPr>
              <a:t>GLI STRUMENTI DERIV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A CHE COSA SERVONO</a:t>
            </a: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STRUMENTI PER LA 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GESTIONE DEL RISCH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PERTURA (HEDG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ECULAZIONE (TRA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BITRAG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30a5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636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PERTURA (HEDG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Eliminazione totale o parziale del rischio di variazione dei prezzi sulle posizioni detenute nel mercato a pro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PECULAZIONE (TRAD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Ricerca del rischio nella speranza di massimizzare i profi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BITRAGG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fruttamento di temporanee inefficienze del mercato nel suo compl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e30a5"/>
                </a:solidFill>
                <a:latin typeface="Comic Sans MS"/>
              </a:rPr>
              <a:t>GLI STRUMENTI DERIV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NASCITA E SVILUPPO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Il mercato dei derivati, nato nei primi anni ’70, si è enormemente sviluppato nel corso degli ultimi dece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RCATI REGOLAMEN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RCATO “OTC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UTILITA’ DEI DERIVATI PER UN EFFICIENTE FUNZIONAMENTO DEI MERCATI FINANZIAR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835280" y="4149720"/>
            <a:ext cx="43308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35280" y="4365720"/>
            <a:ext cx="43308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3:27:07Z</dcterms:created>
  <dc:creator>Marina Damilano</dc:creator>
  <dc:description/>
  <dc:language>en-US</dc:language>
  <cp:lastModifiedBy>Marina Damilano</cp:lastModifiedBy>
  <dcterms:modified xsi:type="dcterms:W3CDTF">2012-02-08T14:13:39Z</dcterms:modified>
  <cp:revision>3</cp:revision>
  <dc:subject/>
  <dc:title>Diapositiva 1</dc:title>
</cp:coreProperties>
</file>