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5062-41E1-4971-9664-9ED0AFEAE5C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C9BC-55A1-4A28-A620-0E991FDE9E6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0ED-21A0-443D-84ED-BF28D29E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B5F-503B-4E24-873C-A0622D6C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726-A2BF-484F-8ECC-35F69380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85F-2800-4AFF-BDA6-4A01C663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42F-E644-430E-A6EF-6B9A8EAB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C1A-4ACC-484D-A398-DB5681D6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4C5-FB32-427F-AAC6-433F0DBA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C79-EDB4-4C3D-8F60-91127505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2C7-08B6-458B-B62B-81CB2E73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150-F7D9-47FA-B5CA-7D335B20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B21-EA74-48A5-B780-C07A1ECE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40D-D615-48CC-9DA0-CF324816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CB0-09CA-4FCC-993E-2CE83027A0F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Damilano</cp:lastModifiedBy>
  <cp:lastPrinted>2012-05-03T09:16:04Z</cp:lastPrinted>
  <dcterms:modified xsi:type="dcterms:W3CDTF">2012-05-03T12:02:52Z</dcterms:modified>
  <cp:revision>5</cp:revision>
  <dc:subject/>
  <dc:title>Diapositiva 1</dc:title>
</cp:coreProperties>
</file>