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5E3-3791-43BC-9A66-651455D9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10D-2E2B-48D5-9DC7-486D9129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4CA-2442-4AFF-BB47-407B8606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817-BE33-4355-966F-F83899AC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823-AD4F-4846-9456-01795C96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3A2-9753-4AC8-B0B7-CB052515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38D-7EB5-4B99-8D3A-30A2B2CD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23A-7413-4170-966E-AE79E697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3F2-1A93-4129-A3B2-70EB9394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ECA-1052-4873-82D6-5B597DA1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F61-64EF-4711-A523-8E8DC585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24F-4D0D-4FCA-9C13-BC2D9FB4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8F28-C2CB-4B12-971F-42819F027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Marina Damilano</cp:lastModifiedBy>
  <dcterms:modified xsi:type="dcterms:W3CDTF">2012-02-08T14:13:39Z</dcterms:modified>
  <cp:revision>3</cp:revision>
  <dc:subject/>
  <dc:title>Diapositiva 1</dc:title>
</cp:coreProperties>
</file>