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5132-2BFE-4D90-8F44-23ECC578312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322C-AE5F-446E-9B0B-4BAB71E0042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677-B85C-459C-9C1A-9C7629C7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D4E-278F-4B00-B0A3-FA2A9EA6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0F26-4D73-493A-AE31-618921F3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5600-576D-441C-AF9B-40E74E39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3DB1-B1FE-4E87-AD48-44E267FD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DA0D-C90A-463C-824B-8822D994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764-4FBC-40A0-AA9E-EBFD4415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B2D-F29F-4641-B00E-46373CA6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573E-5CEA-49AF-861C-832E397F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62F-8BD8-4D33-853F-9FAF533F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F42B-8F35-42EE-BB20-0441BECC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BE69-DBF0-41AD-9992-80D63FBE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EED2-E58B-4102-9177-5D5CEAD52A6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I 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IB – FUTURES 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ULL’INDICE DI BORS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600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ARATTERISTICHE CONTRATTU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NDICE SOTTOS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TSE/MIB (40 titoli più liquidi e capitalizzati per il flott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MPORTO CONTRAT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UNTI INDICE x 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P.I. x 1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5 PUNTI INDICE (2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5 P.I. (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CADEN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RE 9:05 DEL 3° VENERDI’ DI MARZO, GIUGNO, SETTEMBRE, DICE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ETTLEMENT PR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ALIE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MEDIA PONDERATA DELL’ULTIMO 10% DI CONTRATTI SCAMBI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O DI SCADENZ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FTSE/MIB DI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IQUID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H SETTLEMEN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L 1° GIORNO LAVORATIVO SUCCESSIVO A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896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ODALITA’ DI NEGOZI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STA DI APERTURA (8:30-9: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GOZIAZIONE CONTINUA (9:00-17: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RGINI INIZI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ABELL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SA DI COMPENSAZIONE E 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TTUALMENTE: 13,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ATTORI CHE INFLUENZANO IL PREZZO TEORICO DEL FI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VALORE DELL’INDICE CASH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EMPO MANCANTE ALLA SCADENZA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ASSO DI INTERESSE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DIVIDENDI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FU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EO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INDICE CASH + INT – D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TRATEGIE DI UTILIZZ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HED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LL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APPORTO DI COPERTURA 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RADING DIRE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SF – SINGLE STOCK FUT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48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RISPETTO AL FI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OTTI MINI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GGIOR NUMEROSITA’ DI SCADENZE NEGOZIA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UTURES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ontratto con il quale i contraenti si assumono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l’impegno ad acquistare o vender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una quantità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t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di una merce o attività finanziaria ad un prezzo e ad un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data futur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predetermi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SOLO IN </a:t>
            </a: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BORS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UFFICIALMENTE RICONOSCI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TIPOLOGI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OCK INDEX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INGLE STOCK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TEREST RATE /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OMMOD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arentesi graffa chiusa 1"/>
          <p:cNvSpPr/>
          <p:nvPr/>
        </p:nvSpPr>
        <p:spPr>
          <a:xfrm>
            <a:off x="5940360" y="3141720"/>
            <a:ext cx="287280" cy="208764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2087640"/>
              <a:gd name="textAreaBottom" fmla="*/ 20804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16200" y="10800"/>
                  <a:pt x="21600" y="10800"/>
                </a:cubicBezTo>
                <a:cubicBezTo>
                  <a:pt x="162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ELEMENTI PECULI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MPO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AD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GOLE DI CONTRAT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IETTIVO: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SALTARE AL MASSIMO LA NEGOZIA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 IMPORTANTISSIME FUNZIO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MPENS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GARAN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MPENSAZION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ONTROPARTE OBBLIGATORIA DI OGNI CONTRA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FACILITA LA COMPENSAZIONE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ANTICIPATA DELLE POSI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GARANTISCE IL BUON FINE DEI CONTR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nessuna esposizione sul mer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richiesta di elevati requisiti patrimoniali ai «clearing members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ampi poteri tecnici, regolamentari e di 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ccia a destra 1"/>
          <p:cNvSpPr/>
          <p:nvPr/>
        </p:nvSpPr>
        <p:spPr>
          <a:xfrm>
            <a:off x="1692360" y="2565360"/>
            <a:ext cx="503280" cy="358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ISTEMA DEI MARGINI DI GARAN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Basso (in % del valore del contrat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Obbligatorio per acquirente e vendi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Scopo: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COPRIRE LE EVENTUALI PERDITE DEL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   1° GIORNO DI CONTRATT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I DI VARI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Meccanismo del «marking-to-market»: adeguamento giornaliero delle posizioni aperte sul merc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        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 FUTURES SONO CONTRATTI A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TERMINE CON LIQUIDAZIONE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MMEDIATA DELLE DIFFERENZ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ccia a destra 3"/>
          <p:cNvSpPr/>
          <p:nvPr/>
        </p:nvSpPr>
        <p:spPr>
          <a:xfrm>
            <a:off x="1403280" y="508464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REALTA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MARGINE INIZI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E’ FI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ENE RICALCOLATO GIORN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lla base del «peggior scenario» ragionevolmente possibile per il giorno succes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rocede con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ADDEBITO/ACCREDITO GIORNALIERO DELLA DIFFERENZA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petto a quanto già in essere sul conto 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ccia in giù 1"/>
          <p:cNvSpPr/>
          <p:nvPr/>
        </p:nvSpPr>
        <p:spPr>
          <a:xfrm>
            <a:off x="4427640" y="1628640"/>
            <a:ext cx="360360" cy="4320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NQUE,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GNI GIORNO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 CASH F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 febbraio        15 febbra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iusura 14 febbra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RIAZION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RICALCO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EX-POST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7030a0"/>
                </a:solidFill>
                <a:latin typeface="Comic Sans MS"/>
              </a:rPr>
              <a:t>EX-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quida la ∆ de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«accantona» max ∆ neg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/02 (rispett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possibile del 15/02 (risp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 13/02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al MI in essere il 14/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ttore 1 3"/>
          <p:cNvSpPr/>
          <p:nvPr/>
        </p:nvSpPr>
        <p:spPr>
          <a:xfrm flipV="1">
            <a:off x="900000" y="1807920"/>
            <a:ext cx="72723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nettore 1 5"/>
          <p:cNvSpPr/>
          <p:nvPr/>
        </p:nvSpPr>
        <p:spPr>
          <a:xfrm>
            <a:off x="4535640" y="1557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nettore 1 7"/>
          <p:cNvSpPr/>
          <p:nvPr/>
        </p:nvSpPr>
        <p:spPr>
          <a:xfrm>
            <a:off x="2411280" y="1808280"/>
            <a:ext cx="212436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nettore 1 10"/>
          <p:cNvSpPr/>
          <p:nvPr/>
        </p:nvSpPr>
        <p:spPr>
          <a:xfrm>
            <a:off x="4572000" y="1844640"/>
            <a:ext cx="2124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onnettore 2 11"/>
          <p:cNvCxnSpPr/>
          <p:nvPr/>
        </p:nvCxnSpPr>
        <p:spPr>
          <a:xfrm flipV="1">
            <a:off x="4535280" y="2133720"/>
            <a:ext cx="1080" cy="358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Connettore 1 15"/>
          <p:cNvSpPr/>
          <p:nvPr/>
        </p:nvSpPr>
        <p:spPr>
          <a:xfrm flipH="1">
            <a:off x="2556000" y="2852640"/>
            <a:ext cx="1728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nettore 1 17"/>
          <p:cNvSpPr/>
          <p:nvPr/>
        </p:nvSpPr>
        <p:spPr>
          <a:xfrm>
            <a:off x="4572000" y="2852640"/>
            <a:ext cx="1584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ASH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LIQUIDAZIONE PER CONTA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se prev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A SCAD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LIQUI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ER CONTANTI D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i poch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ULTIMA DIFFERENZA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i aperti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REZZ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ULTIMO M.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Connettore 2 2"/>
          <p:cNvCxnSpPr/>
          <p:nvPr/>
        </p:nvCxnSpPr>
        <p:spPr>
          <a:xfrm flipV="1">
            <a:off x="2050560" y="357264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Connettore 1 5"/>
          <p:cNvSpPr/>
          <p:nvPr/>
        </p:nvSpPr>
        <p:spPr>
          <a:xfrm flipV="1">
            <a:off x="3059280" y="2852640"/>
            <a:ext cx="108108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nettore 1 8"/>
          <p:cNvSpPr/>
          <p:nvPr/>
        </p:nvSpPr>
        <p:spPr>
          <a:xfrm>
            <a:off x="3059280" y="3357720"/>
            <a:ext cx="108108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Pia</cp:lastModifiedBy>
  <cp:lastPrinted>2012-02-15T10:24:12Z</cp:lastPrinted>
  <dcterms:modified xsi:type="dcterms:W3CDTF">2012-03-16T10:34:29Z</dcterms:modified>
  <cp:revision>24</cp:revision>
  <dc:subject/>
  <dc:title>Diapositiva 1</dc:title>
</cp:coreProperties>
</file>