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F0C9-A794-491D-A9D0-0EED97E4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4414-B60D-4F1B-A781-622F8388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A9E8-CA33-418F-AD63-FDD8B49A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286E-7787-48C3-B834-005ED224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A06C-7DE8-4198-B013-3E61F6D9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B25A-8473-41A2-A4B0-08E89A3D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CB4F-B9E1-4C7A-A5B1-98390062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6B1-A842-4F09-96DD-046F1BF6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6A66-0189-4C05-B16D-7F0F79C7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5689-15DC-4E3C-83DC-ED8E604C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A388-F0EA-4440-8489-D6BAA8BB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DF9E-27F8-4E25-8102-B783869F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9BE8-17F2-44D1-90E8-FEC2195E567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66"/>
                </a:solidFill>
                <a:latin typeface="Comic Sans MS"/>
              </a:rPr>
              <a:t>LA VALUTAZIONE DEI TIT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ITOLO MIGLI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8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ASSI INATT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ZZO è funzione di 2 fattori principa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ITA RESID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IVELLO E FREQUANZA CED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E NON E’ POSSIB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ABILIRE DELLE PRIORITA’     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1763640" y="177336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5508720" y="522936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1476360" y="2924280"/>
            <a:ext cx="142920" cy="1224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DU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DEFINIZION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Media aritmetica delle scadenze dei flussi di un titolo, dove ogni scadenza viene ponderata in base al rapporto fra valore attuale del flusso in maturazione a quella scadenza e prezzo del tit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6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UTILIZZI PRATIC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RADUATORIA DI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LEZIONE DEI TITOLI IN BASE AL RAPPORTO TRES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TIMA DEL GRADO DI SENSIBILITA’ DEL PREZZO DI UN TITOLO (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URATION MODIFICAT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LA VALUTAZIONE DI UN INVESTIMENTO AZIO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NCERTEZ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IMA DEL RENDIMENTO DI UNA AZION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ividend Y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ice/E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ice/Cash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ook to Marke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80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RISCHIO DI UN INVESTIMENTO IN AZIO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CHIO SPECIFICO o NON SISTEMATICO (non correlato fra imprese, diversificab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CHIO SISTEMATICO O DI MERCATO (correlato fra imprese, non diversificab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ERI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6732720" y="4869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66"/>
                </a:solidFill>
                <a:latin typeface="Comic Sans MS"/>
              </a:rPr>
              <a:t>LA VALUTAZIONE DEI TIT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Quello che rende di più, a parità di risch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Quello meno rischioso, a parità di ren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CHE COS’E’ IL RENDIM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sprime il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ultato economic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di un’operazione finanziaria (misura la redditività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Per convenzione viene espresso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in termini percentuali su base an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’ funzione dell’intero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“profilo finanziario”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dell’oper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CHE COSA SI INTENDE PER RISCH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L’impossibilità di prevedere con esattezza il risultato economic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di una determinata opera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RISCHI FINANZIA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RISCHI P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COME SI CALCOLA IL RENDIMENTO DI UN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ITOLI CON PROFILO FINANZIARIO SEMPLICE (Z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ITOLI CON PROFILO FINANZIARIO COMPLESSO (CON CEDO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omic Sans MS"/>
              </a:rPr>
              <a:t>ZERO COUPON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[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(M/C) - 1)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] x 1/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a  M = C + I  con I = C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 = C(1+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c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 (M/C)</a:t>
            </a:r>
            <a:r>
              <a:rPr b="1" lang="it-IT" sz="3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1/t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– 1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a 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ann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C + I  con I = C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C(1+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ann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+I  con I =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C(1+i)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t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t-1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+I  con I=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t-1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C(1+i)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omic Sans MS"/>
              </a:rPr>
              <a:t>TITOLO CON CE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RE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P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ctq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= ---------- + ---------- +……+ 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(1+tres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(1+tres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 (1+tres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CORSO SE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CORSO TEL QUEL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DIVERSE TIPOLOGIE DI RISCHIO DI UN INVESTIMENTO OBBLIGAZIO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credito o emit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liquidità (naturale e/o artificia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infl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tasso di inter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cc"/>
                </a:solidFill>
                <a:latin typeface="Comic Sans MS"/>
              </a:rPr>
              <a:t>RISCHIO DI INTERE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FATTORI DI RISCH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scostamento tra rendimento effettivo ex post e rendimento effettivo ex a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RISCHIO REINVES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RISCHIO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ASSI INATT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 flipV="1">
            <a:off x="4067280" y="450828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067280" y="486900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0:44:31Z</dcterms:created>
  <dc:creator>Marina Damilano</dc:creator>
  <dc:description/>
  <dc:language>en-US</dc:language>
  <cp:lastModifiedBy>Ute Formazione Banco Di Napoli</cp:lastModifiedBy>
  <cp:lastPrinted>2012-11-21T08:40:27Z</cp:lastPrinted>
  <dcterms:modified xsi:type="dcterms:W3CDTF">2012-11-23T09:30:06Z</dcterms:modified>
  <cp:revision>11</cp:revision>
  <dc:subject/>
  <dc:title>LA VALUTAZIONE DEI TITOLI</dc:title>
</cp:coreProperties>
</file>