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7294-2664-47E9-808A-481C64AA3DB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61E4-1259-48D8-A5BA-87AB3C3D80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91E-AD86-4310-9D14-29961542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973-139C-4B26-9D5C-9D2AA6D6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C8D-94A0-49C8-A0B7-9E15B9AA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C96-67DB-43CB-9F20-C057B851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75C-80F8-4191-8389-FEB6BFE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F3B-9F64-4FFF-BE47-13D1C97D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2E5-178C-4D68-8EBC-E0020619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3D1-DC9B-43CF-9D9A-B489B190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F39-A85B-4D0E-A8AF-BDFC7874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2D8-F431-443B-AFFF-32485CC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9BF-E06B-4EDC-91A6-BE6FA71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4D6-0CB2-4624-8238-19448B1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BBAD-B421-4282-B0DB-BF858EC01D1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LE OBBLIGAZIONI STRUTT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FLOATER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dicizzazione inversa (con eventuale “amplificazion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 PIU’ INTEREST RATE SWAP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vestitore paga variabile e riceve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er evitare cedol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eriore elemento di struttur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. OPZIONE CAP SUL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IXED REVERSE FLOATER: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dem ma vendita IRS con partenza diffe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5400000">
            <a:off x="1625040" y="199368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XCHANGEABLE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“trasformabi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SWAPTION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e conferisce all’emittente la facoltà di entrare in un contratto interest rate swap a condizioni prede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DERIVATI AZION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TRAIGHT BOND / ZERO COUPO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OPZIONI CALL / PUT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singo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indici di bo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panieri di fo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BLIGAZ. CON VALORE DI RIMB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ITY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X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D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BBLIGAZIONI REVERSE CONVERTIBLE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076720" y="2131920"/>
            <a:ext cx="216000" cy="1152720"/>
          </a:xfrm>
          <a:custGeom>
            <a:avLst/>
            <a:gdLst>
              <a:gd name="textAreaLeft" fmla="*/ 63360 w 216000"/>
              <a:gd name="textAreaRight" fmla="*/ 216360 w 21600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QUITY/INDEX/FUND LIN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ore di rimborso indicizz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minimo garantito + premio di rimborso indicizz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QUITY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CALL O PUT SU UN’AZIONE DI RIFERIMENTO CON SCADENZA PARI A QUELLA DELL’EMIS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l’investitore può approfittare di un rialzo; s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unta su un ribasso dell’azione di rifer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28720" y="342900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vente uso di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PZIONI ASIATICH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l cui payoff dipende da un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i valori registrati nel corso di un certo period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tempo (MINORE VOLATILITA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 rot="5400000">
            <a:off x="2057040" y="1839960"/>
            <a:ext cx="493560" cy="360360"/>
          </a:xfrm>
          <a:custGeom>
            <a:avLst/>
            <a:gdLst>
              <a:gd name="textAreaLeft" fmla="*/ 0 w 493560"/>
              <a:gd name="textAreaRight" fmla="*/ 423000 w 49356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CONVER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imborso può avvenire, anziché in forma monetaria, attraverso la consegna di un numero prestabilito d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NO VERE OBBLIG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DI 1 O PIU’ OPZIONI PUT ALL’E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uadagno limitato a fronte di perdita potenzialmente illimit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076640"/>
            <a:ext cx="287640" cy="504720"/>
          </a:xfrm>
          <a:custGeom>
            <a:avLst/>
            <a:gdLst>
              <a:gd name="textAreaLeft" fmla="*/ 38520 w 287640"/>
              <a:gd name="textAreaRight" fmla="*/ 249120 w 2876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R MITIGARE IL RISCH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PZIONI PUT DI TIPO “KNOCK-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 attivan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o al raggiungimento di determin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arrie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 KNOCK-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tto di vendere solo nel caso in cui la quotazione &lt; soglia prestabilita (&lt; strik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1983600" y="257004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CREDIT 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46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TITOLO DI DEB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REDIT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(CREDIT DEFAULT S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DIT LINKED NOTES (CL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in giù 1"/>
          <p:cNvSpPr/>
          <p:nvPr/>
        </p:nvSpPr>
        <p:spPr>
          <a:xfrm>
            <a:off x="4500720" y="3716280"/>
            <a:ext cx="14256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REDIT DEFAULT SWAP</a:t>
            </a: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- DEFINIZION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o mediante il quale una 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BUY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paga una commissione periodica, generalmente espressa in punti base fissi sull’ammontare nozionale, contro un pagamento da effettuarsi dalla contro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in caso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EDIT EVEN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una terza parte (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GGETTO DI RIFERI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OBBLIGAZIONI STRUTTURATE</a:t>
            </a:r>
            <a:br>
              <a:rPr sz="3600"/>
            </a:b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toli che nascono come risultato dell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fusion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fra un’obbligazione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plain vanilla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oppure un titolo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zero-coupon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e uno o più strumenti derivati, frequentemente appartenenti alla famiglia delle opzi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CREDIT LINKED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il cui acquisto comporta, per l’investitore, l’assunzione del ruolo di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esse direttamente da una società (finanzi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ynthetic securi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ute direttamente agli investitori (istituz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ppio rischio di controparte per l’invest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a destra rientrata 2"/>
          <p:cNvSpPr/>
          <p:nvPr/>
        </p:nvSpPr>
        <p:spPr>
          <a:xfrm>
            <a:off x="971640" y="378936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a destra rientrata 6"/>
          <p:cNvSpPr/>
          <p:nvPr/>
        </p:nvSpPr>
        <p:spPr>
          <a:xfrm>
            <a:off x="971640" y="551664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PRINCIPALI TIP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SUI TASSI DI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ped, floored e collar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floater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changea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DI NATURA AZIO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quity, index, fund link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converti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CREDI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dit linked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SPECIAL PURPOSE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con DERIVATI SUI TASSI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BBLIGAZIONE PLAIN VA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pped, floored e collared; exchange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S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verse floater e fixed reverse flo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547640" y="3357720"/>
            <a:ext cx="71640" cy="19429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APPED/FLOORED/COLLARED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mitazioni alla variabilità della ce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PP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5640" y="249228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UN TASSO CORRENTE DI MERCATO E LO STRIKE RATE PREDEFINI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 CONTRATTO,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TETTO MAX COSTO DI UN PRES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LOO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684360" y="105264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FLO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LO STRIKE RATE E UN TASSO CORRENTE DI MERC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AVIMENTO MIN . RENDIMENTO DI UN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OLLA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684360" y="76356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16:44Z</dcterms:created>
  <dc:creator>Marina Damilano</dc:creator>
  <dc:description/>
  <dc:language>en-US</dc:language>
  <cp:lastModifiedBy>docenti</cp:lastModifiedBy>
  <dcterms:modified xsi:type="dcterms:W3CDTF">2012-05-05T11:58:49Z</dcterms:modified>
  <cp:revision>24</cp:revision>
  <dc:subject/>
  <dc:title>Diapositiva 1</dc:title>
</cp:coreProperties>
</file>