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BA55-BB0D-4272-A704-98EB68BAD16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39E9-8D5E-4B25-9503-DE31600781B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219320" y="3259080"/>
            <a:ext cx="670536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B61-A938-467E-B7BA-5AEA7335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DB5-65E7-450D-A927-4AC909A9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CDC-2625-4242-9214-9950CD1F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F2E-E09C-4BFE-A594-2A8A00FE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839-260E-45B7-8F3F-4D5CA533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15A-5C1F-4F20-93E8-A0924E67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DF2-0772-4E6A-8319-1D9C12CC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97E-FAB2-4C72-A27F-6833CE97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B2F-BA0A-4F9D-847B-0F4D054B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D3F-E213-4787-A5EC-E507059D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19D-ED23-491F-AC9F-86C1D88C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277-9ED0-4E7A-A1FA-8CB1FE2F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9FE1-37CD-4ED1-96E5-05F02A07201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LE OP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Italcementi vale 5,34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5€; scadenza 2 mesi;premio 0,15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100 azioni; premio pagato 1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Italcementi quota 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Italcementi quota 3,8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105€ (1,2*100 –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Italcementi quota 7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15€ si investe in un contratto che vale 5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3,33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SHORT PUT profilo rischio/rendimento per il vendi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427640" y="4221000"/>
            <a:ext cx="3529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700360" y="4221000"/>
            <a:ext cx="1727280" cy="1872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 cosa servono le op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434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Trading direzionale «cauto»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il pay-off asimmetrico consente di ridurre le perdite nel caso in cui il mercato «giochi» co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Effetto lev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controllando un elevato controvalore di attività finanziarie con un investimento limitato, si possono ottenere risultati amplificati rispetto alla performance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estione del rischi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uare strategie di co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Strategie di trading compless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raverso l’acquisto/vendita di due o più opzioni con differenti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STRADDLE profilo rischio/rendimento per il compr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 flipV="1">
            <a:off x="1547640" y="148428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 flipH="1" flipV="1">
            <a:off x="2195280" y="2420640"/>
            <a:ext cx="208908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284720" y="2420640"/>
            <a:ext cx="252072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STRADDLE 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 flipV="1">
            <a:off x="1547640" y="1267920"/>
            <a:ext cx="0" cy="446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2484360" y="3644640"/>
            <a:ext cx="194328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4427640" y="3645000"/>
            <a:ext cx="180000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omic Sans MS"/>
              </a:rPr>
              <a:t>Caratteristiche contrattu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97000"/>
          <a:ext cx="8221680" cy="5513400"/>
        </p:xfrm>
        <a:graphic>
          <a:graphicData uri="http://schemas.openxmlformats.org/drawingml/2006/table">
            <a:tbl>
              <a:tblPr/>
              <a:tblGrid>
                <a:gridCol w="2459160"/>
                <a:gridCol w="1942920"/>
                <a:gridCol w="2017800"/>
                <a:gridCol w="1801800"/>
              </a:tblGrid>
              <a:tr h="107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 settima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zioni su 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le op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ot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mensione cont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E.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mio contr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° 2° 4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quid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ontanti. Pari a P.E. – Valore Indice su prezzi apertura rilevati il 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gna fis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42640"/>
            <a:ext cx="8229600" cy="64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MARZ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pril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aggi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GIUGN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ETT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DIC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1116000" y="0"/>
            <a:ext cx="0" cy="6670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116000" y="404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116000" y="110808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116000" y="18637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116000" y="2619360"/>
            <a:ext cx="47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1116000" y="674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1116000" y="890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1116000" y="335772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1116000" y="413244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1116000" y="488808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1116000" y="537372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1116000" y="585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1116000" y="639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Valore Op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484280"/>
          <a:ext cx="7848720" cy="4853160"/>
        </p:xfrm>
        <a:graphic>
          <a:graphicData uri="http://schemas.openxmlformats.org/drawingml/2006/table">
            <a:tbl>
              <a:tblPr/>
              <a:tblGrid>
                <a:gridCol w="2743200"/>
                <a:gridCol w="1360440"/>
                <a:gridCol w="1873440"/>
                <a:gridCol w="187164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t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ttos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zzo Eserciz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ta resid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atil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sso d’intere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iden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AutoShape 73"/>
          <p:cNvSpPr/>
          <p:nvPr/>
        </p:nvSpPr>
        <p:spPr>
          <a:xfrm>
            <a:off x="3851280" y="227664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4"/>
          <p:cNvSpPr/>
          <p:nvPr/>
        </p:nvSpPr>
        <p:spPr>
          <a:xfrm>
            <a:off x="5435640" y="227664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5"/>
          <p:cNvSpPr/>
          <p:nvPr/>
        </p:nvSpPr>
        <p:spPr>
          <a:xfrm>
            <a:off x="7308720" y="2276640"/>
            <a:ext cx="57636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6"/>
          <p:cNvSpPr/>
          <p:nvPr/>
        </p:nvSpPr>
        <p:spPr>
          <a:xfrm>
            <a:off x="3780000" y="2997360"/>
            <a:ext cx="576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7"/>
          <p:cNvSpPr/>
          <p:nvPr/>
        </p:nvSpPr>
        <p:spPr>
          <a:xfrm>
            <a:off x="5364000" y="299736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8"/>
          <p:cNvSpPr/>
          <p:nvPr/>
        </p:nvSpPr>
        <p:spPr>
          <a:xfrm>
            <a:off x="3780000" y="3716280"/>
            <a:ext cx="57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9"/>
          <p:cNvSpPr/>
          <p:nvPr/>
        </p:nvSpPr>
        <p:spPr>
          <a:xfrm>
            <a:off x="536400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0"/>
          <p:cNvSpPr/>
          <p:nvPr/>
        </p:nvSpPr>
        <p:spPr>
          <a:xfrm>
            <a:off x="730872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1"/>
          <p:cNvSpPr/>
          <p:nvPr/>
        </p:nvSpPr>
        <p:spPr>
          <a:xfrm>
            <a:off x="3851280" y="436572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2"/>
          <p:cNvSpPr/>
          <p:nvPr/>
        </p:nvSpPr>
        <p:spPr>
          <a:xfrm>
            <a:off x="536400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3"/>
          <p:cNvSpPr/>
          <p:nvPr/>
        </p:nvSpPr>
        <p:spPr>
          <a:xfrm>
            <a:off x="730872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4"/>
          <p:cNvSpPr/>
          <p:nvPr/>
        </p:nvSpPr>
        <p:spPr>
          <a:xfrm>
            <a:off x="3851280" y="5084640"/>
            <a:ext cx="504720" cy="505080"/>
          </a:xfrm>
          <a:prstGeom prst="upArrow">
            <a:avLst>
              <a:gd name="adj1" fmla="val 50000"/>
              <a:gd name="adj2" fmla="val 250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5"/>
          <p:cNvSpPr/>
          <p:nvPr/>
        </p:nvSpPr>
        <p:spPr>
          <a:xfrm>
            <a:off x="5364000" y="5084640"/>
            <a:ext cx="50508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6"/>
          <p:cNvSpPr/>
          <p:nvPr/>
        </p:nvSpPr>
        <p:spPr>
          <a:xfrm>
            <a:off x="7308720" y="508464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7"/>
          <p:cNvSpPr/>
          <p:nvPr/>
        </p:nvSpPr>
        <p:spPr>
          <a:xfrm>
            <a:off x="3851280" y="573408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8"/>
          <p:cNvSpPr/>
          <p:nvPr/>
        </p:nvSpPr>
        <p:spPr>
          <a:xfrm>
            <a:off x="7308720" y="573408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9"/>
          <p:cNvSpPr/>
          <p:nvPr/>
        </p:nvSpPr>
        <p:spPr>
          <a:xfrm>
            <a:off x="5364000" y="57340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0"/>
          <p:cNvSpPr/>
          <p:nvPr/>
        </p:nvSpPr>
        <p:spPr>
          <a:xfrm>
            <a:off x="7308720" y="2924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Comic Sans MS"/>
              </a:rPr>
              <a:t>OP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2000" y="1267920"/>
            <a:ext cx="87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ontrat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, a fronte del pagamento di un “premio” iniziale, attribuisce la facoltà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pra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vende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 certo quantitativo di attività finanziaria o   real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ttività sottostan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un prezzo predeterminato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rezzo di eserciz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rike pric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l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europe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entro una specific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america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acqui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9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CALL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call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Q – S)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1547640" y="4724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3852720" y="1413000"/>
            <a:ext cx="3095640" cy="331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at the money” (ATM) se lo strike è ugual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in the Money” (ITM) se lo strike è inf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out of the money” (OTM) se lo strike è sup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463680" y="3357720"/>
          <a:ext cx="8216640" cy="27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357720"/>
                    <a:ext cx="8216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Enel vale 3,0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3,2€; scadenza 3 mesi;premio 0,10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500 azioni; premio pagato 5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Enel quota 3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Enel quota 3,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300€ (0,7*500 –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Enel quota 2,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50€ si investe in un contratto che vale 1.6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2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CALL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1547640" y="3860640"/>
            <a:ext cx="2305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3852720" y="3860640"/>
            <a:ext cx="2590920" cy="25927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v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PUT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put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 – Q)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4643280" y="4797360"/>
            <a:ext cx="28101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 flipV="1">
            <a:off x="2341440" y="1557360"/>
            <a:ext cx="2301840" cy="3240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10:52Z</dcterms:created>
  <dc:creator>Patrizia Pia</dc:creator>
  <dc:description/>
  <dc:language>en-US</dc:language>
  <cp:lastModifiedBy>Ute Formazione Banco Di Napoli</cp:lastModifiedBy>
  <cp:lastPrinted>2012-05-02T15:09:26Z</cp:lastPrinted>
  <dcterms:modified xsi:type="dcterms:W3CDTF">2012-10-06T12:02:53Z</dcterms:modified>
  <cp:revision>21</cp:revision>
  <dc:subject/>
  <dc:title>Diapositiva 1</dc:title>
</cp:coreProperties>
</file>