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6B5-164A-4323-BAD0-EA863393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48E-FF9D-408C-8C99-81803A79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39E-E19A-4CEF-83CF-FB99C455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8D3-2468-4C41-986C-E35C2CCE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A1D-9D4C-46F9-9E11-05C528CC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C32-27D8-44CC-B620-A60373C7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E83-4869-4F9E-9667-02C38E76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D24-A630-4938-B9A6-2AC0C8B1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E2C-DE0C-4C5A-B89F-EFCEE9FC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132-7882-4D6C-BBA2-F746A974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19C-29D1-4496-963B-742A6447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387-CA38-4A3A-A3B9-1058CBB0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F4ED-1C6C-4FAA-9566-1FE548A0000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b050"/>
                </a:solidFill>
                <a:latin typeface="Comic Sans MS"/>
              </a:rPr>
              <a:t>GLI SW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le parti si accordano per scambiarsi nel tempo due diversi flussi di c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OVER-THE-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CURRENCY SWAP (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000" spc="-1" strike="noStrike">
              <a:solidFill>
                <a:srgbClr val="00b05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cordo in base al quale le due controparti si impegnano a scambiarsi, per un periodo prestabilito, dei flussi finanziari equivalenti agli interessi maturati su un certo capitale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COUPON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fisso scambiato con un flusso a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BASIS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variabile scambiato con un flusso, sempre a tasso variabile, ma parametrato ad un diverso indic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itale nozionale: 10 milioni di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fisso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variabile: Libor (1° scambio: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F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NETTIN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ttore 2 3"/>
          <p:cNvCxnSpPr/>
          <p:nvPr/>
        </p:nvCxnSpPr>
        <p:spPr>
          <a:xfrm>
            <a:off x="2484000" y="3428640"/>
            <a:ext cx="33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Connettore 2 6"/>
          <p:cNvCxnSpPr/>
          <p:nvPr/>
        </p:nvCxnSpPr>
        <p:spPr>
          <a:xfrm flipH="1">
            <a:off x="2410560" y="3789000"/>
            <a:ext cx="331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CURRENCY SWAPS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cambio di flussi di cassa espressi in due valute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 COSA SERVONO GLI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ttimizz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 costi di finanziamento o il rendimento di un investimento (v. esemp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’esposizione al rischio di oscillazione dei tassi d’interesse o di camb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osizioni speculative al rialzo o al ribasso nel mercato dei tassi d’interesse o dei 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EM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sideriamo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ue imprese, A e 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nteressate ad ottenere un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finanziamento di 10 milioni di eu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mpresa 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elevato rating, finanziamento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mpresa 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ridotto merito creditizio, finanziamento a tasso fi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ndizioni di mercat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4365720"/>
          <a:ext cx="8088480" cy="2232000"/>
        </p:xfrm>
        <a:graphic>
          <a:graphicData uri="http://schemas.openxmlformats.org/drawingml/2006/table">
            <a:tbl>
              <a:tblPr/>
              <a:tblGrid>
                <a:gridCol w="2695680"/>
                <a:gridCol w="2697120"/>
                <a:gridCol w="2695680"/>
              </a:tblGrid>
              <a:tr h="681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ato del credito bancario a br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ato obbligazio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a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or + 5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or +150 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due imprese godono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migliori condizioni relative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l settore che non inter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 un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wap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otrebber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migliorare le proprie condizioni di finanziamento nel settore che meglio soddisfa le loro esig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IMPRESA A                          IMPRESA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,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%                                                    Libor+1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VESTITORI                                BANCA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Comic Sans MS"/>
              </a:rPr>
              <a:t>A= Libor-25                                          B=9,25+1,5=1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8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ttore 2 4"/>
          <p:cNvCxnSpPr/>
          <p:nvPr/>
        </p:nvCxnSpPr>
        <p:spPr>
          <a:xfrm>
            <a:off x="3276720" y="3428640"/>
            <a:ext cx="273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Connettore 2 6"/>
          <p:cNvCxnSpPr/>
          <p:nvPr/>
        </p:nvCxnSpPr>
        <p:spPr>
          <a:xfrm flipH="1">
            <a:off x="3276360" y="3789000"/>
            <a:ext cx="273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Connettore 2 9"/>
          <p:cNvCxnSpPr/>
          <p:nvPr/>
        </p:nvCxnSpPr>
        <p:spPr>
          <a:xfrm>
            <a:off x="2268000" y="3933360"/>
            <a:ext cx="108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Connettore 2 11"/>
          <p:cNvCxnSpPr/>
          <p:nvPr/>
        </p:nvCxnSpPr>
        <p:spPr>
          <a:xfrm>
            <a:off x="6803640" y="3933360"/>
            <a:ext cx="108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2:41:20Z</dcterms:created>
  <dc:creator>Patrizia Pia</dc:creator>
  <dc:description/>
  <dc:language>en-US</dc:language>
  <cp:lastModifiedBy>Damilano</cp:lastModifiedBy>
  <cp:lastPrinted>2012-11-08T15:14:32Z</cp:lastPrinted>
  <dcterms:modified xsi:type="dcterms:W3CDTF">2012-11-27T13:17:57Z</dcterms:modified>
  <cp:revision>20</cp:revision>
  <dc:subject/>
  <dc:title>Diapositiva 1</dc:title>
</cp:coreProperties>
</file>