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C53-2360-4483-9F44-A0AAA600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3A4-4881-40B4-B0EC-4F95F482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5A1-55CB-4551-9B1D-D96307C0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356-5E1F-4E82-9EE3-83D58CEA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C26-97A4-431E-AB2A-10E6480F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331-4CE6-4400-BF2F-C127427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614-8036-4AC5-8535-57A3D8CC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A9A-D453-4B72-B914-5D41BE20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694-7C12-49A1-A4BE-599BBC66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7B6-81F7-4307-AC4F-2CEB431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9EF-E6FB-4B1A-9443-05F7729C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34C-5133-443E-A4CD-F681D0B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D75A-134F-4448-B5B1-BAF82BE7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ottenere profitti anche nei casi in cui il mercato è al riba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197000"/>
          <a:ext cx="8221680" cy="523872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 - 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.I.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0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0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Patrizia Pia</cp:lastModifiedBy>
  <dcterms:modified xsi:type="dcterms:W3CDTF">2012-02-08T12:30:51Z</dcterms:modified>
  <cp:revision>11</cp:revision>
  <dc:subject/>
  <dc:title>Diapositiva 1</dc:title>
</cp:coreProperties>
</file>