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5B1-118E-4D3E-BCC3-DCB0276B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A39-4BDE-4C25-AD62-FB900A60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B48-44D6-44E2-9011-1E7E5FD5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5B4-27AF-4600-BAB3-7DC4F208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E76-7607-473A-BE75-F56BB565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54E-2B55-4C3A-9A3D-073FD309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90E-B542-4B9F-81A7-1610CC18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BC4-6F5E-4D54-B345-779CE57F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EA2-D650-4746-AF95-0D683224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A22-2A76-4AF0-8981-65F44C84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9D9-6013-4B44-99D8-837E640B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C16-C425-47FA-9949-E455DC70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EA01-1AC8-4D31-8048-4D9D524E1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VERAGE CERTIF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no livello di rischio più elevato e permettono di partecipare in modo amplificato all’andamento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minore: 1-2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cadenza si comportano come normali opzioni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 cessano di esistere e vengono liquidati anticipatamente se il sottostante tocca la barriera o lo stop loss in qualunque momento durante la vita del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empio di leverage certificate “bull”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trike 16.500; barriera 16.890; multiplo 0,0001; Prezzo di mercato 0,352€; prezzo sottostante (valore Indice) 19.705; scadenza 2 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. L’indice tocca la barriera prima de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certificato cessa di esistere e viene liquidato al prezzo di stop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750 liquidato 0,025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350 liquida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2. L’indice sottostante non tocca il livello barr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21.350 punti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1.350 – 16.500) x 0,0001 = 0,48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indice 8,3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certificato 37,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18.525 pu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8.525 – 16.500) x 0,0001 = 0,202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indice del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certificato del 42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284720" y="3933720"/>
            <a:ext cx="453528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2852640"/>
            <a:ext cx="331164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1844640"/>
            <a:ext cx="3743280" cy="43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Comic Sans MS"/>
              </a:rPr>
              <a:t>I CERTIF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trumenti derivati cartolarizz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non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CERTIFICATES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condiziona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LE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19640" y="2205000"/>
            <a:ext cx="720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3068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3429000"/>
            <a:ext cx="64764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MOLTEPLICI SOTTOST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NVESTMENT CERTIFICATES tipo BENCH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compresa tra 2 e 5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sibilità nulla o comunque molto ridotta rispetto al tempo mancante alla scadenza e alla volatilità del sottostante; minori difficoltà a “prezzare” 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 opzione call con strike uguale a zero (sempre deep-in-the-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Comic Sans MS"/>
              </a:rPr>
              <a:t>Profilo rischio/rendimento del Certificate Bench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ment Certificate su FTSE/MIB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ultiplo 0,0001; prezzo di mercato 2,405€; Valore indice 27.333; vita residua 3 a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 VALUTARE L’OPPORTUNITA’ DI INVESTIMEN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olare lo sconto del certif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frontare entità sconto con tasso annuale divide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% = 1 -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x 100 = 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.333 x 0,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annualizzato (1 + 0,12)</a:t>
            </a:r>
            <a:r>
              <a:rPr b="1" lang="it-IT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⅓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1 = 3,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 scadenza l’indice FTSE/MIB vale 29.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importo liquidato: 29520 x 0,0001 = 2,952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ndimento di periodo: 22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27664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 CAPITALE PROT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eguono l’andamento di un sottotante ma viene fissato un livello minimo di riborso fin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Struttu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acquisto di call con strike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cquisto di put con strike = liv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i prot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5:19:37Z</dcterms:created>
  <dc:creator>Patrizia Pia</dc:creator>
  <dc:description/>
  <dc:language>en-US</dc:language>
  <cp:lastModifiedBy>Patrizia Pia</cp:lastModifiedBy>
  <dcterms:modified xsi:type="dcterms:W3CDTF">2012-03-08T13:41:25Z</dcterms:modified>
  <cp:revision>4</cp:revision>
  <dc:subject/>
  <dc:title>Diapositiva 1</dc:title>
</cp:coreProperties>
</file>