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31B0-6716-4384-B07C-53F21A4DCC3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8DB3-7EE6-42A6-A9E8-D351AD9447B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BBE-C214-4E48-A77D-D75599E6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D6E-A722-4A24-995B-07C3C906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7366-B0A8-4114-BF20-F41ECF24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C07-8F19-4AC7-AECA-4AA8023C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CBD-B01A-4007-B11A-F5AAAAA7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C96-B24C-4773-9D91-0D71FBC4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745-E109-4A2D-AF1A-DD2938E0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E95-CD34-4186-8ED1-4E6BDF25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083-5732-414B-898D-483E813E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E6F-1869-4728-9A33-FB66ACFA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B70-A8EE-437B-9C5C-B471AF73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453-2594-4D3A-AEA1-6F5574D5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790F-8F24-41CF-9D29-ED2274BC48D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GLI SW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95280" y="1557360"/>
            <a:ext cx="8424720" cy="115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cc0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95280" y="4365720"/>
            <a:ext cx="8064360" cy="93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cc00"/>
                </a:solidFill>
                <a:latin typeface="Comic Sans MS"/>
              </a:rPr>
              <a:t>CURRENCY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scambio di flussi di cassa espressi in due valute d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00"/>
                </a:solidFill>
                <a:latin typeface="Comic Sans MS"/>
              </a:rPr>
              <a:t>CREDIT DEFAULT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una parte (compratore della protezione), contro pagamento di un premio, riceve dall’altra parte (venditore di protezione) una somma di denaro pari alla perdita subita o ha il diritto di consegnare un’obbligazione di pagamento del soggetto di riferimento se entro la scadenza concordata il soggetto in questione diviene insolv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Pia</cp:lastModifiedBy>
  <dcterms:modified xsi:type="dcterms:W3CDTF">2012-03-16T10:34:02Z</dcterms:modified>
  <cp:revision>4</cp:revision>
  <dc:subject/>
  <dc:title>Diapositiva 1</dc:title>
</cp:coreProperties>
</file>