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60155-7392-4A15-983C-EA84D09CC91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F8566-5FB3-4649-9719-34218C7B0EA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DE13-4EBC-469B-8801-FDAFC389E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62E5-A9FE-41D7-9D40-097F7F87F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348A-DCEF-4703-BA2E-D9D5B6A76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A2B9-E683-46BD-9EFF-EEF15995D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9C74-CCA9-4BD2-8E10-7BCA276D2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DFBB-FB08-4F10-B6FF-EC86C5235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9542-7E77-42A3-8696-58AF39AC3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9425-CAE3-42C2-8348-4EFF78782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AA6E-EE01-45FD-9FFB-7E9A77548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B784-D127-4CD7-AF00-48CC98DBB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75F8-1AA9-4465-9A2C-A486DFC37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221E-B783-4089-A08B-A77A0DDCF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5227C-A43F-4231-BBBF-442F10DAE18B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735120" y="4238280"/>
            <a:ext cx="7673760" cy="6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SAA_1a_LOGO_NUOVO_2008"/>
          <p:cNvPicPr/>
          <p:nvPr/>
        </p:nvPicPr>
        <p:blipFill>
          <a:blip r:embed="rId1"/>
          <a:stretch/>
        </p:blipFill>
        <p:spPr>
          <a:xfrm>
            <a:off x="436680" y="358920"/>
            <a:ext cx="1341360" cy="1015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Univerità"/>
          <p:cNvPicPr/>
          <p:nvPr/>
        </p:nvPicPr>
        <p:blipFill>
          <a:blip r:embed="rId2"/>
          <a:stretch/>
        </p:blipFill>
        <p:spPr>
          <a:xfrm>
            <a:off x="7615080" y="320760"/>
            <a:ext cx="1106640" cy="10602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115920" y="2141640"/>
            <a:ext cx="8889840" cy="21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it-IT" sz="3200" spc="-1" strike="noStrike">
                <a:solidFill>
                  <a:srgbClr val="003399"/>
                </a:solidFill>
                <a:latin typeface="Arial"/>
              </a:rPr>
              <a:t>I PRODOTTI E I SERVIZI DI INVESTIMENTO FINANZI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3399"/>
                </a:solidFill>
                <a:uFillTx/>
                <a:latin typeface="Arial"/>
              </a:rPr>
              <a:t>I FU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Arial"/>
                <a:ea typeface="Arial"/>
              </a:rPr>
              <a:t>Prof.ssa Marina Damilano -  Prof.ssa Patrizia P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FIB – FUTURES </a:t>
            </a:r>
            <a:br>
              <a:rPr sz="4000"/>
            </a:b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SULL’INDICE DI BORS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3600360"/>
          </a:xfrm>
          <a:prstGeom prst="rect">
            <a:avLst/>
          </a:prstGeom>
          <a:solidFill>
            <a:srgbClr val="e6e6e6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0000"/>
                </a:solidFill>
                <a:uFillTx/>
                <a:latin typeface="Comic Sans MS"/>
              </a:rPr>
              <a:t>CARATTERISTICHE CONTRATTU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INDICE SOTTOSTAN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FTSE/MIB (40 titoli più liquidi e capitalizzati per il flottan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solidFill>
            <a:srgbClr val="e6e6e6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IMPORTO CONTRAT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PUNTI INDICE x 5 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MINIFIB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 P.I. x 1 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TIC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5 PUNTI INDICE (25 €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MINIFIB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 5 P.I. (5 €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SCADENZ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ORE 9:05 DEL 3° VENERDI’ DI MARZO, GIUGNO, SETTEMBRE, DICEMB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solidFill>
            <a:srgbClr val="e6e6e6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SETTLEMENT PRI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GIORNALIERO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 MEDIA PONDERATA DELL’ULTIMO 10% DI CONTRATTI SCAMBI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GIORNO DI SCADENZA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 FTSE/MIB DI APER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LIQUIDAZIO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CASH SETTLEMENT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, IL 1° GIORNO LAVORATIVO SUCCESSIVO ALLA SCADEN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4896000"/>
          </a:xfrm>
          <a:prstGeom prst="rect">
            <a:avLst/>
          </a:prstGeom>
          <a:solidFill>
            <a:srgbClr val="e6e6e6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MODALITA’ DI NEGOZIAZIO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ASTA DI APERTURA (8:30-9: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NEGOZIAZIONE CONTINUA (9:00-17:4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MARGINI INIZIAL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TABELLA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CASSA DI COMPENSAZIONE E GARANZ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ATTUALMENTE: 13,2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FATTORI CHE INFLUENZANO IL PREZZO TEORICO DEL FIB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0323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VALORE DELL’INDICE CASH (+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TEMPO MANCANTE ALLA SCADENZA (+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TASSO DI INTERESSE (+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DIVIDENDI (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FUT</a:t>
            </a: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TEO</a:t>
            </a: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 = INDICE CASH + INT – D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STRATEGIE DI UTILIZZO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03236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 fontScale="72000"/>
          </a:bodyPr>
          <a:p>
            <a:pPr marL="246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HED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469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FULL RE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469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RAPPORTO DI COPERTURA (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TRADING DIREZION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ARBITRAGG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SSF – SINGLE STOCK FUTUR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48360"/>
          </a:xfrm>
          <a:prstGeom prst="rect">
            <a:avLst/>
          </a:prstGeom>
          <a:solidFill>
            <a:srgbClr val="e6e6e6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0000"/>
                </a:solidFill>
                <a:uFillTx/>
                <a:latin typeface="Comic Sans MS"/>
              </a:rPr>
              <a:t>RISPETTO AL FIB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LOTTI MINI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MAGGIOR NUMEROSITA’ DI SCADENZE NEGOZIABI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FUTURES</a:t>
            </a:r>
            <a:br>
              <a:rPr sz="4000"/>
            </a:b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- DEFINIZIONE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311280"/>
          </a:xfrm>
          <a:prstGeom prst="rect">
            <a:avLst/>
          </a:prstGeom>
          <a:solidFill>
            <a:srgbClr val="ffff99"/>
          </a:solidFill>
          <a:ln w="19080">
            <a:solidFill>
              <a:srgbClr val="80808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Contratto con il quale i contraenti si assumono </a:t>
            </a: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l’impegno ad acquistare o vendere</a:t>
            </a: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 una quantità </a:t>
            </a: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standardizzata</a:t>
            </a: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 di una merce o attività finanziaria ad un prezzo e ad una </a:t>
            </a: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data futura</a:t>
            </a: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 predetermin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SOLO IN </a:t>
            </a:r>
            <a:r>
              <a:rPr b="1" lang="it-IT" sz="2800" spc="-1" strike="noStrike" u="sng">
                <a:solidFill>
                  <a:srgbClr val="003399"/>
                </a:solidFill>
                <a:uFillTx/>
                <a:latin typeface="Comic Sans MS"/>
              </a:rPr>
              <a:t>BORSE</a:t>
            </a: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 UFFICIALMENTE RICONOSCI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3399"/>
                </a:solidFill>
                <a:uFillTx/>
                <a:latin typeface="Comic Sans MS"/>
              </a:rPr>
              <a:t>TIPOLOGIE</a:t>
            </a: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CURR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STOCK INDEX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FINAN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SINGLE STOCK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FU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INTEREST RATE / B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COMMOD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arentesi graffa chiusa 1"/>
          <p:cNvSpPr/>
          <p:nvPr/>
        </p:nvSpPr>
        <p:spPr>
          <a:xfrm>
            <a:off x="5940360" y="3141720"/>
            <a:ext cx="287280" cy="2087640"/>
          </a:xfrm>
          <a:custGeom>
            <a:avLst/>
            <a:gdLst>
              <a:gd name="textAreaLeft" fmla="*/ 0 w 287280"/>
              <a:gd name="textAreaRight" fmla="*/ 103680 w 287280"/>
              <a:gd name="textAreaTop" fmla="*/ 7200 h 2087640"/>
              <a:gd name="textAreaBottom" fmla="*/ 208044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24"/>
                  <a:pt x="10800" y="248"/>
                </a:cubicBezTo>
                <a:lnTo>
                  <a:pt x="10800" y="10552"/>
                </a:lnTo>
                <a:cubicBezTo>
                  <a:pt x="10800" y="10676"/>
                  <a:pt x="16200" y="10800"/>
                  <a:pt x="21600" y="10800"/>
                </a:cubicBezTo>
                <a:cubicBezTo>
                  <a:pt x="16200" y="10800"/>
                  <a:pt x="10800" y="10924"/>
                  <a:pt x="10800" y="11048"/>
                </a:cubicBezTo>
                <a:lnTo>
                  <a:pt x="10800" y="21352"/>
                </a:lnTo>
                <a:cubicBezTo>
                  <a:pt x="10800" y="21476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e30a5"/>
                </a:solidFill>
                <a:latin typeface="Comic Sans MS"/>
              </a:rPr>
              <a:t>ELEMENTI PECULIAR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STANDARDIZZ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MPOR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CADEN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REGOLE DI CONTRATT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OBIETTIVO: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ESALTARE AL MASSIMO LA NEGOZIABILITA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CLEARING HO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2 IMPORTANTISSIME FUNZION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COMPENSAZI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GARANZ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3600" spc="-1" strike="noStrike">
              <a:solidFill>
                <a:srgbClr val="ce30a5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2600" indent="-438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COMPENSAZIONE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682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768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CONTROPARTE OBBLIGATORIA DI OGNI CONTRAT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82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768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     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FACILITA LA COMPENSAZIONE 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ANTICIPATA DELLE POSI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2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2600" indent="-438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GARANZ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682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768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GARANTISCE IL BUON FINE DEI CONTRAT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82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nessuna esposizione sul merc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82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richiesta di elevati requisiti patrimoniali ai «clearing members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82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ampi poteri tecnici, regolamentari e di contro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ccia a destra 1"/>
          <p:cNvSpPr/>
          <p:nvPr/>
        </p:nvSpPr>
        <p:spPr>
          <a:xfrm>
            <a:off x="1692360" y="2565360"/>
            <a:ext cx="503280" cy="358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e30a5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62960" indent="-46296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Comic Sans MS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SISTEMA DEI MARGINI DI GARANZ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2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71120" indent="-411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MARGINE INIZI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30816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3399"/>
                </a:solidFill>
                <a:latin typeface="Comic Sans MS"/>
              </a:rPr>
              <a:t>Basso (in % del valore del contratt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30816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3399"/>
                </a:solidFill>
                <a:latin typeface="Comic Sans MS"/>
              </a:rPr>
              <a:t>Obbligatorio per acquirente e vendito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30816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3399"/>
                </a:solidFill>
                <a:latin typeface="Comic Sans MS"/>
              </a:rPr>
              <a:t>Scopo:  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COPRIRE LE EVENTUALI PERDITE DEL    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   1° GIORNO DI CONTRATTAZI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1120" indent="-411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MARGINI DI VARI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3399"/>
                </a:solidFill>
                <a:latin typeface="Comic Sans MS"/>
              </a:rPr>
              <a:t>Meccanismo del «marking-to-market»: adeguamento giornaliero delle posizioni aperte sul merca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it-IT" sz="1000" spc="-1" strike="noStrike">
                <a:solidFill>
                  <a:srgbClr val="003399"/>
                </a:solidFill>
                <a:latin typeface="Comic Sans MS"/>
              </a:rPr>
              <a:t>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          </a:t>
            </a: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I FUTURES SONO CONTRATTI A    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TERMINE CON LIQUIDAZIONE 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IMMEDIATA DELLE DIFFERENZE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2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34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ccia a destra 3"/>
          <p:cNvSpPr/>
          <p:nvPr/>
        </p:nvSpPr>
        <p:spPr>
          <a:xfrm>
            <a:off x="1403280" y="5084640"/>
            <a:ext cx="504720" cy="36036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ffff00"/>
          </a:solidFill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e30a5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N REALTA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L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omic Sans MS"/>
              </a:rPr>
              <a:t>MARGINE INIZIALE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NON E’ FI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VIENE RICALCOLATO GIORNAL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ulla base del «peggior scenario» ragionevolmente possibile per il giorno success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i procede con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’ADDEBITO/ACCREDITO GIORNALIERO DELLA DIFFERENZA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rispetto a quanto già in essere sul conto fu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ccia in giù 1"/>
          <p:cNvSpPr/>
          <p:nvPr/>
        </p:nvSpPr>
        <p:spPr>
          <a:xfrm>
            <a:off x="4427640" y="1628640"/>
            <a:ext cx="360360" cy="432000"/>
          </a:xfrm>
          <a:prstGeom prst="downArrow">
            <a:avLst>
              <a:gd name="adj1" fmla="val 50000"/>
              <a:gd name="adj2" fmla="val 50022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e30a5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597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DUNQUE,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omic Sans MS"/>
              </a:rPr>
              <a:t>OGNI GIORNO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2 CASH FLO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14 febbraio        15 febbra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hiusura 14 febbra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MARGINE DI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 MARGINE INIZI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VARIAZIONE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 RICALCOL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EX-POST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it-IT" sz="2400" spc="-1" strike="noStrike">
                <a:solidFill>
                  <a:srgbClr val="7030a0"/>
                </a:solidFill>
                <a:latin typeface="Comic Sans MS"/>
              </a:rPr>
              <a:t>EX-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liquida la ∆ del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«accantona» max ∆ nega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14/02 (rispetto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possibile del 15/02 (rispet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l 13/02)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al MI in essere il 14/0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Connettore 1 3"/>
          <p:cNvSpPr/>
          <p:nvPr/>
        </p:nvSpPr>
        <p:spPr>
          <a:xfrm flipV="1">
            <a:off x="900000" y="1807920"/>
            <a:ext cx="72723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Connettore 1 5"/>
          <p:cNvSpPr/>
          <p:nvPr/>
        </p:nvSpPr>
        <p:spPr>
          <a:xfrm>
            <a:off x="4535640" y="155736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Connettore 1 7"/>
          <p:cNvSpPr/>
          <p:nvPr/>
        </p:nvSpPr>
        <p:spPr>
          <a:xfrm>
            <a:off x="2411280" y="1808280"/>
            <a:ext cx="212436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Connettore 1 10"/>
          <p:cNvSpPr/>
          <p:nvPr/>
        </p:nvSpPr>
        <p:spPr>
          <a:xfrm>
            <a:off x="4572000" y="1844640"/>
            <a:ext cx="212400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Connettore 2 11"/>
          <p:cNvCxnSpPr/>
          <p:nvPr/>
        </p:nvCxnSpPr>
        <p:spPr>
          <a:xfrm flipV="1">
            <a:off x="4535280" y="2133720"/>
            <a:ext cx="1080" cy="358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5" name="Connettore 1 15"/>
          <p:cNvSpPr/>
          <p:nvPr/>
        </p:nvSpPr>
        <p:spPr>
          <a:xfrm flipH="1">
            <a:off x="2556000" y="2852640"/>
            <a:ext cx="172872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Connettore 1 17"/>
          <p:cNvSpPr/>
          <p:nvPr/>
        </p:nvSpPr>
        <p:spPr>
          <a:xfrm>
            <a:off x="4572000" y="2852640"/>
            <a:ext cx="158436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e30a5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Comic Sans MS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CASH SETTL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(LIQUIDAZIONE PER CONTAN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DELIVERY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(se previs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Comic Sans MS"/>
              </a:rPr>
              <a:t>A SCADENZ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LIQUIDAZI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PER CONTANTI DE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(i pochi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ULTIMA DIFFERENZA D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ontratti aperti)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PREZZO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(ULTIMO M.V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Connettore 2 2"/>
          <p:cNvCxnSpPr/>
          <p:nvPr/>
        </p:nvCxnSpPr>
        <p:spPr>
          <a:xfrm flipV="1">
            <a:off x="2050560" y="3572640"/>
            <a:ext cx="1080" cy="648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0" name="Connettore 1 5"/>
          <p:cNvSpPr/>
          <p:nvPr/>
        </p:nvSpPr>
        <p:spPr>
          <a:xfrm flipV="1">
            <a:off x="3059280" y="2852640"/>
            <a:ext cx="1081080" cy="4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Connettore 1 8"/>
          <p:cNvSpPr/>
          <p:nvPr/>
        </p:nvSpPr>
        <p:spPr>
          <a:xfrm>
            <a:off x="3059280" y="3357720"/>
            <a:ext cx="1081080" cy="35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13:27:07Z</dcterms:created>
  <dc:creator>Marina Damilano</dc:creator>
  <dc:description/>
  <dc:language>en-US</dc:language>
  <cp:lastModifiedBy>Pia</cp:lastModifiedBy>
  <cp:lastPrinted>2012-02-15T10:24:12Z</cp:lastPrinted>
  <dcterms:modified xsi:type="dcterms:W3CDTF">2012-03-16T10:34:29Z</dcterms:modified>
  <cp:revision>24</cp:revision>
  <dc:subject/>
  <dc:title>Diapositiva 1</dc:title>
</cp:coreProperties>
</file>