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6FFD-84E4-45AD-BB2A-CDAEFA115AE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1CCF-A252-46FC-976F-6F0C5569039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7A0-A843-477C-AFC9-C43F1961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3A2-ED42-409C-82C5-95A3BD32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0775-4A0A-431F-871F-8F435F25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56E7-0C03-4629-ACB8-9EC17487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7779-4DF6-462A-AE0E-0F5FBFF5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721-E4C0-42C4-9236-E6A29AD2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B2B-0EE8-4E7F-858C-4A967388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0DA3-DB65-4A94-A7C3-C22F0599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D47-F65C-4D60-AED6-261F3308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B23-43BE-4DD4-A0A0-E147AE5E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D16-410E-4EBD-B70D-63C5CBA8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6FB4-9120-4AAE-9F8F-C318F4FE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1DB9-8309-4ACC-AA7A-1C68C0200A5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I 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CHE COSA SONO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STRUMENTI BASATI SU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SOTTOSTANTI </a:t>
            </a: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ATTIVITA’ FINANZIARIE (o RE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TRE PRINCIPALI</a:t>
            </a: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 CATEGORI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A CHE COSA SERVONO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STRUMENTI PER LA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GESTIONE DEL RISCH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PECULAZIONE (TR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Eliminazione totale o parziale del rischio di variazione dei prezzi sulle posizioni detenute nel mercato a pro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PECULAZIONE (TRAD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Ricerca del rischio nella speranza di massimizzare i 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Sfruttamento di temporanee inefficienze del mercato nel suo compl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NASCITA E SVILUPPO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Il mercato dei derivati, nato nei primi anni ’70, si è enormemente sviluppato nel corso degli ultimi dece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ERCATI REGOLAMEN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ERCATO “OT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UTILITA’ DEI DERIVATI PER UN EFFICIENTE FUNZIONAMENTO DEI MERCATI FINANZIA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 flipV="1">
            <a:off x="1835280" y="4149720"/>
            <a:ext cx="433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1835280" y="4365720"/>
            <a:ext cx="4330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docenti</cp:lastModifiedBy>
  <dcterms:modified xsi:type="dcterms:W3CDTF">2013-03-01T09:55:44Z</dcterms:modified>
  <cp:revision>4</cp:revision>
  <dc:subject/>
  <dc:title>Diapositiva 1</dc:title>
</cp:coreProperties>
</file>