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E183-5A40-4DA1-BF08-8F53FC8C8AA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C409-36A8-4CEA-B8FC-2CFE088553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487-EC80-46EB-AC51-209B9751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38C-A859-4950-A9E9-A908FAA5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835-DBD7-4043-8CFE-153C8B4C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1B4-5716-411B-A18C-C155AEAF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072-B52B-47AC-98A8-A2AFE4E6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BB4-6045-4A4E-8180-C14E0F36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13E-2E82-4512-8713-7F0C3E7E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0B7-CC91-4DC7-8CA9-B9BF54BE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68B-55BF-4FE5-ADAC-D30328CF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082-FE8A-4A8D-868B-DEA5C23C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5F7-5783-4050-A3FB-7FF5B87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710-71E1-4372-A970-9B693D23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83B1-AE53-4EE5-9675-3E4A09465BF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Marina</cp:lastModifiedBy>
  <cp:lastPrinted>2012-05-02T15:09:26Z</cp:lastPrinted>
  <dcterms:modified xsi:type="dcterms:W3CDTF">2013-04-12T10:15:07Z</dcterms:modified>
  <cp:revision>22</cp:revision>
  <dc:subject/>
  <dc:title>Diapositiva 1</dc:title>
</cp:coreProperties>
</file>