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CC7-372C-471A-93D4-EAC9DBA5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D10-F07E-4639-AADF-1BAA50F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1A0-7FAF-4F00-B8B3-7727FA9D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014-CFE4-4DA3-96CF-8F2C49A5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574-CD57-422B-955C-3BFF12B3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F40-8FFF-4404-9006-4DBDF75F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BE2-55B7-489B-8095-C5AE45FD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7B2-98A0-4E28-BD46-3B365208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256-71F5-46C0-BC70-F728C20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5CD-AF19-43A7-B1E6-282BF2A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8A0-21C6-4374-BEF0-A75D2B6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B7A-A2BE-4698-9DA6-AB2CF192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2927-FDC9-42F6-BD97-E07DC16A41B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Marina</cp:lastModifiedBy>
  <cp:lastPrinted>2012-11-08T15:14:32Z</cp:lastPrinted>
  <dcterms:modified xsi:type="dcterms:W3CDTF">2013-04-12T10:15:33Z</dcterms:modified>
  <cp:revision>21</cp:revision>
  <dc:subject/>
  <dc:title>Diapositiva 1</dc:title>
</cp:coreProperties>
</file>