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11DFC-C032-4328-8132-F3541EB92A5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ED1F-4182-4B5B-B080-BB2F7476966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DC67-0F74-4941-97BF-CF31712A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D288-7628-44B1-8BFA-2C64FB634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3F00-8062-4B6B-9828-933CB127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8A8-776A-4425-B683-01894A9E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F85C-48B5-40F5-96F5-335C82849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8D10-19C4-46BD-A491-65ABF124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ECE2-3543-44C8-9DBE-9027C56A3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BD96-4980-422D-BDE3-6E6C25D4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2C7F-8E7B-4E52-8A17-15175066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6CC8-B48B-43BB-A504-4B38C709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CFF-C045-4FBE-B6DA-BB91D7B3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D509-C129-4D60-9E9D-4195A3347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597-58EE-46AD-8E41-EAC05486B9E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Arial"/>
              </a:rPr>
              <a:t>I 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IB – FUTURES 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ULL’INDICE DI BORS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600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CARATTERISTICHE CONTRATTU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NDICE SOTTOSTA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FTSE/MIB (40 titoli più liquidi e capitalizzati per il flottan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IMPORTO CONTRAT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PUNTI INDICE x 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P.I. x 1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TI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5 PUNTI INDICE (2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MINIFIB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5 P.I. (5 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CADENZ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RE 9:05 DEL 3° VENERDI’ DI MARZO, GIUGNO, SETTEMBRE, DICEMB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SETTLEMENT PR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ALIER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MEDIA PONDERATA DELL’ULTIMO 10% DI CONTRATTI SCAMBI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IORNO DI SCADENZ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: FTSE/MIB DI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IQUID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H SETTLEMEN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IL 1° GIORNO LAVORATIVO SUCCESSIVO A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489600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ODALITA’ DI NEGOZIAZIO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STA DI APERTURA (8:30-9: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NEGOZIAZIONE CONTINUA (9:00-17:4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RGINI INIZIAL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TABELLA 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ASSA DI COMPENSAZIONE E 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TTUALMENTE: 13,2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ATTORI CHE INFLUENZANO IL PREZZO TEORICO DEL FI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VALORE DELL’INDICE CASH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EMPO MANCANTE ALLA SCADENZA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TASSO DI INTERESSE (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DIVIDENDI (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FUT</a:t>
            </a:r>
            <a:r>
              <a:rPr b="1" lang="it-IT" sz="1400" spc="-1" strike="noStrike">
                <a:solidFill>
                  <a:srgbClr val="000000"/>
                </a:solidFill>
                <a:latin typeface="Comic Sans MS"/>
              </a:rPr>
              <a:t>TEO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= INDICE CASH + INT – DI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TRATEGIE DI UTILIZZ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032360"/>
          </a:xfrm>
          <a:prstGeom prst="rect">
            <a:avLst/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HED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ULL RE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4696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APPORTO DI COPERTURA (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TRADING DIRE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SSF – SINGLE STOCK FUTU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48360"/>
          </a:xfrm>
          <a:prstGeom prst="rect">
            <a:avLst/>
          </a:prstGeom>
          <a:solidFill>
            <a:srgbClr val="e6e6e6"/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0000"/>
                </a:solidFill>
                <a:uFillTx/>
                <a:latin typeface="Comic Sans MS"/>
              </a:rPr>
              <a:t>RISPETTO AL FIB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LOTTI MINI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MAGGIOR NUMEROSITA’ DI SCADENZE NEGOZIABI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FUTURES</a:t>
            </a:r>
            <a:br>
              <a:rPr sz="4000"/>
            </a:b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- DEFINIZIONE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311280"/>
          </a:xfrm>
          <a:prstGeom prst="rect">
            <a:avLst/>
          </a:prstGeom>
          <a:solidFill>
            <a:srgbClr val="ffff99"/>
          </a:solidFill>
          <a:ln w="19080">
            <a:solidFill>
              <a:srgbClr val="80808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Contratto con il quale i contraenti si assumono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l’impegno ad acquistare o vendere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una quantità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t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di una merce o attività finanziaria ad un prezzo e ad una </a:t>
            </a: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data futura</a:t>
            </a:r>
            <a:r>
              <a:rPr b="1" lang="it-IT" sz="3200" spc="-1" strike="noStrike">
                <a:solidFill>
                  <a:srgbClr val="003399"/>
                </a:solidFill>
                <a:latin typeface="Comic Sans MS"/>
              </a:rPr>
              <a:t> predetermin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SOLO IN </a:t>
            </a: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BORS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 UFFICIALMENTE RICONOSCI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3399"/>
                </a:solidFill>
                <a:uFillTx/>
                <a:latin typeface="Comic Sans MS"/>
              </a:rPr>
              <a:t>TIPOLOGIE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CURR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TOCK INDEX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INA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SINGLE STOCK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FU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INTEREST RATE / B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Comic Sans MS"/>
              </a:rPr>
              <a:t>COMMOD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arentesi graffa chiusa 1"/>
          <p:cNvSpPr/>
          <p:nvPr/>
        </p:nvSpPr>
        <p:spPr>
          <a:xfrm>
            <a:off x="5940360" y="3141720"/>
            <a:ext cx="287280" cy="2087640"/>
          </a:xfrm>
          <a:custGeom>
            <a:avLst/>
            <a:gdLst>
              <a:gd name="textAreaLeft" fmla="*/ 0 w 287280"/>
              <a:gd name="textAreaRight" fmla="*/ 103680 w 287280"/>
              <a:gd name="textAreaTop" fmla="*/ 7200 h 2087640"/>
              <a:gd name="textAreaBottom" fmla="*/ 20804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24"/>
                  <a:pt x="10800" y="248"/>
                </a:cubicBezTo>
                <a:lnTo>
                  <a:pt x="10800" y="10552"/>
                </a:lnTo>
                <a:cubicBezTo>
                  <a:pt x="10800" y="10676"/>
                  <a:pt x="16200" y="10800"/>
                  <a:pt x="21600" y="10800"/>
                </a:cubicBezTo>
                <a:cubicBezTo>
                  <a:pt x="16200" y="10800"/>
                  <a:pt x="10800" y="10924"/>
                  <a:pt x="10800" y="11048"/>
                </a:cubicBezTo>
                <a:lnTo>
                  <a:pt x="10800" y="21352"/>
                </a:lnTo>
                <a:cubicBezTo>
                  <a:pt x="10800" y="21476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ELEMENTI PECULIA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TANDARD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OR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CAD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OLE DI CONTRAT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O: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ESALTARE AL MASSIMO LA NEGOZIABIL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LEARING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 IMPORTANTISSIME FUN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OMPENS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GARAN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COMPENSAZIONE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CONTROPARTE OBBLIGATORIA DI OGNI CONTRA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FACILITA LA COMPENSAZIONE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ANTICIPATA DELLE POSI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2600" indent="-438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00"/>
                </a:solidFill>
                <a:uFillTx/>
                <a:latin typeface="Comic Sans MS"/>
              </a:rPr>
              <a:t>GARAN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768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GARANTISCE IL BUON FINE DEI CONTR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nessuna esposizione sul mer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richiesta di elevati requisiti patrimoniali ai «clearing members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82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99"/>
                </a:solidFill>
                <a:latin typeface="Comic Sans MS"/>
              </a:rPr>
              <a:t>ampi poteri tecnici, regolamentari e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ccia a destra 1"/>
          <p:cNvSpPr/>
          <p:nvPr/>
        </p:nvSpPr>
        <p:spPr>
          <a:xfrm>
            <a:off x="1692360" y="2565360"/>
            <a:ext cx="503280" cy="358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SISTEMA DEI MARGINI DI GARANZ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Basso (in % del valore del contratt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Obbligatorio per acquirente e vendito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30816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Comic Sans MS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Scopo: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COPRIRE LE EVENTUALI PERDITE DEL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   1° GIORNO DI CONTRATTAZIO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71120" indent="-411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I DI VARI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3399"/>
                </a:solidFill>
                <a:latin typeface="Comic Sans MS"/>
              </a:rPr>
              <a:t>Meccanismo del «marking-to-market»: adeguamento giornaliero delle posizioni aperte sul mercat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it-IT" sz="1000" spc="-1" strike="noStrike">
                <a:solidFill>
                  <a:srgbClr val="003399"/>
                </a:solidFill>
                <a:latin typeface="Comic Sans MS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          </a:t>
            </a:r>
            <a:r>
              <a:rPr b="0" lang="it-IT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 FUTURES SONO CONTRATTI A   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TERMINE CON LIQUIDAZIONE 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200" spc="-1" strike="noStrike">
                <a:solidFill>
                  <a:srgbClr val="003399"/>
                </a:solidFill>
                <a:latin typeface="Comic Sans MS"/>
              </a:rPr>
              <a:t>IMMEDIATA DELLE DIFFERENZ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62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34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ccia a destra 3"/>
          <p:cNvSpPr/>
          <p:nvPr/>
        </p:nvSpPr>
        <p:spPr>
          <a:xfrm>
            <a:off x="1403280" y="5084640"/>
            <a:ext cx="504720" cy="36036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ffff00"/>
          </a:solidFill>
          <a:ln w="255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REALTA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MARGINE INIZI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E’ FI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IENE RICALCOLATO GIORNAL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lla base del «peggior scenario» ragionevolmente possibile per il giorno succes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rocede con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L’ADDEBITO/ACCREDITO GIORNALIERO DELLA DIFFERENZA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spetto a quanto già in essere sul conto 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ccia in giù 1"/>
          <p:cNvSpPr/>
          <p:nvPr/>
        </p:nvSpPr>
        <p:spPr>
          <a:xfrm>
            <a:off x="4427640" y="1628640"/>
            <a:ext cx="360360" cy="4320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NQUE,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OGNI GIORNO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 CASH FLO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 febbraio        15 febbra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hiusura 14 febbra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MARGINE DI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MAR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VARIAZIONE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RICAL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   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EX-POST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7030a0"/>
                </a:solidFill>
                <a:latin typeface="Comic Sans MS"/>
              </a:rPr>
              <a:t>EX-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quida la ∆ del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«accantona» max ∆ neg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4/02 (rispetto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possibile del 15/02 (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13/02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al MI in essere il 14/0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onnettore 1 3"/>
          <p:cNvSpPr/>
          <p:nvPr/>
        </p:nvSpPr>
        <p:spPr>
          <a:xfrm flipV="1">
            <a:off x="900000" y="1807920"/>
            <a:ext cx="7272360" cy="3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onnettore 1 5"/>
          <p:cNvSpPr/>
          <p:nvPr/>
        </p:nvSpPr>
        <p:spPr>
          <a:xfrm>
            <a:off x="4535640" y="1557360"/>
            <a:ext cx="0" cy="503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onnettore 1 7"/>
          <p:cNvSpPr/>
          <p:nvPr/>
        </p:nvSpPr>
        <p:spPr>
          <a:xfrm>
            <a:off x="2411280" y="1808280"/>
            <a:ext cx="2124360" cy="0"/>
          </a:xfrm>
          <a:prstGeom prst="line">
            <a:avLst/>
          </a:prstGeom>
          <a:ln w="572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onnettore 1 10"/>
          <p:cNvSpPr/>
          <p:nvPr/>
        </p:nvSpPr>
        <p:spPr>
          <a:xfrm>
            <a:off x="4572000" y="1844640"/>
            <a:ext cx="2124000" cy="0"/>
          </a:xfrm>
          <a:prstGeom prst="line">
            <a:avLst/>
          </a:prstGeom>
          <a:ln w="57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Connettore 2 11"/>
          <p:cNvCxnSpPr/>
          <p:nvPr/>
        </p:nvCxnSpPr>
        <p:spPr>
          <a:xfrm flipV="1">
            <a:off x="4535280" y="2133720"/>
            <a:ext cx="1080" cy="358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5" name="Connettore 1 15"/>
          <p:cNvSpPr/>
          <p:nvPr/>
        </p:nvSpPr>
        <p:spPr>
          <a:xfrm flipH="1">
            <a:off x="2556000" y="2852640"/>
            <a:ext cx="172872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onnettore 1 17"/>
          <p:cNvSpPr/>
          <p:nvPr/>
        </p:nvSpPr>
        <p:spPr>
          <a:xfrm>
            <a:off x="4572000" y="2852640"/>
            <a:ext cx="158436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e30a5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3399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99"/>
                </a:solidFill>
                <a:uFillTx/>
                <a:latin typeface="Comic Sans MS"/>
              </a:rPr>
              <a:t>CASH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(LIQUIDAZIONE PER CONTA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DELIVERY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se previs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omic Sans MS"/>
              </a:rPr>
              <a:t>A SCADE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LIQUID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ER CONTANTI D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i poch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ULTIMA DIFFERENZA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atti aperti)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3399"/>
                </a:solidFill>
                <a:latin typeface="Comic Sans MS"/>
              </a:rPr>
              <a:t>PREZZ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ULTIMO M.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Connettore 2 2"/>
          <p:cNvCxnSpPr/>
          <p:nvPr/>
        </p:nvCxnSpPr>
        <p:spPr>
          <a:xfrm flipV="1">
            <a:off x="2050560" y="3572640"/>
            <a:ext cx="108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0" name="Connettore 1 5"/>
          <p:cNvSpPr/>
          <p:nvPr/>
        </p:nvSpPr>
        <p:spPr>
          <a:xfrm flipV="1">
            <a:off x="3059280" y="2852640"/>
            <a:ext cx="108108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Connettore 1 8"/>
          <p:cNvSpPr/>
          <p:nvPr/>
        </p:nvSpPr>
        <p:spPr>
          <a:xfrm>
            <a:off x="3059280" y="3357720"/>
            <a:ext cx="1081080" cy="358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Pia</cp:lastModifiedBy>
  <cp:lastPrinted>2012-02-15T10:24:12Z</cp:lastPrinted>
  <dcterms:modified xsi:type="dcterms:W3CDTF">2012-03-16T10:34:29Z</dcterms:modified>
  <cp:revision>24</cp:revision>
  <dc:subject/>
  <dc:title>Diapositiva 1</dc:title>
</cp:coreProperties>
</file>