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F4AD8-F2E9-46FB-BAAC-64D9C876FD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A5B-0C1D-4393-BB6D-5DA1484EB95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1219320" y="3259080"/>
            <a:ext cx="6705360" cy="30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3F1-176A-4EF3-A85D-BFED42EFB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FD9C-34EB-4741-9EDE-81867A8F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D59-91EB-45EF-B522-A7534885C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53E8-E7A6-48DC-91EA-8C5BF5B0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1B3A-FE0B-45F2-8858-C209D930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87AF-DFEF-47D7-963F-CA676E0A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E4C-2CE8-44B5-BE4F-B92DC3DD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032E-9153-4F0F-9C02-EE820676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8B3-CBF0-45CE-80F6-27087529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AC3F-520F-4954-80B6-6C3D605A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CB93-498F-433E-A34D-95D96D0C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9211-8C3A-4973-8B6E-84C0313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C3AC-79E1-49BD-8ABF-D7A6E16269F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LE OP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Italcementi vale 5,34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5€; scadenza 2 mesi;premio 0,15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100 azioni; premio pagato 1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Italcementi quota 5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Italcementi quota 3,8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105€ (1,2*100 – 1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Italcementi quota 7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15€ si investe in un contratto che vale 5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3,33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SHORT PUT profilo rischio/rendimento per il vendito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4427640" y="4221000"/>
            <a:ext cx="3529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2700360" y="4221000"/>
            <a:ext cx="1727280" cy="18720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A cosa servono le op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2000" y="1052640"/>
            <a:ext cx="8434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Trading direzionale «cauto»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il pay-off asimmetrico consente di ridurre le perdite nel caso in cui il mercato «giochi» con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Effetto lev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controllando un elevato controvalore di attività finanziarie con un investimento limitato, si possono ottenere risultati amplificati rispetto alla performance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Gestione del rischio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uare strategie di co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ff"/>
                </a:solidFill>
                <a:latin typeface="Comic Sans MS"/>
              </a:rPr>
              <a:t>Strategie di trading compless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: attraverso l’acquisto/vendita di due o più opzioni con differenti caratteris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STRADDLE profilo rischio/rendimento per il compra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 flipV="1">
            <a:off x="1547640" y="148428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7"/>
          <p:cNvSpPr/>
          <p:nvPr/>
        </p:nvSpPr>
        <p:spPr>
          <a:xfrm flipH="1" flipV="1">
            <a:off x="2195280" y="2420640"/>
            <a:ext cx="208908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 flipV="1">
            <a:off x="4284720" y="2420640"/>
            <a:ext cx="2520720" cy="33130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STRADDLE 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"/>
          <p:cNvSpPr/>
          <p:nvPr/>
        </p:nvSpPr>
        <p:spPr>
          <a:xfrm flipV="1">
            <a:off x="1547640" y="1267920"/>
            <a:ext cx="0" cy="4464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900000" y="4724280"/>
            <a:ext cx="734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 flipV="1">
            <a:off x="2484360" y="3644640"/>
            <a:ext cx="1943280" cy="2158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427640" y="3645000"/>
            <a:ext cx="1800000" cy="22320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ff"/>
                </a:solidFill>
                <a:latin typeface="Comic Sans MS"/>
              </a:rPr>
              <a:t>Caratteristiche contrattua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197000"/>
          <a:ext cx="8221680" cy="5513400"/>
        </p:xfrm>
        <a:graphic>
          <a:graphicData uri="http://schemas.openxmlformats.org/drawingml/2006/table">
            <a:tbl>
              <a:tblPr/>
              <a:tblGrid>
                <a:gridCol w="2459160"/>
                <a:gridCol w="1942920"/>
                <a:gridCol w="2017800"/>
                <a:gridCol w="180180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IBO su FTSEMIB settiman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pzioni su azio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le op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Quot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nti Indice 2,5 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Eu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mensione cont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E.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mio contra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I. x 2,5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mio x lot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° 2° 4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° Venerdì h.9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scaden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quidazi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 contanti. Pari a P.E. – Valore Indice su prezzi apertura rilevati il giorno di scadenz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egna fis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242640"/>
            <a:ext cx="8229600" cy="64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MARZ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pril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Maggi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IUGNO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SETT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DICEMBRE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GIUGNO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	</a:t>
            </a:r>
            <a:r>
              <a:rPr b="1" lang="it-IT" sz="1600" spc="-1" strike="noStrike">
                <a:solidFill>
                  <a:srgbClr val="ff33cc"/>
                </a:solidFill>
                <a:latin typeface="Arial"/>
              </a:rPr>
              <a:t>DICEMBRE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1116000" y="0"/>
            <a:ext cx="0" cy="6670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>
            <a:off x="1116000" y="40464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1116000" y="110808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>
            <a:off x="1116000" y="1863720"/>
            <a:ext cx="479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1116000" y="2619360"/>
            <a:ext cx="479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1116000" y="674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1"/>
          <p:cNvSpPr/>
          <p:nvPr/>
        </p:nvSpPr>
        <p:spPr>
          <a:xfrm>
            <a:off x="1116000" y="890640"/>
            <a:ext cx="1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1116000" y="335772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>
            <a:off x="1116000" y="4132440"/>
            <a:ext cx="384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4"/>
          <p:cNvSpPr/>
          <p:nvPr/>
        </p:nvSpPr>
        <p:spPr>
          <a:xfrm>
            <a:off x="1116000" y="488808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"/>
          <p:cNvSpPr/>
          <p:nvPr/>
        </p:nvSpPr>
        <p:spPr>
          <a:xfrm>
            <a:off x="1116000" y="537372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6"/>
          <p:cNvSpPr/>
          <p:nvPr/>
        </p:nvSpPr>
        <p:spPr>
          <a:xfrm>
            <a:off x="1116000" y="585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7"/>
          <p:cNvSpPr/>
          <p:nvPr/>
        </p:nvSpPr>
        <p:spPr>
          <a:xfrm>
            <a:off x="1116000" y="6399360"/>
            <a:ext cx="384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33cc"/>
                </a:solidFill>
                <a:latin typeface="Comic Sans MS"/>
              </a:rPr>
              <a:t>Valore Op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484280"/>
          <a:ext cx="7848720" cy="4853160"/>
        </p:xfrm>
        <a:graphic>
          <a:graphicData uri="http://schemas.openxmlformats.org/drawingml/2006/table">
            <a:tbl>
              <a:tblPr/>
              <a:tblGrid>
                <a:gridCol w="2743200"/>
                <a:gridCol w="1360440"/>
                <a:gridCol w="1873440"/>
                <a:gridCol w="1871640"/>
              </a:tblGrid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atto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ttosta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rezzo Eserciz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ita resid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latilit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sso d’interes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vidend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AutoShape 73"/>
          <p:cNvSpPr/>
          <p:nvPr/>
        </p:nvSpPr>
        <p:spPr>
          <a:xfrm>
            <a:off x="3851280" y="227664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4"/>
          <p:cNvSpPr/>
          <p:nvPr/>
        </p:nvSpPr>
        <p:spPr>
          <a:xfrm>
            <a:off x="5435640" y="227664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75"/>
          <p:cNvSpPr/>
          <p:nvPr/>
        </p:nvSpPr>
        <p:spPr>
          <a:xfrm>
            <a:off x="7308720" y="2276640"/>
            <a:ext cx="57636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6"/>
          <p:cNvSpPr/>
          <p:nvPr/>
        </p:nvSpPr>
        <p:spPr>
          <a:xfrm>
            <a:off x="3780000" y="2997360"/>
            <a:ext cx="576000" cy="502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7"/>
          <p:cNvSpPr/>
          <p:nvPr/>
        </p:nvSpPr>
        <p:spPr>
          <a:xfrm>
            <a:off x="5364000" y="2997360"/>
            <a:ext cx="576360" cy="431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8"/>
          <p:cNvSpPr/>
          <p:nvPr/>
        </p:nvSpPr>
        <p:spPr>
          <a:xfrm>
            <a:off x="3780000" y="3716280"/>
            <a:ext cx="57600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79"/>
          <p:cNvSpPr/>
          <p:nvPr/>
        </p:nvSpPr>
        <p:spPr>
          <a:xfrm>
            <a:off x="536400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80"/>
          <p:cNvSpPr/>
          <p:nvPr/>
        </p:nvSpPr>
        <p:spPr>
          <a:xfrm>
            <a:off x="7308720" y="3716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81"/>
          <p:cNvSpPr/>
          <p:nvPr/>
        </p:nvSpPr>
        <p:spPr>
          <a:xfrm>
            <a:off x="3851280" y="436572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82"/>
          <p:cNvSpPr/>
          <p:nvPr/>
        </p:nvSpPr>
        <p:spPr>
          <a:xfrm>
            <a:off x="536400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83"/>
          <p:cNvSpPr/>
          <p:nvPr/>
        </p:nvSpPr>
        <p:spPr>
          <a:xfrm>
            <a:off x="7308720" y="436572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84"/>
          <p:cNvSpPr/>
          <p:nvPr/>
        </p:nvSpPr>
        <p:spPr>
          <a:xfrm>
            <a:off x="3851280" y="5084640"/>
            <a:ext cx="504720" cy="505080"/>
          </a:xfrm>
          <a:prstGeom prst="upArrow">
            <a:avLst>
              <a:gd name="adj1" fmla="val 50000"/>
              <a:gd name="adj2" fmla="val 25018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5"/>
          <p:cNvSpPr/>
          <p:nvPr/>
        </p:nvSpPr>
        <p:spPr>
          <a:xfrm>
            <a:off x="5364000" y="5084640"/>
            <a:ext cx="505080" cy="5050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6"/>
          <p:cNvSpPr/>
          <p:nvPr/>
        </p:nvSpPr>
        <p:spPr>
          <a:xfrm>
            <a:off x="7308720" y="508464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7"/>
          <p:cNvSpPr/>
          <p:nvPr/>
        </p:nvSpPr>
        <p:spPr>
          <a:xfrm>
            <a:off x="3851280" y="5734080"/>
            <a:ext cx="50472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88"/>
          <p:cNvSpPr/>
          <p:nvPr/>
        </p:nvSpPr>
        <p:spPr>
          <a:xfrm>
            <a:off x="7308720" y="5734080"/>
            <a:ext cx="505080" cy="504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89"/>
          <p:cNvSpPr/>
          <p:nvPr/>
        </p:nvSpPr>
        <p:spPr>
          <a:xfrm>
            <a:off x="5364000" y="57340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0"/>
          <p:cNvSpPr/>
          <p:nvPr/>
        </p:nvSpPr>
        <p:spPr>
          <a:xfrm>
            <a:off x="7308720" y="2924280"/>
            <a:ext cx="576360" cy="503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ff"/>
                </a:solidFill>
                <a:latin typeface="Comic Sans MS"/>
              </a:rPr>
              <a:t>OP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000" y="1267920"/>
            <a:ext cx="871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ontrat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che, a fronte del pagamento di un “premio” iniziale, attribuisce la facoltà d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mpra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vender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un certo quantitativo di attività finanziaria o   reale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attività sottostant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 un prezzo predeterminato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prezzo di esercizi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o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rike pric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ll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europe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 o entro una specifica scadenza (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pzione america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acquis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9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CALL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call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Q – S)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5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6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7"/>
          <p:cNvSpPr/>
          <p:nvPr/>
        </p:nvSpPr>
        <p:spPr>
          <a:xfrm>
            <a:off x="1547640" y="4724280"/>
            <a:ext cx="230508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 flipV="1">
            <a:off x="3852720" y="1413000"/>
            <a:ext cx="3095640" cy="3311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at the money” (ATM) se lo strike è ugual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in the Money” (ITM) se lo strike è inf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Opzione “out of the money” (OTM) se lo strike è superiore alla quotazione del sottos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5"/>
          <p:cNvGraphicFramePr/>
          <p:nvPr/>
        </p:nvGraphicFramePr>
        <p:xfrm>
          <a:off x="463680" y="3357720"/>
          <a:ext cx="8216640" cy="27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3357720"/>
                    <a:ext cx="8216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2000" y="189000"/>
            <a:ext cx="86425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Esempio di acquisto di un’opzione 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o Enel vale 3,0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OGGI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rike 3,2€; scadenza 3 mesi;premio 0,10€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otto 500 azioni; premio pagato 50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1) Enel quota 3,2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ATM e il suo valore è nu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CADENZA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2) Enel quota 3,9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ITM, l’esercizio porta 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un guadagno di 300€ (0,7*500 –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3) Enel quota 2,6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opzione è OTM, perdita del prem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33cc"/>
                </a:solidFill>
                <a:latin typeface="Comic Sans MS"/>
              </a:rPr>
              <a:t>Effetto leva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: con 50€ si investe in un contratto che vale 1.600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32 volte di pi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5"/>
          <p:cNvSpPr/>
          <p:nvPr/>
        </p:nvSpPr>
        <p:spPr>
          <a:xfrm>
            <a:off x="252360" y="1125360"/>
            <a:ext cx="1366920" cy="790920"/>
          </a:xfrm>
          <a:custGeom>
            <a:avLst/>
            <a:gdLst>
              <a:gd name="textAreaLeft" fmla="*/ 0 w 1366920"/>
              <a:gd name="textAreaRight" fmla="*/ 1367280 w 1366920"/>
              <a:gd name="textAreaTop" fmla="*/ 0 h 790920"/>
              <a:gd name="textAreaBottom" fmla="*/ 791280 h 7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/>
          <p:cNvSpPr/>
          <p:nvPr/>
        </p:nvSpPr>
        <p:spPr>
          <a:xfrm>
            <a:off x="252360" y="3357720"/>
            <a:ext cx="2374920" cy="863280"/>
          </a:xfrm>
          <a:custGeom>
            <a:avLst/>
            <a:gdLst>
              <a:gd name="textAreaLeft" fmla="*/ 0 w 2374920"/>
              <a:gd name="textAreaRight" fmla="*/ 2374920 w 2374920"/>
              <a:gd name="textAreaTop" fmla="*/ 0 h 863280"/>
              <a:gd name="textAreaBottom" fmla="*/ 863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4" y="0"/>
                </a:lnTo>
                <a:lnTo>
                  <a:pt x="21600" y="10800"/>
                </a:lnTo>
                <a:lnTo>
                  <a:pt x="16204" y="21600"/>
                </a:ln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252360" y="5805360"/>
            <a:ext cx="8352000" cy="719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cc"/>
                </a:solidFill>
                <a:latin typeface="Comic Sans MS"/>
              </a:rPr>
              <a:t>SHORT CALL profilo rischio/rendimento per il 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 flipV="1">
            <a:off x="1547640" y="1052640"/>
            <a:ext cx="0" cy="446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1547640" y="3860640"/>
            <a:ext cx="2305080" cy="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3852720" y="3860640"/>
            <a:ext cx="2590920" cy="259272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2000" y="404280"/>
            <a:ext cx="8642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Opzione 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Comic Sans MS"/>
              </a:rPr>
              <a:t>ACQUIRENT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3200" spc="-1" strike="noStrike">
                <a:solidFill>
                  <a:srgbClr val="33cc33"/>
                </a:solidFill>
                <a:latin typeface="Comic Sans MS"/>
              </a:rPr>
              <a:t>VENDI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Comp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    Ve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diritto di vend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500 azioni Enel al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fissato ed entro u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ata fu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"/>
          <p:cNvSpPr/>
          <p:nvPr/>
        </p:nvSpPr>
        <p:spPr>
          <a:xfrm>
            <a:off x="539640" y="1700280"/>
            <a:ext cx="1511280" cy="2233440"/>
          </a:xfrm>
          <a:custGeom>
            <a:avLst/>
            <a:gdLst>
              <a:gd name="textAreaLeft" fmla="*/ 202320 w 1511280"/>
              <a:gd name="textAreaRight" fmla="*/ 1308960 w 1511280"/>
              <a:gd name="textAreaTop" fmla="*/ 390600 h 2233440"/>
              <a:gd name="textAreaBottom" fmla="*/ 1619280 h 223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6659640" y="1700280"/>
            <a:ext cx="1800000" cy="2232000"/>
          </a:xfrm>
          <a:custGeom>
            <a:avLst/>
            <a:gdLst>
              <a:gd name="textAreaLeft" fmla="*/ 240840 w 1800000"/>
              <a:gd name="textAreaRight" fmla="*/ 1559160 w 1800000"/>
              <a:gd name="textAreaTop" fmla="*/ 390600 h 2232000"/>
              <a:gd name="textAreaBottom" fmla="*/ 161820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395280" y="5373720"/>
            <a:ext cx="4392720" cy="1224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684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ff"/>
                </a:solidFill>
                <a:latin typeface="Comic Sans MS"/>
              </a:rPr>
              <a:t>LONG PUT profilo rischio/rendimento per il deten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ofi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quotazione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d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scadenza, un’opzione put v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0 se S &l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S – Q) se S &gt;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"/>
          <p:cNvSpPr/>
          <p:nvPr/>
        </p:nvSpPr>
        <p:spPr>
          <a:xfrm flipV="1">
            <a:off x="1547640" y="1052640"/>
            <a:ext cx="0" cy="417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>
            <a:off x="971640" y="4292640"/>
            <a:ext cx="7345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8"/>
          <p:cNvSpPr/>
          <p:nvPr/>
        </p:nvSpPr>
        <p:spPr>
          <a:xfrm flipH="1">
            <a:off x="4643280" y="4797360"/>
            <a:ext cx="2810160" cy="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9"/>
          <p:cNvSpPr/>
          <p:nvPr/>
        </p:nvSpPr>
        <p:spPr>
          <a:xfrm flipH="1" flipV="1">
            <a:off x="2341440" y="1557360"/>
            <a:ext cx="2301840" cy="3240000"/>
          </a:xfrm>
          <a:prstGeom prst="line">
            <a:avLst/>
          </a:prstGeom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4:10:52Z</dcterms:created>
  <dc:creator>Patrizia Pia</dc:creator>
  <dc:description/>
  <dc:language>en-US</dc:language>
  <cp:lastModifiedBy>Ute Formazione Banco Di Napoli</cp:lastModifiedBy>
  <cp:lastPrinted>2012-05-02T15:09:26Z</cp:lastPrinted>
  <dcterms:modified xsi:type="dcterms:W3CDTF">2012-10-06T12:02:53Z</dcterms:modified>
  <cp:revision>21</cp:revision>
  <dc:subject/>
  <dc:title>Diapositiva 1</dc:title>
</cp:coreProperties>
</file>