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F6EB-F663-467A-93CA-8FE67CA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4596-16D2-4C71-B3DA-00B4031D8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AA42-58D1-4FE6-B650-32148FFDB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5A2C-088C-4EE9-8536-BD098ED2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ABC-7B52-4A97-B07B-8FC9915A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29A-EF74-46E1-BCD1-B69D5CAB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E42-C148-4B3E-9180-F5D5A9E2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47F3-1EB2-43A8-AD47-DAFD4AB36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8A84-FDD4-4B15-A23E-14336320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1AEF-50AC-4BB5-8E2E-5518C9B6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3C0-719A-4C46-8B67-C1136D2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DDD2-7F06-427C-8729-210DB4E9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F1CE-1A21-4F91-BA86-F12BE23D9C5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95280" y="1341360"/>
            <a:ext cx="8424720" cy="122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b050"/>
                </a:solidFill>
                <a:latin typeface="Comic Sans MS"/>
              </a:rPr>
              <a:t>GLI SWA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tratto con cui le parti si accordano per scambiarsi nel tempo due diversi flussi di ca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omic Sans MS"/>
              </a:rPr>
              <a:t>OVER-THE-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CURRENCY SWAP (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000" spc="-1" strike="noStrike">
              <a:solidFill>
                <a:srgbClr val="00b05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413000"/>
            <a:ext cx="84358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Comic Sans MS"/>
              </a:rPr>
              <a:t>INTEREST RATE SWAP (I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ccordo in base al quale le due controparti si impegnano a scambiarsi, per un periodo prestabilito, dei flussi finanziari equivalenti agli interessi maturati su un certo capitale di rifer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COUPON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fisso scambiato con un flusso a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333399"/>
                </a:solidFill>
                <a:uFillTx/>
                <a:latin typeface="Comic Sans MS"/>
              </a:rPr>
              <a:t>BASIS SWAPS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un flusso di interessi calcolato in base a un tasso variabile scambiato con un flusso, sempre a tasso variabile, ma parametrato ad un diverso indica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itale nozionale: 10 milioni di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fisso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ts val="1874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sso variabile: Libor (1° scambio: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ts val="1874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F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E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NETTIN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Connettore 2 3"/>
          <p:cNvCxnSpPr/>
          <p:nvPr/>
        </p:nvCxnSpPr>
        <p:spPr>
          <a:xfrm>
            <a:off x="2484000" y="3428640"/>
            <a:ext cx="33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Connettore 2 6"/>
          <p:cNvCxnSpPr/>
          <p:nvPr/>
        </p:nvCxnSpPr>
        <p:spPr>
          <a:xfrm flipH="1">
            <a:off x="2410560" y="3789000"/>
            <a:ext cx="3313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CURRENCY SWAPS</a:t>
            </a:r>
            <a:r>
              <a:rPr b="0" lang="it-IT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cambio di flussi di cassa espressi in due valute div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A COSA SERVONO GLI SW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ttimizza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i costi di finanziamento o il rendimento di un investimento (v. esemp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o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l’esposizione al rischio di oscillazione dei tassi d’interesse o di camb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prir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posizioni speculative al rialzo o al ribasso nel mercato dei tassi d’interesse o dei camb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EMP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sideriamo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e imprese, A e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nteressate ad ottenere un </a:t>
            </a: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finanziamento di 10 milioni di eu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elevato rating, finanziamento tasso varia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mpresa 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ridotto merito creditizio, finanziamento a tasso fi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ndizioni di mercat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999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99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4365720"/>
          <a:ext cx="8088480" cy="2232000"/>
        </p:xfrm>
        <a:graphic>
          <a:graphicData uri="http://schemas.openxmlformats.org/drawingml/2006/table">
            <a:tbl>
              <a:tblPr/>
              <a:tblGrid>
                <a:gridCol w="2695680"/>
                <a:gridCol w="2697120"/>
                <a:gridCol w="2695680"/>
              </a:tblGrid>
              <a:tr h="68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del credito bancario a bre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rcato obbligazion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173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 5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15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resa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or +150 BP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BP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le due imprese godono d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migliori condizioni relative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l settore che non intere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n un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wap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otrebber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migliorare le proprie condizioni di finanziamento nel settore che meglio soddisfa le loro esig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b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c00000"/>
                </a:solidFill>
                <a:latin typeface="Comic Sans MS"/>
              </a:rPr>
              <a:t>IMPRESA A                          IMPRESA 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,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9%                                                    Libor+15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ESTITORI                                BANCA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c00000"/>
                </a:solidFill>
                <a:latin typeface="Comic Sans MS"/>
              </a:rPr>
              <a:t>A= Libor-25                                          B=9,25+1,5=10,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80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Connettore 2 4"/>
          <p:cNvCxnSpPr/>
          <p:nvPr/>
        </p:nvCxnSpPr>
        <p:spPr>
          <a:xfrm>
            <a:off x="3276720" y="342864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" name="Connettore 2 6"/>
          <p:cNvCxnSpPr/>
          <p:nvPr/>
        </p:nvCxnSpPr>
        <p:spPr>
          <a:xfrm flipH="1">
            <a:off x="3276360" y="3789000"/>
            <a:ext cx="2736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Connettore 2 9"/>
          <p:cNvCxnSpPr/>
          <p:nvPr/>
        </p:nvCxnSpPr>
        <p:spPr>
          <a:xfrm>
            <a:off x="226800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Connettore 2 11"/>
          <p:cNvCxnSpPr/>
          <p:nvPr/>
        </p:nvCxnSpPr>
        <p:spPr>
          <a:xfrm>
            <a:off x="6803640" y="3933360"/>
            <a:ext cx="1080" cy="115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2:41:20Z</dcterms:created>
  <dc:creator>Patrizia Pia</dc:creator>
  <dc:description/>
  <dc:language>en-US</dc:language>
  <cp:lastModifiedBy>Damilano</cp:lastModifiedBy>
  <cp:lastPrinted>2012-11-08T15:14:32Z</cp:lastPrinted>
  <dcterms:modified xsi:type="dcterms:W3CDTF">2012-11-27T13:17:57Z</dcterms:modified>
  <cp:revision>20</cp:revision>
  <dc:subject/>
  <dc:title>Diapositiva 1</dc:title>
</cp:coreProperties>
</file>