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9C18-BE99-4CB6-82ED-6D0131B46B7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484D-AE6A-4F4E-88D3-6DD311FB32D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610E-FB19-4B84-8652-B7557DB3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C465-EA2C-4427-9E78-36291370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50A3-0427-463F-9BD8-90041F0A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6E1A-ED9D-4195-A57E-CF371DD4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1B0D-2C9F-4318-9F11-F59BC6D5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5A5-F066-4DAF-BBD6-E4A4D98B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E801-96EB-4F67-80DA-6462E106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1E63-DF7C-4441-8964-1F7B53E0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5A5A-F55E-45F9-8095-573EAE6D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4DD7-A248-45D1-A0CF-EBDB00EA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468C-D2E2-4D34-B2BB-F71E2ADD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8940-545B-4248-9C1B-0E04A2FE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CCC3-D3E0-4D2A-9A9B-64B91FBC7E1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"/>
              </a:rPr>
              <a:t>I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VERAGE CERTIFIC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orporano livello di rischio più elevato e permettono di partecipare in modo amplificato all’andamento del sotto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rata minore: 1-2 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cadenza si comportano come normali opzioni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l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a cessano di esistere e vengono liquidati anticipatamente se il sottostante tocca la barriera o lo stop loss in qualunque momento durante la vita del certif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empio di leverage certificate “bull”: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trike 16.500; barriera 16.890; multiplo 0,0001; Prezzo di mercato 0,352€; prezzo sottostante (valore Indice) 19.705; scadenza 2 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1. L’indice tocca la barriera prima della sca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certificato cessa di esistere e viene liquidato al prezzo di stop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zzo minimo toccato 16.750 liquidato 0,025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zzo minimo toccato 16.350 liquida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362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2. L’indice sottostante non tocca il livello barri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l’indice vale 21.350 punti: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21.350 – 16.500) x 0,0001 = 0,48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remento indice 8,3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remento certificato 37,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l’indice vale 18.525 pun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18.525 – 16.500) x 0,0001 = 0,202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duzione indice del 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duzione certificato del 42,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4284720" y="3933720"/>
            <a:ext cx="4535280" cy="863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284720" y="2852640"/>
            <a:ext cx="3311640" cy="5050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284720" y="1844640"/>
            <a:ext cx="3743280" cy="432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0099"/>
                </a:solidFill>
                <a:latin typeface="Comic Sans MS"/>
              </a:rPr>
              <a:t>I CERTIF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trumenti derivati cartolarizz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non 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INVESTMENT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CERTIFICATES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condiziona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99"/>
                </a:solidFill>
                <a:latin typeface="Comic Sans MS"/>
              </a:rPr>
              <a:t>LE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99"/>
                </a:solidFill>
                <a:latin typeface="Comic Sans MS"/>
              </a:rPr>
              <a:t>CERTIF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V="1">
            <a:off x="3419640" y="2205000"/>
            <a:ext cx="720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3419640" y="30686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3419640" y="3429000"/>
            <a:ext cx="64764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99"/>
                </a:solidFill>
                <a:latin typeface="Comic Sans MS"/>
              </a:rPr>
              <a:t>MOLTEPLICI SOTTOSTA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INVESTMENT CERTIFICATES tipo BENCH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rata compresa tra 2 e 5 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orpora opzione call con strike uguale a zero (sempre deep-in-the-mon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nsibilità nulla o comunque molto ridotta rispetto al tempo mancante alla scadenza e alla volatilità del sottostante; minori difficoltà a “prezzare” i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Comic Sans MS"/>
              </a:rPr>
              <a:t>Profilo rischio/rendimento del Certificate Bench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vestment Certificate su FTSE/MIB: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ultiplo 0,0001; prezzo di mercato 2,405€; Valore indice 27.333; vita residua 3 an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 VALUTARE L’OPPORTUNITA’ DI INVESTIMENT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olare lo sconto del certific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frontare entità sconto con tasso annuale divide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,4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onto % = 1 -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x 100 = 1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7.333 x 0,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onto annualizzato (1 + 0,12)</a:t>
            </a:r>
            <a:r>
              <a:rPr b="1" lang="it-IT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⅓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1 = 3,8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a scadenza l’indice FTSE/MIB vale 29.5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’importo liquidato: 29520 x 0,0001 = 2,952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ndimento di periodo: 22,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3276720" y="2276640"/>
            <a:ext cx="26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99"/>
                </a:solidFill>
                <a:latin typeface="Comic Sans MS"/>
              </a:rPr>
              <a:t>A CAPITALE PROTE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eguono l’andamento di un sottotante ma viene fissato un livello minimo di riborso fin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Struttu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: acquisto di call con strike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cquisto di put con strike = live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di prote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5:19:37Z</dcterms:created>
  <dc:creator>Patrizia Pia</dc:creator>
  <dc:description/>
  <dc:language>en-US</dc:language>
  <cp:lastModifiedBy>Damilano</cp:lastModifiedBy>
  <cp:lastPrinted>2012-05-03T09:16:04Z</cp:lastPrinted>
  <dcterms:modified xsi:type="dcterms:W3CDTF">2012-05-03T12:02:52Z</dcterms:modified>
  <cp:revision>5</cp:revision>
  <dc:subject/>
  <dc:title>Diapositiva 1</dc:title>
</cp:coreProperties>
</file>