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553-DA12-438E-92F0-11439D6F1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B52A-5731-41A2-80CB-B3E64519D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6BB4-4705-4C54-B3B9-B266D0B69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BFE2-B33A-40A8-9BDF-A616DE2F8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878-94B6-44CA-9ADF-8ECCFECF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B64B-D24E-4877-9F54-E4003405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E911-DB8D-4C3A-B57B-694C8984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7C21-4310-4A4C-ADA9-CECFE841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6630-0B16-4E1B-A394-172BEF0A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E812-6243-4E00-B8A5-B8E2E7DA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35FC-3C49-412C-9CA2-417DE3A7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0F25-0DC2-48E9-9191-AAF2FA4A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0FB7-2ACF-4C73-8E1E-FE499C0842B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Comic Sans MS"/>
              </a:rPr>
              <a:t>LA VALUTAZIONE DEI TIT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O MIGLI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8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ASSI INATT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EZZO è funzione di 2 fattori principal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TA RESID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IVELLO E FREQUANZA CED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E NON E’ POSSI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STABILIRE DELLE PRIORITA’      </a:t>
            </a: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763640" y="1773360"/>
            <a:ext cx="0" cy="43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>
            <a:off x="5508720" y="5229360"/>
            <a:ext cx="431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6"/>
          <p:cNvSpPr/>
          <p:nvPr/>
        </p:nvSpPr>
        <p:spPr>
          <a:xfrm>
            <a:off x="1476360" y="2924280"/>
            <a:ext cx="142920" cy="1224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Comic Sans MS"/>
              </a:rPr>
              <a:t>DU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DEFINI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Media aritmetica delle scadenze dei flussi di un titolo, dove ogni scadenza viene ponderata in base al rapporto fra valore attuale del flusso in maturazione a quella scadenza e prezzo del tit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6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UTILIZZI PRATICI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RADUATORIA DI RISCH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LEZIONE DEI TITOLI IN BASE AL RAPPORTO TRES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TIMA DEL GRADO DI SENSIBILITA’ DEL PREZZO DI UN TITOLO (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DURATION MODIFICAT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LA VALUTAZIONE DI UN INVESTIMENTO AZIO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92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CERTEZ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IMA DEL RENDIMENTO DI UNA AZION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vidend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ce/E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ce/Cash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Book to Marke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8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52280"/>
            <a:ext cx="77724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O DI UN INVESTIMENTO IN AZION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SPECIFICO o NON SISTEMATICO (non correlato fra imprese, diversifica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CHIO SISTEMATICO O DI MERCATO (correlato fra imprese, non diversificabi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09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6732720" y="4869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ff0066"/>
                </a:solidFill>
                <a:latin typeface="Comic Sans MS"/>
              </a:rPr>
              <a:t>LA VALUTAZIONE DEI TIT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ello che rende di più, a parità di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Quello meno rischioso, a parità di rend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HE COS’E’ IL RENDI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sprime il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ultato econo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un’operazione finanziaria (misura la redditività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Per convenzione viene espresso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n termini percentuali su base an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E’ funzione dell’intero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“profilo finanziario”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ell’ope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HE COSA SI INTENDE PER RISCHI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L’impossibilità di prevedere con esattezza il risultato economic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di una determinata operaz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 FINANZIA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RISCHI P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COME SI CALCOLA IL RENDIMENTO DI UN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I CON PROFILO FINANZIARIO SEMPLICE (ZC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ITOLI CON PROFILO FINANZIARIO COMPLESSO (CON CEDO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ZERO COUPON B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[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(M/C) - 1)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] x 1/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a  M = C + I  con I = 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 = C(1+i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-240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r>
              <a:rPr b="1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 (M/C)</a:t>
            </a:r>
            <a:r>
              <a:rPr b="1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1/t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– 1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a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an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C + I  con I = C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ann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+I  con I 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    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-1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+I  con I=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-1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x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M</a:t>
            </a: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= C(1+i)</a:t>
            </a:r>
            <a:r>
              <a:rPr b="0" lang="it-IT" sz="32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0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omic Sans MS"/>
              </a:rPr>
              <a:t>TITOLO CON CE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          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FC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RE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PA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tq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= ---------- + ---------- +……+ --------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1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2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     (1+tres)</a:t>
            </a:r>
            <a:r>
              <a:rPr b="0" lang="it-IT" sz="2400" spc="-1" strike="noStrike" baseline="30000">
                <a:solidFill>
                  <a:srgbClr val="000000"/>
                </a:solidFill>
                <a:latin typeface="Comic Sans MS"/>
                <a:ea typeface="Arial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ORSO SE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baseline="-25000">
                <a:solidFill>
                  <a:srgbClr val="000000"/>
                </a:solidFill>
                <a:latin typeface="Comic Sans MS"/>
                <a:ea typeface="Arial"/>
              </a:rPr>
              <a:t>CORSO TEL QUEL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Comic Sans MS"/>
              </a:rPr>
              <a:t>DIVERSE TIPOLOGIE DI RISCHIO DI UN INVESTIMENTO OBBLIGAZIO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19240"/>
            <a:ext cx="8229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credito o emitt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liquidità (naturale e/o artifici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infl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Rischio di tasso di inter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cc"/>
                </a:solidFill>
                <a:latin typeface="Comic Sans MS"/>
              </a:rPr>
              <a:t>RISCHIO DI INTERES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FATTORI DI RISCH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scostamento tra rendimento effettivo ex post e rendimento effettivo ex a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SCHIO REINVEST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RISCHIO PREZ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TASSI INATT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"/>
          <p:cNvSpPr/>
          <p:nvPr/>
        </p:nvSpPr>
        <p:spPr>
          <a:xfrm flipV="1">
            <a:off x="4067280" y="4508280"/>
            <a:ext cx="43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4067280" y="4869000"/>
            <a:ext cx="431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0:44:31Z</dcterms:created>
  <dc:creator>Marina Damilano</dc:creator>
  <dc:description/>
  <dc:language>en-US</dc:language>
  <cp:lastModifiedBy>Ute Formazione Banco Di Napoli</cp:lastModifiedBy>
  <cp:lastPrinted>2012-11-21T08:40:27Z</cp:lastPrinted>
  <dcterms:modified xsi:type="dcterms:W3CDTF">2012-11-23T09:30:06Z</dcterms:modified>
  <cp:revision>11</cp:revision>
  <dc:subject/>
  <dc:title>LA VALUTAZIONE DEI TITOLI</dc:title>
</cp:coreProperties>
</file>