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B680-94F7-4C5F-9878-EA0CAB3B38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C7861-E357-4EDC-ACAA-07F26F4A33D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D58E-64D8-4BC3-B128-CD9B1F0EE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947E-69FD-4904-9000-8E64B156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4B0-597C-4C05-8EFB-591967E6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948-3CF9-4A3D-889F-ACEBA644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BFE5-4153-4FC6-AB11-DEB92214B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5261-0537-4190-A6B1-45580C128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398-4992-45FE-B181-CC3A9630A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84E4-053A-43C2-A097-108E5BD4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4C10-70A6-4374-9A71-C706A945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220-C26A-4E1D-BBC6-32924AD1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25E-5446-4C3A-B0FE-46B34FD58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CAA-4214-4FE6-A18E-D9ADD0BB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E807-B84B-4C74-A4C3-4E381276820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LE OBBLIGAZIONI STRUTT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FLOATER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dicizzazione inversa (con eventuale “amplificazion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 PIU’ INTEREST RATE SWAP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investitore paga variabile e riceve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Per evitare cedole nega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lteriore elemento di struttur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. OPZIONE CAP SUL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IXED REVERSE FLOATER: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dem ma vendita IRS con partenza diffe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/>
          <p:cNvSpPr/>
          <p:nvPr/>
        </p:nvSpPr>
        <p:spPr>
          <a:xfrm rot="5400000">
            <a:off x="1625040" y="199368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XCHANGEABLE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“trasformabi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PLAIN VANILLA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tasso fi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SWAPTION 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he conferisce all’emittente la facoltà di entrare in un contratto interest rate swap a condizioni prede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900000" y="277956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DERIVATI AZION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46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TRAIGHT BOND / ZERO COUPON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OPZIONI CALL / PUT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singole 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indici di bor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su panieri di fo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BBLIGAZ. CON VALORE DI RIMB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QUITY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EX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UND LIN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OBBLIGAZIONI REVERSE CONVERTIBLE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5076720" y="2131920"/>
            <a:ext cx="216000" cy="1152720"/>
          </a:xfrm>
          <a:custGeom>
            <a:avLst/>
            <a:gdLst>
              <a:gd name="textAreaLeft" fmla="*/ 63360 w 216000"/>
              <a:gd name="textAreaRight" fmla="*/ 216360 w 216000"/>
              <a:gd name="textAreaTop" fmla="*/ 47880 h 1152720"/>
              <a:gd name="textAreaBottom" fmla="*/ 1104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EQUITY/INDEX/FUND LINK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lore di rimborso indicizza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minimo garantito + premio di rimborso indicizz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QUITY LIN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CALL O PUT SU UN’AZIONE DI RIFERIMENTO CON SCADENZA PARI A QUELLA DELL’EMISS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all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l’investitore può approfittare di un rialzo; se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punta su un ribasso dell’azione di riferi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/>
          <p:cNvSpPr/>
          <p:nvPr/>
        </p:nvSpPr>
        <p:spPr>
          <a:xfrm>
            <a:off x="828720" y="342900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ovente uso di </a:t>
            </a:r>
            <a:r>
              <a:rPr b="1" lang="en-GB" sz="2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OPZIONI ASIATICHE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l cui payoff dipende da una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media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ei valori registrati nel corso di un certo periodo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tempo (MINORE VOLATILITA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"/>
          <p:cNvSpPr/>
          <p:nvPr/>
        </p:nvSpPr>
        <p:spPr>
          <a:xfrm rot="5400000">
            <a:off x="2057040" y="1839960"/>
            <a:ext cx="493560" cy="360360"/>
          </a:xfrm>
          <a:custGeom>
            <a:avLst/>
            <a:gdLst>
              <a:gd name="textAreaLeft" fmla="*/ 0 w 493560"/>
              <a:gd name="textAreaRight" fmla="*/ 423000 w 49356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REVERSE CONVERTI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l rimborso può avvenire, anziché in forma monetaria, attraverso la consegna di un numero prestabilito di 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NO VERE OBBLIG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. (STRAIGHT BOND O ZC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DI 1 O PIU’ OPZIONI PUT ALL’EMITT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guadagno limitato a fronte di perdita potenzialmente illimit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826920" y="4076640"/>
            <a:ext cx="287640" cy="504720"/>
          </a:xfrm>
          <a:custGeom>
            <a:avLst/>
            <a:gdLst>
              <a:gd name="textAreaLeft" fmla="*/ 38520 w 287640"/>
              <a:gd name="textAreaRight" fmla="*/ 249120 w 28764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99"/>
                </a:solidFill>
                <a:latin typeface="Comic Sans MS"/>
                <a:ea typeface="Times New Roman"/>
              </a:rPr>
              <a:t>PER MITIGARE IL RISCH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PZIONI PUT DI TIPO “KNOCK-I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PZIONI ESOTICH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, ch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si attivano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olo al raggiungimento di determin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barrie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di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 KNOCK-I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ritto di vendere solo nel caso in cui la quotazione &lt; soglia prestabilita (&lt; strike pri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3"/>
          <p:cNvSpPr/>
          <p:nvPr/>
        </p:nvSpPr>
        <p:spPr>
          <a:xfrm rot="5400000">
            <a:off x="1983600" y="2570040"/>
            <a:ext cx="493920" cy="360360"/>
          </a:xfrm>
          <a:custGeom>
            <a:avLst/>
            <a:gdLst>
              <a:gd name="textAreaLeft" fmla="*/ 0 w 493920"/>
              <a:gd name="textAreaRight" fmla="*/ 423360 w 493920"/>
              <a:gd name="textAreaTop" fmla="*/ 24048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con CREDIT DERIVA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280360" cy="4464000"/>
          </a:xfrm>
          <a:prstGeom prst="rect">
            <a:avLst/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TITOLO DI DEB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REDIT DERIV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(CREDIT DEFAULT SWA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          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REDIT LINKED NOTES (CL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ccia in giù 1"/>
          <p:cNvSpPr/>
          <p:nvPr/>
        </p:nvSpPr>
        <p:spPr>
          <a:xfrm>
            <a:off x="4500720" y="3716280"/>
            <a:ext cx="142560" cy="792360"/>
          </a:xfrm>
          <a:prstGeom prst="downArrow">
            <a:avLst>
              <a:gd name="adj1" fmla="val 50000"/>
              <a:gd name="adj2" fmla="val 50126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5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REDIT DEFAULT SWAP</a:t>
            </a: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- DEFINIZIONE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025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o mediante il quale una 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BUY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paga una commissione periodica, generalmente espressa in punti base fissi sull’ammontare nozionale, contro un pagamento da effettuarsi dalla controparte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 in caso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REDIT EVEN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di una terza parte (il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OGGETTO DI RIFERIMEN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OBBLIGAZIONI STRUTTURATE</a:t>
            </a:r>
            <a:br>
              <a:rPr sz="3600"/>
            </a:b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toli che nascono come risultato dell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fusion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fra un’obbligazione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plain vanilla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oppure un titolo </a:t>
            </a:r>
            <a:r>
              <a:rPr b="1" i="1" lang="it-IT" sz="3200" spc="-1" strike="noStrike">
                <a:solidFill>
                  <a:srgbClr val="003399"/>
                </a:solidFill>
                <a:latin typeface="Comic Sans MS"/>
              </a:rPr>
              <a:t>zero-coupon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e uno o più strumenti derivati, frequentemente appartenenti alla famiglia delle opzion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3399"/>
                </a:solidFill>
                <a:latin typeface="Comic Sans MS"/>
              </a:rPr>
              <a:t>CREDIT LINKED NO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itoli il cui acquisto comporta, per l’investitore, l’assunzione del ruolo di </a:t>
            </a:r>
            <a:r>
              <a:rPr b="1" i="1" lang="it-IT" sz="2400" spc="-1" strike="noStrike">
                <a:solidFill>
                  <a:srgbClr val="000000"/>
                </a:solidFill>
                <a:latin typeface="Comic Sans MS"/>
              </a:rPr>
              <a:t>PROTECTION S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RATTERISTI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messe direttamente da una società (finanzia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</a:t>
            </a:r>
            <a:r>
              <a:rPr b="0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ynthetic securiti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41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ute direttamente agli investitori (istituzional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oppio rischio di controparte per l’investi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SP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ccia a destra rientrata 2"/>
          <p:cNvSpPr/>
          <p:nvPr/>
        </p:nvSpPr>
        <p:spPr>
          <a:xfrm>
            <a:off x="971640" y="378936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ccia a destra rientrata 6"/>
          <p:cNvSpPr/>
          <p:nvPr/>
        </p:nvSpPr>
        <p:spPr>
          <a:xfrm>
            <a:off x="971640" y="5516640"/>
            <a:ext cx="287280" cy="144360"/>
          </a:xfrm>
          <a:custGeom>
            <a:avLst/>
            <a:gdLst>
              <a:gd name="textAreaLeft" fmla="*/ 36000 w 287280"/>
              <a:gd name="textAreaRight" fmla="*/ 251280 w 2872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70" y="5400"/>
                </a:lnTo>
                <a:lnTo>
                  <a:pt x="16170" y="0"/>
                </a:lnTo>
                <a:lnTo>
                  <a:pt x="21600" y="10800"/>
                </a:lnTo>
                <a:lnTo>
                  <a:pt x="16170" y="21600"/>
                </a:lnTo>
                <a:lnTo>
                  <a:pt x="16170" y="16200"/>
                </a:lnTo>
                <a:lnTo>
                  <a:pt x="0" y="16200"/>
                </a:lnTo>
                <a:lnTo>
                  <a:pt x="271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PRINCIPALI TIPOLOG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SUI TASSI DI INTERES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pped, floored e collar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floater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xchangea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DERIVATI DI NATURA AZION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quity, index, fund linke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verse convertible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CREDIT DERIV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redit linked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99"/>
                </a:solidFill>
                <a:uFillTx/>
                <a:latin typeface="Comic Sans MS"/>
              </a:rPr>
              <a:t>CON SPECIAL PURPOSE VEH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t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…</a:t>
            </a:r>
            <a:r>
              <a:rPr b="1" lang="it-IT" sz="3200" spc="-1" strike="noStrike">
                <a:solidFill>
                  <a:srgbClr val="ce30a5"/>
                </a:solidFill>
                <a:latin typeface="Comic Sans MS"/>
              </a:rPr>
              <a:t>con DERIVATI SUI TASSI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80360" cy="4321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OBBLIGAZIONE PLAIN VAN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1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apped, floored e collared; exchange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2)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IRS</a:t>
            </a:r>
            <a:r>
              <a:rPr b="0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reverse floater e fixed reverse flo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4"/>
          <p:cNvSpPr/>
          <p:nvPr/>
        </p:nvSpPr>
        <p:spPr>
          <a:xfrm>
            <a:off x="1547640" y="3357720"/>
            <a:ext cx="71640" cy="19429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8036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APPED/FLOORED/COLLARED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mitazioni alla variabilità della ced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 u="sng">
                <a:solidFill>
                  <a:srgbClr val="003399"/>
                </a:solidFill>
                <a:uFillTx/>
                <a:latin typeface="Comic Sans MS"/>
                <a:ea typeface="Times New Roman"/>
              </a:rPr>
              <a:t>Strutturazione</a:t>
            </a:r>
            <a:r>
              <a:rPr b="1" i="1" lang="it-IT" sz="2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APP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4"/>
          <p:cNvSpPr/>
          <p:nvPr/>
        </p:nvSpPr>
        <p:spPr>
          <a:xfrm>
            <a:off x="755640" y="2492280"/>
            <a:ext cx="287280" cy="50508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5080"/>
              <a:gd name="textAreaBottom" fmla="*/ 366120 h 50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C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UN TASSO CORRENTE DI MERCATO E LO STRIKE RATE PREDEFINI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EL CONTRATTO,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TETTO MAX COSTO DI UN PRES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FLOO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4"/>
          <p:cNvSpPr/>
          <p:nvPr/>
        </p:nvSpPr>
        <p:spPr>
          <a:xfrm>
            <a:off x="684360" y="105264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OPZIONE FLOOR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3744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MPRATORE ACQUISISCE IL DIRITTO DI RICEVERE, ALLE VARIE SCADENZE PRESTABILITE,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EVENTUALE DIFFERENZA POSITIVA TRA LO STRIKE RATE E UN TASSO CORRENTE DI MERCAT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U UN CERTO CAPITALE DI RIFER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PAVIMENTO MIN . RENDIMENTO DI UN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5"/>
          <p:cNvSpPr/>
          <p:nvPr/>
        </p:nvSpPr>
        <p:spPr>
          <a:xfrm>
            <a:off x="1476360" y="4724280"/>
            <a:ext cx="431640" cy="289080"/>
          </a:xfrm>
          <a:custGeom>
            <a:avLst/>
            <a:gdLst>
              <a:gd name="textAreaLeft" fmla="*/ 67320 w 431640"/>
              <a:gd name="textAreaRight" fmla="*/ 378000 w 4316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000" y="62028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COLLARED BO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BBLIGAZIONE A TASSO VARI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NDITA 1 OPZIONE CAP 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gt; strike rate, l’investitore paga all’emittente la differenza tra tasso corrente e strike r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CQUISTO 1 OPZIONE FLOOR  DALL’EMITTENTE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se il tasso di riferimento &lt; strike rate, l’investitore riceve dall’emittente la differenza tra strike rate e tasso corr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Times New Roman"/>
              </a:rPr>
              <a:t>	</a:t>
            </a:r>
            <a:r>
              <a:rPr b="0" i="1" lang="en-GB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Esempio 6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"/>
          <p:cNvSpPr/>
          <p:nvPr/>
        </p:nvSpPr>
        <p:spPr>
          <a:xfrm>
            <a:off x="684360" y="763560"/>
            <a:ext cx="287280" cy="504720"/>
          </a:xfrm>
          <a:custGeom>
            <a:avLst/>
            <a:gdLst>
              <a:gd name="textAreaLeft" fmla="*/ 38520 w 287280"/>
              <a:gd name="textAreaRight" fmla="*/ 248760 w 287280"/>
              <a:gd name="textAreaTop" fmla="*/ 88200 h 504720"/>
              <a:gd name="textAreaBottom" fmla="*/ 36612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14:16:44Z</dcterms:created>
  <dc:creator>Marina Damilano</dc:creator>
  <dc:description/>
  <dc:language>en-US</dc:language>
  <cp:lastModifiedBy>docenti</cp:lastModifiedBy>
  <dcterms:modified xsi:type="dcterms:W3CDTF">2012-05-05T11:58:49Z</dcterms:modified>
  <cp:revision>24</cp:revision>
  <dc:subject/>
  <dc:title>Diapositiva 1</dc:title>
</cp:coreProperties>
</file>