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F4D8-A351-448A-8291-7559AFA315C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C6F5-6744-4E72-912E-5CB22A6C63B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AFC8-3E32-4F93-AEBE-B5C5B57E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080-8E76-4D8B-88C7-5CC07732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BB20-8316-42FD-8881-0F7D955E6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ABC0-3DC9-4E80-964D-C53A3BBFA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004-7525-4D4D-B574-42A65F9D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0B20-6B73-4E42-8CD2-E984AFD8D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C0B8-F1C0-49E7-B0F0-64A9CCBF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F614-42D5-4BA2-A70C-4FAFA7EA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7561-4BBB-43A9-91E8-062352E0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1B0-180B-4757-916E-287CCE3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A4F7-5DE8-41CA-A19A-1F08F86F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CBDA-8167-4849-B025-296F07F1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A797-551F-493F-B66E-38C8EC510C9D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735120" y="4238280"/>
            <a:ext cx="767376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AA_1a_LOGO_NUOVO_2008"/>
          <p:cNvPicPr/>
          <p:nvPr/>
        </p:nvPicPr>
        <p:blipFill>
          <a:blip r:embed="rId1"/>
          <a:stretch/>
        </p:blipFill>
        <p:spPr>
          <a:xfrm>
            <a:off x="436680" y="358920"/>
            <a:ext cx="1341360" cy="101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Univerità"/>
          <p:cNvPicPr/>
          <p:nvPr/>
        </p:nvPicPr>
        <p:blipFill>
          <a:blip r:embed="rId2"/>
          <a:stretch/>
        </p:blipFill>
        <p:spPr>
          <a:xfrm>
            <a:off x="7615080" y="320760"/>
            <a:ext cx="1108080" cy="1060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115920" y="2141640"/>
            <a:ext cx="8889840" cy="21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I PRODOTTI E I SERVIZI DI INVESTIMENTO FINANZ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 u="sng">
                <a:solidFill>
                  <a:srgbClr val="0000ff"/>
                </a:solidFill>
                <a:uFillTx/>
                <a:latin typeface="Arial"/>
              </a:rPr>
              <a:t>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  <a:ea typeface="Arial"/>
              </a:rPr>
              <a:t>Prof.ssa Marina Damilano -  Prof.ssa Patrizia 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VERAGE CERTIFIC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no livello di rischio più elevato e permettono di partecipare in modo amplificato all’andamento del sott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minore: 1-2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scadenza si comportano come normali opzioni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l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u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a cessano di esistere e vengono liquidati anticipatamente se il sottostante tocca la barriera o lo stop loss in qualunque momento durante la vita del certif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mpio di leverage certificate “bull”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Strike 16.500; barriera 16.890; multiplo 0,0001; Prezzo di mercato 0,352€; prezzo sottostante (valore Indice) 19.705; scadenza 2 me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1. L’indice tocca la barriera prima della scad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certificato cessa di esistere e viene liquidato al prezzo di stop lo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750 liquidato 0,025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zzo minimo toccato 16.350 liquidato 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362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2. L’indice sottostante non tocca il livello barri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21.350 punti: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21.350 – 16.500) x 0,0001 = 0,48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indice 8,3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remento certificato 37,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l’indice vale 18.525 pun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18.525 – 16.500) x 0,0001 = 0,2025 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indice del 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iduzione certificato del 42,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4284720" y="3933720"/>
            <a:ext cx="45352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284720" y="2852640"/>
            <a:ext cx="3311640" cy="5050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4284720" y="1844640"/>
            <a:ext cx="3743280" cy="432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cc0099"/>
                </a:solidFill>
                <a:latin typeface="Comic Sans MS"/>
              </a:rPr>
              <a:t>I CERTIFIC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trumenti derivati cartolar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non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CERTIFICATES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A capitale condiziona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prot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LE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cc0099"/>
                </a:solidFill>
                <a:latin typeface="Comic Sans MS"/>
              </a:rPr>
              <a:t>CERTIFIC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7"/>
          <p:cNvSpPr/>
          <p:nvPr/>
        </p:nvSpPr>
        <p:spPr>
          <a:xfrm flipV="1">
            <a:off x="3419640" y="2205000"/>
            <a:ext cx="720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>
            <a:off x="3419640" y="30686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9"/>
          <p:cNvSpPr/>
          <p:nvPr/>
        </p:nvSpPr>
        <p:spPr>
          <a:xfrm>
            <a:off x="3419640" y="3429000"/>
            <a:ext cx="64764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MOLTEPLICI SOTTOSTA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8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99"/>
                </a:solidFill>
                <a:latin typeface="Comic Sans MS"/>
              </a:rPr>
              <a:t>INVESTMENT CERTIFICATES tipo BENCHM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rata compresa tra 2 e 5 an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corpora opzione call con strike uguale a zero (sempre deep-in-the-mon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nsibilità nulla o comunque molto ridotta rispetto al tempo mancante alla scadenza e alla volatilità del sottostante; minori difficoltà a “prezzare” i certific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333399"/>
                </a:solidFill>
                <a:latin typeface="Comic Sans MS"/>
              </a:rPr>
              <a:t>Profilo rischio/rendimento del Certificate Bench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vestment Certificate su FTSE/MIB: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Multiplo 0,0001; prezzo di mercato 2,405€; Valore indice 27.333; vita residua 3 an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 VALUTARE L’OPPORTUNITA’ DI INVESTIMENT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alcolare lo sconto del certifica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frontare entità sconto con tasso annuale dividen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,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% = 1 -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x 100 = 1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7.333 x 0,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conto annualizzato (1 + 0,12)</a:t>
            </a:r>
            <a:r>
              <a:rPr b="1" lang="it-IT" sz="2800" spc="-1" strike="noStrike" baseline="30000">
                <a:solidFill>
                  <a:srgbClr val="000000"/>
                </a:solidFill>
                <a:latin typeface="Comic Sans MS"/>
                <a:ea typeface="Times New Roman"/>
              </a:rPr>
              <a:t>⅓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- 1 = 3,8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 scadenza l’indice FTSE/MIB vale 29.5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’importo liquidato: 29520 x 0,0001 = 2,952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ndimento di periodo: 22,7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4"/>
          <p:cNvSpPr/>
          <p:nvPr/>
        </p:nvSpPr>
        <p:spPr>
          <a:xfrm>
            <a:off x="3276720" y="227664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99"/>
                </a:solidFill>
                <a:latin typeface="Comic Sans MS"/>
              </a:rPr>
              <a:t>A CAPITALE PROTET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Seguono l’andamento di un sottotante ma viene fissato un livello minimo di riborso fina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Struttur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: acquisto di call con strike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cquisto di put con strike = live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di prote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15:19:37Z</dcterms:created>
  <dc:creator>Patrizia Pia</dc:creator>
  <dc:description/>
  <dc:language>en-US</dc:language>
  <cp:lastModifiedBy>Damilano</cp:lastModifiedBy>
  <cp:lastPrinted>2012-05-03T09:16:04Z</cp:lastPrinted>
  <dcterms:modified xsi:type="dcterms:W3CDTF">2012-05-03T12:02:52Z</dcterms:modified>
  <cp:revision>5</cp:revision>
  <dc:subject/>
  <dc:title>Diapositiva 1</dc:title>
</cp:coreProperties>
</file>