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2BB-86B9-4753-A4FC-9A913D5C7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257-834D-4546-8700-17AECC79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BBD-D7C1-4CEF-8A41-EA9E2A5F6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331F-3D72-4BA7-AB11-2EF55488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793-4E9A-4646-9618-E00899DD0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507-5BE4-4843-86EF-72014AD52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408-9568-404F-A45E-3A72806C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520B-BBF3-4521-87D9-7CD8DD1C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60E9-5C69-4B88-9745-682E090B0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491-8509-40AF-AC18-9AAD0BDD1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AB3C-A3C9-4DE9-BA23-33732791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8E60-F301-4AC9-AA21-F970F4B7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D1C1-EE12-414C-9996-2F95B210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6640" cy="10602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Arial"/>
              </a:rPr>
              <a:t>I DERIV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42160" cy="468144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CHE COSA S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BASATI SU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SOTTOSTANTI 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ATTIVITA’ FINANZIARIE (o REA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TRE PRINCIPALI</a:t>
            </a: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 CATEGORIE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U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W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A CHE COSA SERVONO</a:t>
            </a: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TRUMENTI PER LA 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GESTIONE DEL RISCHI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PECULAZIONE (TRAD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e30a5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6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PERTURA (HEDG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liminazione totale o parziale del rischio di variazione dei prezzi sulle posizioni detenute nel mercato a pro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PECULAZIONE (TRAD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icerca del rischio nella speranza di massimizzare i profi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BITR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fruttamento di temporanee inefficienze del mercato nel suo compl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e30a5"/>
                </a:solidFill>
                <a:latin typeface="Comic Sans MS"/>
              </a:rPr>
              <a:t>GLI STRUMENTI DERIV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2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399"/>
                </a:solidFill>
                <a:uFillTx/>
                <a:latin typeface="Comic Sans MS"/>
              </a:rPr>
              <a:t>NASCITA E SVILUPPO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Il mercato dei derivati, nato nei primi anni ’70, si è enormemente sviluppato nel corso degli ultimi dece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I REGOLAMEN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RCATO “OTC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omic Sans MS"/>
              </a:rPr>
              <a:t>UTILITA’ DEI DERIVATI PER UN EFFICIENTE FUNZIONAMENTO DEI MERCATI FINANZIAR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835280" y="4149720"/>
            <a:ext cx="43308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4365720"/>
            <a:ext cx="433080" cy="358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3:27:07Z</dcterms:created>
  <dc:creator>Marina Damilano</dc:creator>
  <dc:description/>
  <dc:language>en-US</dc:language>
  <cp:lastModifiedBy>Marina Damilano</cp:lastModifiedBy>
  <dcterms:modified xsi:type="dcterms:W3CDTF">2012-02-08T14:13:39Z</dcterms:modified>
  <cp:revision>3</cp:revision>
  <dc:subject/>
  <dc:title>Diapositiva 1</dc:title>
</cp:coreProperties>
</file>